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3AE-02D2-46CB-AB4E-A4D36AB6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DA7-E38D-456B-8F31-F259FD5B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6CC-EDA7-467E-80F3-8565DCE6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8D2-EEDF-4BFD-B088-FFDE4666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594-0B15-4D1B-AFF8-A1DC85D8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23B-345A-48E9-8CC8-198A3AD5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1CB-2AEC-4C02-95C0-C29F3061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8B7-B508-49A7-A5D2-37113A1B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88C-9AE2-4356-A6D5-D67CC82E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7DC-01AC-4BA5-952B-A7E1DDBE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3BB-9397-4287-AD73-460B2D2B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6E4-75BE-44B8-AF22-46F6A4D1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8943-F520-433F-87B4-C435361640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13560"/>
            <a:ext cx="449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04920"/>
            <a:ext cx="41148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oratorio CNC / Área corte y grabado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o de apoyo para el trabajo desde software del área gráfica e indust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613560"/>
            <a:ext cx="449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685800"/>
            <a:ext cx="266688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sobre la pestaña VIEW y seleccion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Rul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jo! La coordenada 0,0 no está fijada con respecto a la hoja de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81280" y="685800"/>
            <a:ext cx="5364360" cy="5737320"/>
            <a:chOff x="3581280" y="685800"/>
            <a:chExt cx="5364360" cy="57373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rcRect l="0" t="0" r="15556" b="11476"/>
            <a:stretch/>
          </p:blipFill>
          <p:spPr>
            <a:xfrm>
              <a:off x="3581280" y="695880"/>
              <a:ext cx="5364360" cy="57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0" t="0" r="0" b="4691"/>
            <a:stretch/>
          </p:blipFill>
          <p:spPr>
            <a:xfrm>
              <a:off x="6316200" y="685800"/>
              <a:ext cx="2293920" cy="57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6228000" y="714960"/>
              <a:ext cx="432000" cy="43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28600"/>
            <a:ext cx="3429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en base a medidas preci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762120"/>
            <a:ext cx="2362320" cy="25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fijar la coordenada 0,0 respecto al vértice superior izquierdo de la ho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Pinchar con el mouse el cuadrado blanco donde se intersectan la regla horizontal y la ver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in soltar el botón del mouse, arrastrar hasta intersectar el punto superior izquierdo de la hoja. Y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ora las coordenadas 0,0 están respecto a la ho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39760"/>
            <a:ext cx="3505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en base a medidas preci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5480" y="609480"/>
            <a:ext cx="6095880" cy="5878800"/>
            <a:chOff x="2895480" y="609480"/>
            <a:chExt cx="6095880" cy="58788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0" t="0" r="11111" b="12333"/>
            <a:stretch/>
          </p:blipFill>
          <p:spPr>
            <a:xfrm>
              <a:off x="3185640" y="609480"/>
              <a:ext cx="5805720" cy="58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3084120" y="1244160"/>
              <a:ext cx="40500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895480" y="1335240"/>
              <a:ext cx="641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4132080" y="1810080"/>
              <a:ext cx="40500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17640" y="1716120"/>
              <a:ext cx="640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5800" y="1553040"/>
              <a:ext cx="725760" cy="290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1880" y="304920"/>
            <a:ext cx="2662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crear guías verti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incha con el mouse dentro de la regla vertical y se arrastra el mouse hacia la hoja en el lugar dese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505320" y="609480"/>
            <a:ext cx="5414400" cy="5896080"/>
            <a:chOff x="3505320" y="609480"/>
            <a:chExt cx="5414400" cy="5896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601800" y="609480"/>
              <a:ext cx="531792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rcRect l="0" t="0" r="-735" b="12632"/>
            <a:stretch/>
          </p:blipFill>
          <p:spPr>
            <a:xfrm>
              <a:off x="3505320" y="1554840"/>
              <a:ext cx="350640" cy="49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flipV="1">
              <a:off x="3717360" y="3785400"/>
              <a:ext cx="8323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04920"/>
            <a:ext cx="266688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crear guías horizont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incha con el mouse dentro de la regla horizontal y se arrastra el mouse hacia la hoja en el lugar dese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505320" y="609480"/>
            <a:ext cx="5486400" cy="5896080"/>
            <a:chOff x="3505320" y="609480"/>
            <a:chExt cx="5486400" cy="589608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505320" y="609480"/>
              <a:ext cx="548640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15142" b="10121"/>
            <a:stretch/>
          </p:blipFill>
          <p:spPr>
            <a:xfrm>
              <a:off x="3643920" y="1316160"/>
              <a:ext cx="534780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flipH="1">
              <a:off x="5126760" y="1423440"/>
              <a:ext cx="7164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8200" y="136440"/>
            <a:ext cx="2662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alinear guías con medidas exactas relacionadas a una gril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pestaña 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jar hasta P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en GUIDES &amp; GRI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29000" y="533520"/>
            <a:ext cx="5559480" cy="5981400"/>
            <a:chOff x="3429000" y="533520"/>
            <a:chExt cx="5559480" cy="59814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429000" y="542160"/>
              <a:ext cx="5559480" cy="59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3811320" y="533520"/>
              <a:ext cx="52380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1480" y="152280"/>
            <a:ext cx="33084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editar gr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dad de la grilla: GRIDLINE EVERY: 10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siones: 1 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bién se puede cambiar el color de la grilla y las guí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en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5356440" cy="3324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570120" y="4384800"/>
            <a:ext cx="385452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01480" y="152280"/>
            <a:ext cx="26989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jar has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imantar las guías respecto a la grilla, pinch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AP TO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ebajo de Show G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guías se mueven con la herramienta SELECTION TOOL (la flecha neg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70080" y="3798720"/>
            <a:ext cx="689040" cy="1462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247760" y="4148280"/>
            <a:ext cx="468360" cy="4665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505320" y="609480"/>
            <a:ext cx="5487840" cy="5896080"/>
            <a:chOff x="3505320" y="609480"/>
            <a:chExt cx="5487840" cy="589608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rcRect l="0" t="0" r="14815" b="10844"/>
            <a:stretch/>
          </p:blipFill>
          <p:spPr>
            <a:xfrm>
              <a:off x="3505320" y="609480"/>
              <a:ext cx="548784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"/>
            <a:srcRect l="0" t="0" r="0" b="1497"/>
            <a:stretch/>
          </p:blipFill>
          <p:spPr>
            <a:xfrm>
              <a:off x="6278760" y="619920"/>
              <a:ext cx="2325960" cy="588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6189480" y="5769000"/>
              <a:ext cx="1073520" cy="28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01480" y="152280"/>
            <a:ext cx="2698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r a Imprim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‘Ajustar’, ir a Colocación y pinchar en extremo izquierdo superior para imantar el origen a la coordenada 0,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0625" t="17970" r="20625" b="21093"/>
          <a:stretch/>
        </p:blipFill>
        <p:spPr>
          <a:xfrm>
            <a:off x="3809880" y="838080"/>
            <a:ext cx="4724640" cy="3919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38629" t="39293" r="29155" b="51231"/>
          <a:stretch/>
        </p:blipFill>
        <p:spPr>
          <a:xfrm>
            <a:off x="533520" y="4952880"/>
            <a:ext cx="5562360" cy="13082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9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rchivos desde Rhinoceros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0" r="16250" b="11721"/>
          <a:stretch/>
        </p:blipFill>
        <p:spPr>
          <a:xfrm>
            <a:off x="3962520" y="2209680"/>
            <a:ext cx="5181480" cy="437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80880" y="291960"/>
            <a:ext cx="35053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genera un rectángulo que simule la zona de corte de 609 x 457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ro de ese rectángulo se dibujarán las entidades que se desean grabar o cor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vez realizadas las entidades, el rectángulo y las cotas deben ocultarse para no ser grabadas o cortadas. En su lugar debiera generarse en cada vértice del rectángulo auxiliar, un segmento pequeño y con un color que no sea reconocido como de corte o grabado, o en su defecto, que genere pequeñas marcas en el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04920"/>
            <a:ext cx="601992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tencia Láser: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 45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imensiones planch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año máximo de superficie de corte (largo x ancho):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609x457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amaño recomendado de material a cortar: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600x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tura máxima utilizable: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50mm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(no confundir con profundidad de cor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ateriales OK para corte y grabad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rílico 3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dera balsa 3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r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pel vege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l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puma acús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énero mezclill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ateriales OK para grabado solamen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rcho 2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rmal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ateriales con precaución para c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oma eva 2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gramas empleado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lust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h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eometer’s Sketchp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arámetros general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Ca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ferenciar por capas cada tipo de trabajo (corte vectorial / grabado vectorial / grabado r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2422440"/>
            <a:ext cx="274320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No recomendados para cor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licarbo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or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Formal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artón pied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etales ferro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276120"/>
            <a:ext cx="6248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ideal es dibujar por cap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rojo para corte tipo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azul para grabado tipo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negro para grabado tipo 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6405" r="15001" b="26564"/>
          <a:stretch/>
        </p:blipFill>
        <p:spPr>
          <a:xfrm>
            <a:off x="838080" y="1981080"/>
            <a:ext cx="7391520" cy="39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276120"/>
            <a:ext cx="403884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ciones de im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ambiente de impresión es bastante amigable y brinda variadas alternati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más importante es tener marcad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da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a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de im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 de línea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zo f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343400" y="609480"/>
            <a:ext cx="4647960" cy="5943600"/>
            <a:chOff x="4343400" y="609480"/>
            <a:chExt cx="4647960" cy="59436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0" t="0" r="77503" b="7032"/>
            <a:stretch/>
          </p:blipFill>
          <p:spPr>
            <a:xfrm>
              <a:off x="4343400" y="609480"/>
              <a:ext cx="23184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0" t="36720" r="77503" b="3330"/>
            <a:stretch/>
          </p:blipFill>
          <p:spPr>
            <a:xfrm>
              <a:off x="6783840" y="676800"/>
              <a:ext cx="220752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829640" y="1757520"/>
              <a:ext cx="871200" cy="134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30520" y="2027520"/>
              <a:ext cx="1045800" cy="2023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0520" y="4121640"/>
              <a:ext cx="435600" cy="134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14960" y="4256640"/>
              <a:ext cx="1307160" cy="4050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19440" y="3851280"/>
              <a:ext cx="1307160" cy="5403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304920"/>
            <a:ext cx="556272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eteo pág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figurar el alto y el ancho de la página a las dimensiones máximas del espacio de trabajo de la  cortadora láser, así como la orientación (salvo en Illust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áquina Láser opera mejor en situación 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eteo reg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los programas que permiten ubicar reglas, éstas deben ser configuradas respecto al espacio de trabajo de la máquina Láser, destinando la coordenada 0,0 en la esquina superior izquier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tornos y lle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sistema reconoce los espesores de línea y según ellos ejecuta las órdenes de corte o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a corte d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be emplearse el espesor mínimo que el programa permita. Por ejempl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llustrator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rel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air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hino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razo f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Illustrator, por ejemplo, sobre ese espesor resultará una línea que será reconocida como raster y no como vec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n área ‘llena’ será reconocida como elemento de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Llenados sobre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l sobreponer un área llena sobre otra, la máquina generará el procedimiento según lo que se ve en pantalla para evitar doble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se pretende tapar un trazo vectorizado con un área de color blanco, el programa no tomará en cuenta lo que se ve en pantalla y procederá a cortar o grabar el contorno vectorizado que se encuentra debajo del área lle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tornos sobre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áquina no simplifica la línea si se sobreponen, es decir, pasa por el lugar tantas veces como líneas exist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67057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143000"/>
          <a:ext cx="6095880" cy="22860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ado ra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e vecto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ado vecto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752480" y="1523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175248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981080"/>
            <a:ext cx="152640" cy="1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2096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5146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743200"/>
            <a:ext cx="152640" cy="152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971800"/>
            <a:ext cx="15264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200400"/>
            <a:ext cx="152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505320"/>
            <a:ext cx="670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mágenes deben ser en escala de grises para generar apariencia de volum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049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chivos desde Illu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8120" y="1828800"/>
            <a:ext cx="6095520" cy="4778280"/>
            <a:chOff x="3048120" y="1828800"/>
            <a:chExt cx="6095520" cy="47782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rcRect l="0" t="0" r="20024" b="0"/>
            <a:stretch/>
          </p:blipFill>
          <p:spPr>
            <a:xfrm>
              <a:off x="3358440" y="1828800"/>
              <a:ext cx="5785200" cy="47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rcRect l="0" t="6319" r="1284" b="0"/>
            <a:stretch/>
          </p:blipFill>
          <p:spPr>
            <a:xfrm>
              <a:off x="5072400" y="2130480"/>
              <a:ext cx="1928880" cy="44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rcRect l="0" t="3791" r="0" b="0"/>
            <a:stretch/>
          </p:blipFill>
          <p:spPr>
            <a:xfrm>
              <a:off x="6837840" y="2009520"/>
              <a:ext cx="2305800" cy="45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3349800" y="1888920"/>
              <a:ext cx="505440" cy="3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5856840" y="4157640"/>
              <a:ext cx="527760" cy="3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6"/>
            <a:stretch/>
          </p:blipFill>
          <p:spPr>
            <a:xfrm>
              <a:off x="7242840" y="4035600"/>
              <a:ext cx="7693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7"/>
            <a:stretch/>
          </p:blipFill>
          <p:spPr>
            <a:xfrm>
              <a:off x="7310520" y="4774680"/>
              <a:ext cx="159480" cy="3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171240" y="1949400"/>
              <a:ext cx="2386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4543560"/>
              <a:ext cx="18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12880" y="3916080"/>
              <a:ext cx="237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7800" y="3854520"/>
              <a:ext cx="237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92240" y="5027760"/>
              <a:ext cx="2401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45120" y="3674880"/>
              <a:ext cx="2361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3228840" y="4484520"/>
              <a:ext cx="1951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425520" y="347760"/>
            <a:ext cx="269856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figurar tamaño de ho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Pinchar menú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 Setup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Elegir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Cus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En el ancho tipear 600mm. En la altura tipear 600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La orientación debe ser en sentido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14815" b="15313"/>
          <a:stretch/>
        </p:blipFill>
        <p:spPr>
          <a:xfrm>
            <a:off x="3301920" y="644400"/>
            <a:ext cx="5842080" cy="5908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5520" y="380880"/>
            <a:ext cx="26985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una huella para 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r herramien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Pen Too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hacer segmen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la hoja y sol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ver el mouse y pinchar en otro lugar y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hacer líneas curvas con nod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la hoja y arrastrar el mouse. Luego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otro lugar de la hoja y arrastrar el mouse sin soltar el botón. Luego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ueden alternar segmentos con cur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cerrar la figu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rcar el mouse al punto final (aparecerá un círculo blanco al lado de la herramienta) y solamente pinchar sin arrastr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68360" cy="46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646" b="1273"/>
          <a:stretch/>
        </p:blipFill>
        <p:spPr>
          <a:xfrm>
            <a:off x="3289320" y="644400"/>
            <a:ext cx="5854680" cy="5908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9600" y="159696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97280" y="4711680"/>
            <a:ext cx="892080" cy="33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16360" y="4929120"/>
            <a:ext cx="723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Str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38920" y="2478240"/>
            <a:ext cx="609480" cy="610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242040" y="3111480"/>
            <a:ext cx="1085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Pure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5520" y="328680"/>
            <a:ext cx="277488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la huella para cor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r herramienta ‘Selection Tool’ 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biar color a ro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eccionar la huella pinchando sobre ella. Quedará de color azul el contor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ificar que el rectángulo de STROKE esté sobre el rectángulo 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 la paleta COLOR seleccionar el PUR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se desea grabar una huella (o sea, que no alcance a traspasar todo el espesor del material), solamente se debe cambiar el color de rojo a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zu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grabado tipo vectori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 a col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gro (grabado tipo rasteriz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grabar el interior de una figura, se debe pinchar el cuadradito FILL y asignarle el color negro en la pal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5029200"/>
            <a:ext cx="5335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F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609480" cy="61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4815" b="18594"/>
          <a:stretch/>
        </p:blipFill>
        <p:spPr>
          <a:xfrm>
            <a:off x="3301920" y="644400"/>
            <a:ext cx="5842080" cy="5680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01920" y="655560"/>
            <a:ext cx="3483000" cy="5535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14675" b="0"/>
          <a:stretch/>
        </p:blipFill>
        <p:spPr>
          <a:xfrm>
            <a:off x="3290760" y="655560"/>
            <a:ext cx="5853240" cy="5535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819760" y="993600"/>
            <a:ext cx="976320" cy="466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1480" y="330120"/>
            <a:ext cx="277524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ditar la huella para cor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biar espesor de lí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 a STROKE WEIGHT y tipe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0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entras la huella sigue seleccion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ser2k7</cp:lastModifiedBy>
  <dcterms:modified xsi:type="dcterms:W3CDTF">2008-10-22T17:14:4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