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9BF-5786-4D80-805B-E8978268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B7C-92B7-426F-9E28-C663B87B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BB7-D38E-4F76-82D3-5D03CC1D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386-92B6-4F4F-B63B-0677F133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2B9-D5D6-4E51-B570-E1F9B671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CC1-F88E-4CB4-8196-70FD6CBB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310-E67C-46C5-A22B-F9D00B74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EF5-2241-4ADA-920C-015738E3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543-0F6A-4422-8F58-E6427733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275-576C-43EE-BEDD-D6EDFA09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2C1-91A1-45E2-BDA5-C4D73A4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874-A627-490F-A7B5-37791443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2D2-4B66-4B04-B288-84249B0FF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75232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5120" y="765000"/>
            <a:ext cx="30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*ejercicio califi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626" t="26597" r="10747" b="32421"/>
          <a:stretch/>
        </p:blipFill>
        <p:spPr>
          <a:xfrm>
            <a:off x="539640" y="765000"/>
            <a:ext cx="8280360" cy="2664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860640"/>
            <a:ext cx="8424720" cy="230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Para la maqueta debieran tener en cuenta estas re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figura original está apoyada en el plano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se plano está inclinado con respecto a  //’ que será el su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V corresponde al espectador, el cual en ese único punto verá la figura homóloga sin distorsión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56545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60920" y="59436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143000"/>
            <a:ext cx="1981080" cy="2057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213336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3300"/>
                </a:solidFill>
                <a:latin typeface="Franklin Gothic Medium"/>
              </a:rPr>
              <a:t>El segmento rojo debiera ser perpendicular a la imagen original, pasando por el centro de gravedad de ésta en el plano 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629" t="3691" r="10629" b="4014"/>
          <a:stretch/>
        </p:blipFill>
        <p:spPr>
          <a:xfrm>
            <a:off x="250920" y="907920"/>
            <a:ext cx="648000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72200" y="765000"/>
            <a:ext cx="3620880" cy="58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l abatir el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or 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Para desarrollar la homología determinan  la distancia desde EE’ a L = 120cm; y desde EE’ a V= 155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recta que contiene a V y el punto A puede ser perpendicular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Franklin Gothic Medium"/>
              </a:rPr>
              <a:t>Medidas referenciales nada más, y este caso corresponde a una homología inversa, pero ustedes deben hacer una homología dire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800" y="357336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924280"/>
            <a:ext cx="0" cy="3313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6745" t="0" r="15876" b="3456"/>
          <a:stretch/>
        </p:blipFill>
        <p:spPr>
          <a:xfrm>
            <a:off x="755640" y="1413000"/>
            <a:ext cx="5545080" cy="496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72200" y="765000"/>
            <a:ext cx="362088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3600000" y="3824280"/>
            <a:ext cx="2808360" cy="2160360"/>
          </a:xfrm>
          <a:custGeom>
            <a:avLst/>
            <a:gdLst>
              <a:gd name="textAreaLeft" fmla="*/ 702360 w 2808360"/>
              <a:gd name="textAreaRight" fmla="*/ 2106000 w 2808360"/>
              <a:gd name="textAreaTop" fmla="*/ 540360 h 2160360"/>
              <a:gd name="textAreaBottom" fmla="*/ 16200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23" y="21600"/>
                </a:lnTo>
                <a:lnTo>
                  <a:pt x="6577" y="21600"/>
                </a:lnTo>
                <a:close/>
              </a:path>
            </a:pathLst>
          </a:cu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15385" r="0" b="11229"/>
          <a:stretch/>
        </p:blipFill>
        <p:spPr>
          <a:xfrm>
            <a:off x="324000" y="1916280"/>
            <a:ext cx="4895640" cy="3916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2200" y="765000"/>
            <a:ext cx="36208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Este ejemplo fue hecho con una homología inversa, pero ustedes deben hacerla de </a:t>
            </a:r>
            <a:r>
              <a:rPr b="1" lang="en-US" sz="1400" spc="-1" strike="noStrike">
                <a:solidFill>
                  <a:srgbClr val="ff3300"/>
                </a:solidFill>
                <a:latin typeface="Franklin Gothic Medium"/>
              </a:rPr>
              <a:t>manera dire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2:22:33Z</dcterms:created>
  <dc:creator>benja</dc:creator>
  <dc:description/>
  <dc:language>en-US</dc:language>
  <cp:lastModifiedBy>benjamin</cp:lastModifiedBy>
  <dcterms:modified xsi:type="dcterms:W3CDTF">2009-08-11T03:42:51Z</dcterms:modified>
  <cp:revision>16</cp:revision>
  <dc:subject/>
  <dc:title>Diapositiva 1</dc:title>
</cp:coreProperties>
</file>