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2CA-AD60-4698-9555-16402EF9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F6A-F5C5-4762-BC86-4450D33B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0B6-15CC-4DA4-A5CA-586763A2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7D0-7354-4A2D-A591-DFA3BEEC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683-0300-4657-A944-BD811766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05D-ECAC-4DBC-8355-2EFBDD1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959-2418-4458-8525-4E6F8D4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740-13EA-4D8D-938D-51B2A35E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256-4D36-45FE-AF88-18116A54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658-197E-4597-8765-85ADBFF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901-0D30-4607-878D-71BC7D9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111-72DA-4FB5-ADBD-B521E88D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E507-628D-4457-8777-785C1AAB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626" t="26597" r="10747" b="32421"/>
          <a:stretch/>
        </p:blipFill>
        <p:spPr>
          <a:xfrm>
            <a:off x="539640" y="765000"/>
            <a:ext cx="8280360" cy="2664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60640"/>
            <a:ext cx="8424720" cy="230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Para la maqueta debieran tener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143000"/>
            <a:ext cx="198108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213336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3300"/>
                </a:solidFill>
                <a:latin typeface="Franklin Gothic Medium"/>
              </a:rPr>
              <a:t>El segmento rojo debiera ser perpendicular a la imagen original, pasando por el centro de gravedad de ésta en el plano 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72200" y="765000"/>
            <a:ext cx="3620880" cy="58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Franklin Gothic Medium"/>
              </a:rPr>
              <a:t>Medidas referenciales nada más, y este caso corresponde a una homología inversa, pero ustedes deben hacer una homología dire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2200" y="765000"/>
            <a:ext cx="362088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2600" y="63360"/>
            <a:ext cx="165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2200" y="765000"/>
            <a:ext cx="36208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Este ejemplo fue hecho con una homología inversa, pero ustedes deben hacerla de </a:t>
            </a:r>
            <a:r>
              <a:rPr b="1" lang="en-US" sz="1400" spc="-1" strike="noStrike">
                <a:solidFill>
                  <a:srgbClr val="ff3300"/>
                </a:solidFill>
                <a:latin typeface="Franklin Gothic Medium"/>
              </a:rPr>
              <a:t>manera dire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85160" y="90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Ago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9-08-11T03:42:51Z</dcterms:modified>
  <cp:revision>16</cp:revision>
  <dc:subject/>
  <dc:title>Diapositiva 1</dc:title>
</cp:coreProperties>
</file>