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A68-DB6A-42FA-8526-A6742087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A28-F6F8-4F73-A801-EB24FB4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9FB-B266-4166-B937-12973D93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20C-1923-4ADC-9B5E-99681ED2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65C-32AE-46F1-81A7-7034795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135-6000-4562-A72E-5126DD6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52D-ED5C-4054-82C0-4CDA86E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9CC-32EB-4AFA-8862-7031BF3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973-DB8C-4A75-819F-5940B629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42A-DA86-4CAB-AA1E-BD726AF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4CB-C591-4257-AD6C-EF06AFB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8CD-347E-4332-815F-644E5F9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6E6A-336A-44CB-8418-1F22012C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626" t="26597" r="10747" b="32421"/>
          <a:stretch/>
        </p:blipFill>
        <p:spPr>
          <a:xfrm>
            <a:off x="539640" y="765000"/>
            <a:ext cx="8280360" cy="2664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8424720" cy="23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la maqueta debieran tener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143000"/>
            <a:ext cx="19810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213336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3300"/>
                </a:solidFill>
                <a:latin typeface="Franklin Gothic Medium"/>
              </a:rPr>
              <a:t>El segmento rojo debiera ser perpendicular a la imagen original, pasando por el centro de gravedad de ésta en el plano 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72200" y="765000"/>
            <a:ext cx="362088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Franklin Gothic Medium"/>
              </a:rPr>
              <a:t>Medidas referenciales nada más, y este caso corresponde a una homología inversa, pero ustedes deben hacer una homologí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2200" y="765000"/>
            <a:ext cx="362088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2200" y="765000"/>
            <a:ext cx="36208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Este ejemplo fue hecho con una homología inversa, pero ustedes deben hacerla de </a:t>
            </a:r>
            <a:r>
              <a:rPr b="1" lang="en-US" sz="1400" spc="-1" strike="noStrike">
                <a:solidFill>
                  <a:srgbClr val="ff3300"/>
                </a:solidFill>
                <a:latin typeface="Franklin Gothic Medium"/>
              </a:rPr>
              <a:t>maner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9-08-11T03:42:51Z</dcterms:modified>
  <cp:revision>16</cp:revision>
  <dc:subject/>
  <dc:title>Diapositiva 1</dc:title>
</cp:coreProperties>
</file>