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D6D-2F25-41CA-A0EF-485C55AD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0D7-4A07-4D24-A4AE-F5A1A940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542-A373-47A7-930E-05A99563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B1A-80DB-4FF5-9256-0DADE1DA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87EC-71BC-4293-AD1C-A6760357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8BAF-EB87-460A-8DB8-F3EDAFD2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B063-8573-4BF0-89E1-2CD56715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639D-540A-4EB0-8361-DD41D754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307C-17CE-4341-9C55-2DFD1869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FB0A-BE23-47AC-A1D0-3A27D422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E2E3-8315-4863-BFD7-6F5A1CCE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402-6F21-4F75-A67A-24A85D45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4B3C-9735-4153-9CE5-65B306CF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2C67-665B-4693-9C06-28C6EA35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57E2-4C62-45BB-82B3-018EC5B1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C85E-684B-4595-A55B-EE46F7BC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81CF-C29D-4040-BA32-68F5FA5F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CDA-0DE1-410E-85AA-616A21F0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CB4-C4C2-456B-8880-4AEE67CE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3F2-FBD4-4A4F-9EDC-4CAFE3D6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F46-D74E-4DC6-AB4D-1F651257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F33-6C55-4873-A8DE-719F96B3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523-8A52-44D3-8D57-C5D55240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E08-2041-4561-8DC1-CDD1524B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88BB-32B6-42FE-BB7D-1B012607E7B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EDB1-095C-4C09-BA30-48E88BE693C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761760"/>
            <a:ext cx="66978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Programa de Matemática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arrera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92360" y="2060280"/>
            <a:ext cx="60465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ivel: Primer A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fesoras:  Lily Altimiras 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. Eugenia Humeres 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f Ayud.: Cristián Escobedo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106848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684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VI: Cálculo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álculo de primitivas . Integral indefin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Propiedades de la integral indefini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 Fórmulas de integ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grales inmedia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gración por sustit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álculo de la constante de integ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gral definida: Teorema fundamental 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álculo integ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Aplicaciones al cálculo de áre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597384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981000"/>
            <a:ext cx="7620120" cy="46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4 pruebas parciales anuales (2 por cada semestre)     con ponderaciones de un  15%, 20%, 25% y 25%, respectiva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alleres de Matemáticas Calificados ( no        recuperables) .El promedio de ellos tendrá un 15% de ponder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l término de cada semestre se tomará una    Prueba Recuperativa a aquellos alumnos que por    razones justificadas no hayan rendido una y sólo    una de las 2 pruebas par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640692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s de Prueb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1 : Miércoles 29 de Abril (1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2 : Miércoles 24de Junio (2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3 : Miércoles 09 de Sept. (2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4 : Miércoles 11 de Nov. (2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Recuperativa 1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er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Semestre: Miér. 1 Jul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Recuperativa 2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Semestre: Miér. 18 No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228240"/>
            <a:ext cx="4535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WOKOWSKI Álgebra y Trigonometría con Geometrí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nalítica, Editorial Latinoameric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HMANN CHARLES Geometría Analítica,  Editorial Hispanoameric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ITHOLD LOUIS Cálculo con Geometría Analítica,  Editorial Oxf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ITHOLD LOUIS Matemáticas Previas al Cálculo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Editorial Oxf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TEWART  Cálculo,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Editorial Thom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ARSON / HOSTETLER Cálculo con Geometría Analítica,  Editorial McGraw-Hill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roducción a la Geometría Analítica. Apunte Docente; Autor Lily Altimi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5327640" cy="10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1800" y="1988640"/>
            <a:ext cx="68389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tregar una formación científica básica al futuro profesional y las herramientas necesarias e indispensables para desarrollar la capacidad de razonamiento lógico deductivo e induct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Presentación de la Asignatu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gnatura anual de carácter obligatorio inserta en la categoría de Ciencias Básicas que pretende entregar al alumno una formación científica y los conocimientos y herramientas necesarios e indispensables para desarrollar la capacidad de razonamiento lógico inductivo y deductivo, sirviendo de base a las otras asignaturas del currículo de la carrera, a través de la Geometría y el Cálcu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5320" y="304920"/>
            <a:ext cx="62658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Unidades Programática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1773360"/>
            <a:ext cx="6408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     Trigonomet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I    Geometría Analítica Pl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II   Funciones Re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V   Límites y Continu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V    Cálculo Difer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VI   Cálculo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648180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ontenidos Por Un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01960"/>
            <a:ext cx="7772400" cy="29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: Trigonomet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azones trigonométricas directas e inver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esolución de triángulos rectángul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blicu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I: Geometría Analítica Pl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cepto de dis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ivisión de un segmento en una razón d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Pendiente y ángulo de inclin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dición de paralelismo y perpendicular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La línea recta: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La circunferencia: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ónicas: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II: Funciones Re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roducción a las fun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efinición de función r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ominio y recorrido de una funció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lasificación de fun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unción inver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mportamiento de una función en un interv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écnicas de gra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ipos de funciones reales: constante, lineal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unción compu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V: Límites y Continu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cepto intuitivo de límite desde el pu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vista gráfico y analí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Álgebra de lím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Límites algebraicos. Asíntotas verticale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orizon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unciones continuas y discontin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lasificación de discontinu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V: Cálculo Difer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efinición de deriv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rpretación geométrica de la deriv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ectas tangente y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Álgebra de deriv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egla de la cad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erivadas de orden sup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Aplicaciones de la deriv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05:35:51Z</dcterms:created>
  <dc:creator>Daniel Alvarado</dc:creator>
  <dc:description/>
  <dc:language>en-US</dc:language>
  <cp:lastModifiedBy>mhumeres</cp:lastModifiedBy>
  <dcterms:modified xsi:type="dcterms:W3CDTF">2009-03-11T11:09:43Z</dcterms:modified>
  <cp:revision>24</cp:revision>
  <dc:subject/>
  <dc:title>Programa de Matemáticas Carrera de Diseño</dc:title>
</cp:coreProperties>
</file>