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D4A-696C-4DF7-B94A-6A38846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986-9988-442A-89A2-73937F8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FED-E215-4F47-93AC-76A6914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C3E-E188-4390-8BB6-301470C4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6C81-C9E6-4294-B413-7E9FB29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6B3-3D22-4C58-BD26-60E3B073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9B7-AAFD-4783-A9D3-683EAF1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5029-D20C-4C42-B75B-8F6FC59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8662-FCAA-46F1-8B1C-CEC561DF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4414-C591-4999-80ED-80C69D3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BF6D-6A1A-4B55-A653-40C8928D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0F5-0EEB-4CA4-AF89-7115DF0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2A0-354D-49DB-A98F-6E7B1F6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DC6C-7999-4935-82A0-8E78BA4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B5BD-AFD2-424E-8667-741E066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4F18-912A-4281-9E38-50EFE29F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8329-7A80-40A5-A21E-75BC2602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535-F29D-450F-8896-EBBE3995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12D-CAC6-45F4-9687-12D2357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889-C7C0-43DD-AFFD-53A8D11C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3CC-CD7B-48F1-BF7C-2CDF7ED7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896-D38A-4374-8ED0-B800CE3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CA-BEC2-40C0-9A1D-1198B2B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FA0-40F4-4AC5-B3E2-3F2C7E1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902-536C-487F-B247-A892623790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5844-3256-43A8-B67B-FE494669E1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761760"/>
            <a:ext cx="6697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grama de Matemática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rera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60465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ivel: Primer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esoras:  Lily Altimira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. Eugenia Humere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 Ayud.: Cristián Escobedo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10684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684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I: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primitivas . Integral in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ropiedades de la integral indefin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 Fórmulas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es inmedi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ción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la constante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 definida: Teorema fundamental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álculo integ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al cálculo de á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97384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981000"/>
            <a:ext cx="76201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 pruebas parciales anuales (2 por cada semestre)     con ponderaciones de un  15%, 20%, 25% y 25%, respectiv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lleres de Matemáticas Calificados ( no        recuperables) .El promedio de ellos tendrá un 15% de ponde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término de cada semestre se tomará una    Prueba Recuperativa a aquellos alumnos que por    razones justificadas no hayan rendido una y sólo    una de las 2 pruebas pa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40692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s de Prueb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1 : Miércoles 29 de Abril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2 : Miércoles 24de Junio (2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3 : Miércoles 09 de Sept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4 : Miércoles 11 de Nov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1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 Ju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2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8 N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4535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WOKOWSKI Álgebra y Trigonometría con Geometr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nalítica, Editorial Lati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HMANN CHARLES Geometría Analítica,  Editorial Hispa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Cálculo con Geometría Analítica, 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Matemáticas Previas al Cálculo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EWART  Cálcul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Editorial Thom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ARSON / HOSTETLER Cálculo con Geometría Analítica,  Editorial McGraw-Hil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 la Geometría Analítica. Apunte Docente; Autor Lily Altim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327640" cy="10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1800" y="198864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r una formación científica básica al futuro profesional y las herramientas necesarias e indispensables para desarrollar la capacidad de razonamiento lógico deductivo e induc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Presentación de la Asign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tura anual de carácter obligatorio inserta en la categoría de Ciencias Básicas que pretende entregar al alumno una formación científica y los conocimientos y herramientas necesarios e indispensables para desarrollar la capacidad de razonamiento lógico inductivo y deductivo, sirviendo de base a las otras asignaturas del currículo de la carrera, a través de la Geometría y el Cálc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5320" y="304920"/>
            <a:ext cx="62658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Unidades Programática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4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    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   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I  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V  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   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I  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4818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s Por Un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: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azones trigonométricas directas e inver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solución de triángulos rectángul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c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: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de di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ivisión de un segmento en una razón d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endiente y ángulo de incl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dición de paralelismo y perpendicu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línea rect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circunferenci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ónicas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I: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roducción a las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función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ominio y recorrido de una fun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de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in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mportamiento de una función en un interv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écnicas de gra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ipos de funciones reales: constante, linea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com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V: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intuitivo de límite desde el p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vista gráfico y ana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lím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ímites algebraicos. Asíntotas verticale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rizo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ones continuas y dis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asificación de dis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: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rpretación geométrica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ctas tangente y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de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gla de la cad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rivadas de orden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5:35:51Z</dcterms:created>
  <dc:creator>Daniel Alvarado</dc:creator>
  <dc:description/>
  <dc:language>en-US</dc:language>
  <cp:lastModifiedBy>mhumeres</cp:lastModifiedBy>
  <dcterms:modified xsi:type="dcterms:W3CDTF">2009-03-11T11:09:43Z</dcterms:modified>
  <cp:revision>24</cp:revision>
  <dc:subject/>
  <dc:title>Programa de Matemáticas Carrera de Diseño</dc:title>
</cp:coreProperties>
</file>