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14B-E167-49C8-857E-6A1CD667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080-3A07-42AB-B6CE-3CD34149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AC1-845E-4930-A6B3-0D033327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13D-9C07-48A3-A5D0-5FE84C8B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CCC3-7EC4-45D2-9EA6-8BF76345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83E5-C4BA-4000-AC15-8BCC9F1E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5C54-9354-48FE-B98D-66995213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E158-AB01-4375-AE6B-1F4A4202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98DB-F175-44CD-A6CD-E169B50E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964F-11EE-4056-B0E7-E05F8BA1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82B9-8B40-4DA7-A312-98875DE8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7C4-F2E1-421B-B7CC-0F60624E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468D-A3CE-4D31-9AFD-F9119B90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378F-8C43-4C10-816C-D0B1FCE8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B1CF-394B-4981-A2CE-B1B1634C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B10E-C582-44CF-A689-0578BC77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3F3C-9357-4735-887D-169C0A4E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C95-4D31-4602-8AF2-AF405691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C38-1019-4B3F-BFB0-6C6C6CCB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78A-0A43-4E84-9083-C3ABF7C3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63C-3DAF-4E97-B06B-A29F11AF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F57-C059-417B-BD2A-58A8B091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16B-970A-48DF-90A4-A0B3EBC2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D7F-EFA0-4259-8C72-7112E62F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2B6B-C7CD-4688-AB1A-E692A04972E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428A-3939-45A6-A266-779AF54DE69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761760"/>
            <a:ext cx="66978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Programa de Matemática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arrera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92360" y="2060280"/>
            <a:ext cx="60465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ivel: Primer A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fesoras:  Lily Altimiras 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. Eugenia Humeres 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f Ayud.: Cristián Escobedo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106848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684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VI: Cálculo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álculo de primitivas . Integral indefin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Propiedades de la integral indefini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 Fórmulas de integ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grales inmedia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gración por sustit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álculo de la constante de integ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gral definida: Teorema fundamental 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álculo integ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Aplicaciones al cálculo de áre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597384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981000"/>
            <a:ext cx="7620120" cy="46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4 pruebas parciales anuales (2 por cada semestre)     con ponderaciones de un  15%, 20%, 25% y 25%, respectiva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alleres de Matemáticas Calificados ( no        recuperables) .El promedio de ellos tendrá un 15% de ponder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l término de cada semestre se tomará una    Prueba Recuperativa a aquellos alumnos que por    razones justificadas no hayan rendido una y sólo    una de las 2 pruebas par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640692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s de Prueb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1 : Miércoles 29 de Abril (1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2 : Miércoles 24de Junio (2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3 : Miércoles 09 de Sept. (2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4 : Miércoles 11 de Nov. (2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Recuperativa 1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er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Semestre: Miér. 1 Jul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Recuperativa 2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Semestre: Miér. 18 No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228240"/>
            <a:ext cx="4535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WOKOWSKI Álgebra y Trigonometría con Geometrí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nalítica, Editorial Latinoameric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HMANN CHARLES Geometría Analítica,  Editorial Hispanoameric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ITHOLD LOUIS Cálculo con Geometría Analítica,  Editorial Oxf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ITHOLD LOUIS Matemáticas Previas al Cálculo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Editorial Oxf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TEWART  Cálculo,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Editorial Thom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ARSON / HOSTETLER Cálculo con Geometría Analítica,  Editorial McGraw-Hill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roducción a la Geometría Analítica. Apunte Docente; Autor Lily Altimi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5327640" cy="10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1800" y="1988640"/>
            <a:ext cx="68389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tregar una formación científica básica al futuro profesional y las herramientas necesarias e indispensables para desarrollar la capacidad de razonamiento lógico deductivo e induct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Presentación de la Asignatu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gnatura anual de carácter obligatorio inserta en la categoría de Ciencias Básicas que pretende entregar al alumno una formación científica y los conocimientos y herramientas necesarios e indispensables para desarrollar la capacidad de razonamiento lógico inductivo y deductivo, sirviendo de base a las otras asignaturas del currículo de la carrera, a través de la Geometría y el Cálcu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5320" y="304920"/>
            <a:ext cx="62658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Unidades Programática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1773360"/>
            <a:ext cx="6408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     Trigonomet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I    Geometría Analítica Pl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II   Funciones Re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V   Límites y Continu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V    Cálculo Difer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VI   Cálculo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648180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ontenidos Por Un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01960"/>
            <a:ext cx="7772400" cy="29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: Trigonomet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azones trigonométricas directas e inver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esolución de triángulos rectángul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blicu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I: Geometría Analítica Pl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cepto de dis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ivisión de un segmento en una razón d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Pendiente y ángulo de inclin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dición de paralelismo y perpendicular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La línea recta: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La circunferencia: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ónicas: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II: Funciones Re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roducción a las fun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efinición de función r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ominio y recorrido de una funció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lasificación de fun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unción inver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mportamiento de una función en un interv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écnicas de gra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ipos de funciones reales: constante, lineal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unción compu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V: Límites y Continu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cepto intuitivo de límite desde el pu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vista gráfico y analí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Álgebra de lím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Límites algebraicos. Asíntotas verticale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orizon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unciones continuas y discontin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lasificación de discontinu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V: Cálculo Difer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efinición de deriv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rpretación geométrica de la deriv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ectas tangente y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Álgebra de deriv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egla de la cad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erivadas de orden sup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Aplicaciones de la deriv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05:35:51Z</dcterms:created>
  <dc:creator>Daniel Alvarado</dc:creator>
  <dc:description/>
  <dc:language>en-US</dc:language>
  <cp:lastModifiedBy>mhumeres</cp:lastModifiedBy>
  <dcterms:modified xsi:type="dcterms:W3CDTF">2009-03-11T11:09:43Z</dcterms:modified>
  <cp:revision>24</cp:revision>
  <dc:subject/>
  <dc:title>Programa de Matemáticas Carrera de Diseño</dc:title>
</cp:coreProperties>
</file>