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317-1E77-407E-AB61-6A3FDBCD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EFA-F5AC-4E75-87E8-A4A30878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B26-63AA-4DE2-91CB-AA2DC3E8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BA4-D2D5-4F6C-9F13-B3C4C278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60AC-0706-4868-8134-4B2E1B7B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B15C-E928-41FC-8157-C95E0BDB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C107-B3A1-443A-ACA9-DA75CF8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848-DF75-444C-A955-315E01CE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D71F-F884-455F-A6A0-254547B2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3BE-0FFD-47B3-B267-98D2E7ED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49D2-BC4E-4BE1-84C8-0FCDA9B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268-CA09-42E1-B9EC-329AAF64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DE84-2E8A-4854-8AE6-BE4D0EA1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D3A8-D73A-41E5-8DA6-7754915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2235-12A0-438F-B417-EC76A9E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7CB-2D0E-483E-B3CA-2FA90DEB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5A52-1ECB-4EBD-BADF-15AC7686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7CA-0F92-436C-8D35-B3371727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532-AFDF-44B3-AD7A-FD079A9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814-0F97-41A6-B47B-16626458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1EA-C632-40D0-A3F5-4EC849E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32C-4D4D-47F9-8C47-4CB539B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43E-1513-4733-A3C3-97B9D3B5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1DA-2C18-4929-A26A-822DB397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08AE-3FEF-4E3F-A6BB-8AD08A5681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8F2B-C588-4E66-A2EC-4187FDA1951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761760"/>
            <a:ext cx="66978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ograma de Matemática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arrera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92360" y="2060280"/>
            <a:ext cx="60465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ivel: Primer 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esoras:  Lily Altimira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. Eugenia Humeres 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f Ayud.: Cristián Escobedo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10684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684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I: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primitivas . Integral in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ropiedades de la integral indefini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 Fórmulas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es inmedia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ción por sustit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álculo de la constante de integ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gral definida: Teorema fundamental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álculo integ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al cálculo de áre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597384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981000"/>
            <a:ext cx="762012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 pruebas parciales anuales (2 por cada semestre)     con ponderaciones de un  15%, 20%, 25% y 25%, respectiv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lleres de Matemáticas Calificados ( no        recuperables) .El promedio de ellos tendrá un 15% de ponder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 término de cada semestre se tomará una    Prueba Recuperativa a aquellos alumnos que por    razones justificadas no hayan rendido una y sólo    una de las 2 pruebas pa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40692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s de Prueb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1 : Miércoles 29 de Abril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2 : Miércoles 24de Junio (2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3 : Miércoles 09 de Sept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Parcial N°4 : Miércoles 11 de Nov. (2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1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er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 Jul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ueba Recuperativa 2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°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Semestre: Miér. 18 No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4535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WOKOWSKI Álgebra y Trigonometría con Geometr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nalítica, Editorial Lati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HMANN CHARLES Geometría Analítica,  Editorial Hispanoameric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Cálculo con Geometría Analítica, 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EITHOLD LOUIS Matemáticas Previas al Cálculo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Editorial Oxf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TEWART  Cálculo,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Editorial Thom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ARSON / HOSTETLER Cálculo con Geometría Analítica,  Editorial McGraw-Hill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 la Geometría Analítica. Apunte Docente; Autor Lily Altimi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5327640" cy="10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1800" y="1988640"/>
            <a:ext cx="68389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r una formación científica básica al futuro profesional y las herramientas necesarias e indispensables para desarrollar la capacidad de razonamiento lógico deductivo e induc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Presentación de la Asign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gnatura anual de carácter obligatorio inserta en la categoría de Ciencias Básicas que pretende entregar al alumno una formación científica y los conocimientos y herramientas necesarios e indispensables para desarrollar la capacidad de razonamiento lógico inductivo y deductivo, sirviendo de base a las otras asignaturas del currículo de la carrera, a través de la Geometría y el Cálcu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5320" y="304920"/>
            <a:ext cx="62658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Unidades Programática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640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    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   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II  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IV  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   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VI   Cálculo Integ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64818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tenidos Por Un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1960"/>
            <a:ext cx="777240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: Trigonomet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azones trigonométricas directas e inver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solución de triángulos rectángul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licu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: Geometría Analítica Pl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de dis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ivisión de un segmento en una razón d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Pendiente y ángulo de inclin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dición de paralelismo y perpendicula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línea rect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a circunferencia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ónicas: ecu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II: Funciones Re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roducción a las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función 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ominio y recorrido de una funció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de fu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inv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mportamiento de una función en un interv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écnicas de gra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ipos de funciones reales: constante, lineal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ón com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IV: Límites y 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cepto intuitivo de límite desde el pu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vista gráfico y analí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lím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Límites algebraicos. Asíntotas verticale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orizon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Funciones continuas y discontin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asificación de discontinu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Unidad V: Cálculo Difer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finición de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Interpretación geométrica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ctas tangente y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Álgebra de deriv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Regla de la cad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erivadas de orden sup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plicaciones de la deriv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05:35:51Z</dcterms:created>
  <dc:creator>Daniel Alvarado</dc:creator>
  <dc:description/>
  <dc:language>en-US</dc:language>
  <cp:lastModifiedBy>mhumeres</cp:lastModifiedBy>
  <dcterms:modified xsi:type="dcterms:W3CDTF">2009-03-11T11:09:43Z</dcterms:modified>
  <cp:revision>24</cp:revision>
  <dc:subject/>
  <dc:title>Programa de Matemáticas Carrera de Diseño</dc:title>
</cp:coreProperties>
</file>