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FC5-1560-42F7-9205-1AFD7C7E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BAA-BE8B-4810-A3F8-4B21B230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BE0-9A45-4334-A379-D7E5D279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206-0817-4B5E-BD7D-50998699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BCC-5688-4814-ABE4-9A781508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10D-C28D-4F36-9740-973BB760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3DB-6768-45DE-8F3F-DE23387B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B96-4277-4021-9AA9-4E7896BC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26A-02AE-4438-9460-CE24FCCF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B26-0C8C-46E5-941C-2AE8D794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89D-8DF5-4D0A-B8E0-35B3433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7A3-94C8-4E2D-A94E-5CC71305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6765-93EE-456F-BC67-41D663DC5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7960" y="260280"/>
            <a:ext cx="6942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origen del pensamient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 y L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mente los fenómenos se atribuían a dioses y hér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lóg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regían el mundo y condicionaban nuestros a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260280"/>
            <a:ext cx="814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l pensamient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édo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a el ser a parti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tro elementos que se mezclan en diferentes proporcione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ifestarse en objetos:  fuego, aire, agua y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bios  consisten en alteraciones a estas proporciones que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gen de manera casual sino por dos fuerzas dominantes en el  co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r y o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04200" y="640224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édo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01600" y="333360"/>
            <a:ext cx="729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nte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ólo cuatro elementos sino infin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ya mezcla es dirigida por el espír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ucipo y Demóc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rman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cia de partículas microscópicas los áto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orman las cosas y la alteración mecánica de su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ocan las alteraciones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05740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00360" y="2997360"/>
            <a:ext cx="3949560" cy="287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04000" y="2924280"/>
            <a:ext cx="1801800" cy="3008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4920" y="595008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á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7440" y="60213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uc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9440" y="602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ócr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512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2000" y="189000"/>
            <a:ext cx="8323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Clásica 480 – 320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Sofistas -  At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entr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és se traslada a la naturaleza, la ontología y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 –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 vs. Aristó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uscan convencer de un saber universalmente válido sin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an una posición más relativa, subjetiv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gmática del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 no buscan convencer argumentando sino persuad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nte el uso de la retó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424980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421164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400" y="62578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9800" y="623736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59280" y="1052640"/>
            <a:ext cx="3411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es ambulantes que usaban y enseñaban la ora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mente a los Jóvenes con pretensiones polí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ág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o de los sofistas más conocid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aca la relativid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s cosas destacando la subjetividad del ser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, nunca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ás, volverás nunca, perece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63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651640" y="620640"/>
            <a:ext cx="28033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ó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ño 399 AC fue condenado a envenenarse con cicuta por per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a juventud con su filosofar sofístico, desarrollando la dialéct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ce a reflexionar sobre las convicciones que hasta ento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onsideraban evidentes para construir un nuevo sa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513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9920" y="189000"/>
            <a:ext cx="842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iniciar el diálogo se presenta como un ignorante de modo qu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ocutor plantee su postura que luego  induce a la cr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discusión sirve según Sócrates incluso sólo para plantear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nque no se encuentre la respue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lo se que nada s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emos su pensamiento por Platón su discípulo dado que el no dejó escr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e tremendamente inf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68360" y="2394000"/>
            <a:ext cx="4464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16360" y="1125360"/>
            <a:ext cx="39909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 crítico de sus predecesores, especialmente de los sofistas, au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o de su pensamiento es la ética social, en que plantea qu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ción es fundamental en su formación correc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 teoría de las ideas, busca el conocimiento objet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verdad en perdurable por ende no es posible buscarlo en lo cambi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43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1341360"/>
            <a:ext cx="324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ea ideas inmutables y eternas no accesibles por la per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o sólo por la raz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alidad sólo existe en la medida que son una imitación de est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ón Percepción – Razón en la que establece instancia medi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4332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08720" y="1773360"/>
            <a:ext cx="28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 ejemplifica a través de un m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almas inmortales han contemplado las ideas en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a a su na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se sepulta al nacer y es reactivado a través del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76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716360" y="54936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antigua Grecia se produce una transición desde e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 a un pensamiento 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bus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ar estos fenómenos de manera más 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ello sur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sciplina de la filosofía que racionaliz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ómenos de la naturaleza y la sociedad con dife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as que fundamenta y argumenta con prue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el fin de lograr un dominio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finición puede decirs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osofía es el descubr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gument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392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68760" y="260280"/>
            <a:ext cx="74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 directr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oda actividad individual y social es la del b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e de la base que la virtud es un saber enseñable.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fluencia en la Polí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su ob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pública plantea una teoría de la educación,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dad y de la Con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la República, base de la democracia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la sociedad en ca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7128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2360" y="765000"/>
            <a:ext cx="61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ernantes o dirigentes que conducen el estado y se les ex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áxima formación en todos los ámbitos del saber hasta los 5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234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00720" y="836640"/>
            <a:ext cx="4333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dianes una combinación de policía y ejército encarg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seguridad externa e inte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representa la virtud de la valen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os o comerciantes y campesinos encarga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nutrición comercio y artesa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 la virtud de la temp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usticia es la cuarta virtud que los cohes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las dos primeras castas plantea la renuncia absoluta a la propiedad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676680" cy="612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2920" y="638172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ágora de At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932360" y="765000"/>
            <a:ext cx="40226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stó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filosofía abarca una cantidad enorme de 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ece una división del conocimiento en ram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icología, lógica, zoolog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d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 de la Filosofía dado que para cada tema ci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 y reconstruye las teorías de otros filósofos y se convie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una fuente de ideas presocráticas la mayor parte extravi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16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5840" y="857160"/>
            <a:ext cx="8570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a el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teria permanece perdura en el proces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tiene una forma al inicio del proceso y otra al final conducente a una 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él la esencia de las cosas no se encuentra en las ideas sino en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as mismas que pueden ser animadas o inani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9100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38040" y="6402240"/>
            <a:ext cx="31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stóteles representado por Rembran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68360" y="260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relación a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eza busca sus causas a través de la materi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 física que provoca un efecto, la finalidad qu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o debe cumplir y l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oma también las ideas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édocles y los cuatro elementos que relac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figuras geométric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55436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435640" y="1197000"/>
            <a:ext cx="351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aza la teoría de las ideas de Platón y establece las formas como las causas de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 detalladamente la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artir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og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seres humano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ser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los reyes son m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1991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997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84720" y="187416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us Vitruvius Poll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l autor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gación más anti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bre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ha llegado a nuestros días, trabajó durante el reinado del emperad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bió un extenso sumario de toda la teoría sobre la construcción que había sido escrita hasta el momento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diez libros de la arquitec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architectura libri dec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172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20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undo conocimiento de los escritos anteriores griegos y romanos que hoy se han perd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522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0" y="333360"/>
            <a:ext cx="73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urge en el continente griego, a Atenas llega en el siglo 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o que en las colonias griegas de Asia Menor, 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y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sur de Italia en lugares como El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xplicación para ello era el contacto con otras culturas a travé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rcio marít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85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2060640"/>
            <a:ext cx="317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 de los escritos eran sobre proporciones, y nada menos que nueve hablaban de las "leyes de la simetría", que en terminología moderna significa en su mayor parte los sistemas de medición de mód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37908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89000"/>
            <a:ext cx="635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trata no sólo un tema sino varias finalidades prácticas de la constru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da una de ellas en un capítulo separado del lib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atado puede verse como un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ección de teorías temáticas paralelas del dis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673416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1916280"/>
            <a:ext cx="33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ruvio no da métodos para combinarlas en una síntesis, solamente presenta una clasificación de requisitos para construccione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bilidad (firm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dad o "conveniencia" (utilita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eza (venust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3872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40464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para casi toda la investigación posterior de la 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basa en las tradiciones de arquitectura griegas y también sobre las enseñanzas de Pitágoras de acuerdo con las cuales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on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creada aplicando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ciones de los números ente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o estaba basado en observaciones anteriores de las cuerdas afinadas de los instrumentos y también sobre las proporciones del cuerpo humano que Vitruvio aplica también a la arquitec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8960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05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803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813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mbitos y Etap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Presocrática : Fundadores de la Física 650 – 50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e en la física a partir del estudio de la teoría de la naturaleza e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uego se incluye la te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pa Clásica: Los Sofistas - Atenas 480 – 320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junto a Platón fundan la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stóteles descubre La 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a época se desarrollan obras importantes como la Acr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16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36000" y="404640"/>
            <a:ext cx="5923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Presocráticos aprox. 650 – 500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so del mito al pensamiento lógico es paula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n responder la siguiente pregun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Cuál es el origen del mun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spuesta habitualmente en un elemento pri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to – Pitagóricos – Elea – At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3659400" cy="368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8000" y="6237360"/>
            <a:ext cx="24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n del mundo según 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80640" y="189000"/>
            <a:ext cx="72903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radican en Mileto donde se agrupa un conjunto de pensadore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aleja del lenguaje mitológico y buscan una ex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cional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es de Mileto era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imandro  el infinito eterno sin cu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xímenes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áclito  los opuestos y su luch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2314800" cy="263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720" y="602136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1670040" cy="239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59640" y="60930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iman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77080" y="3357720"/>
            <a:ext cx="190512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20000" y="609300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ácl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2398680" cy="2406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71040" y="61135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xím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56000" y="404640"/>
            <a:ext cx="447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ag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ágor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número como principio del mundo material y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últim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a las cuatro ciencias que para el definen el uni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ritmética, La Geometría, La Astronomía y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ústica o teoría 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armon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ocupan de l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s teóricos y prácticos, de proble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icos y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a la esencia de los problem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 que lueg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á desarrolla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rates y Platón en la etap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7688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92280"/>
            <a:ext cx="36907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también en esta época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epticismo  como crítica radical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samiento mitoló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ado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ófa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de la Ontología  desarrollada por Parménides de El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e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imposible que exista aquello que no se puede pen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ensamiento base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omenología pos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cionad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xistencia del ho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26040" y="333360"/>
            <a:ext cx="4132080" cy="575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50920" y="61657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mé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8:52:54Z</dcterms:created>
  <dc:creator>Marcela Pizzi</dc:creator>
  <dc:description/>
  <dc:language>en-US</dc:language>
  <cp:lastModifiedBy>Marcela Pizzi</cp:lastModifiedBy>
  <dcterms:modified xsi:type="dcterms:W3CDTF">2005-03-28T00:43:03Z</dcterms:modified>
  <cp:revision>84</cp:revision>
  <dc:subject/>
  <dc:title>Diapositiva 1</dc:title>
</cp:coreProperties>
</file>