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CDB-457D-4570-A632-80A5F7D8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8C5-3D0F-454D-A324-19547CC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A7F-8F1E-4F33-9138-20F291C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2CA-1199-4D61-A44B-C4C213D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357-A2F2-4BF5-AF8F-5D43C9C0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EC8-0980-493C-B4FA-F989D95B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529-DF1B-4786-A53D-A02061A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77F-198F-4774-AA8E-5D7E0B6C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BCF-076D-46E9-937A-84C4C1B7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F31-1B0F-4389-97A2-67A7A59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9DD-A9AE-47A0-AA05-EA3CA00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7D1-D304-4233-816D-1184635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1A52-B236-465F-8538-F12963EC4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960" y="260280"/>
            <a:ext cx="6942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rigen del pensami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 y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mente los fenómenos se atribuían a dioses y hér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lóg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regían el mundo y condicionaban nuestros a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260280"/>
            <a:ext cx="81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l pensamien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édo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a el ser a part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tro elementos que se mezclan en diferentes proporcione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arse en objetos:  fuego, aire, agua y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bios  consisten en alteraciones a estas proporciones que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en de manera casual sino por dos fuerzas dominantes en el 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 y o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04200" y="64022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édo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1600" y="333360"/>
            <a:ext cx="729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nte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ólo cuatro elementos sino infin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a mezcla es dirigida por el espí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cipo y Demó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rma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ia de partículas microscópicas los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an las cosas y la alteración mecánica de su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ocan las alteracion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3949560" cy="287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1801800" cy="300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920" y="59500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á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7440" y="60213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uc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602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ócr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5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89000"/>
            <a:ext cx="8323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Clásica 480 – 320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ofistas -  A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ntr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és se traslada a la naturaleza, la ontología y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 –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 vs. Aristó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uscan convencer de un saber universalmente válido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an una posición más relativa, subjetiv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gmática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 no buscan convencer argumentando sino persuad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te el uso de la retó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424980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2116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400" y="6257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800" y="623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59280" y="1052640"/>
            <a:ext cx="341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es ambulantes que usaban y enseñaban la o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mente a los Jóvenes con pretensiones polí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sofistas más conoci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aca la relativ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s cosas destacando la subjetividad del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, nunca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 nunca,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3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51640" y="620640"/>
            <a:ext cx="28033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ño 399 AC fue condenado a envenenarse con cicuta por per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 juventud con su filosofar sofístico, desarrollando la dialé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e a reflexionar sobre las convicciones que hasta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sideraban evidentes para construir un nuevo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513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920" y="1890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iniciar el diálogo se presenta como un ignorante de modo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ocutor plantee su postura que luego  induce a la cr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discusión sirve según Sócrates incluso sólo para plantear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nque no se encuentre la respu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e que nada s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emos su pensamiento por Platón su discípulo dado que el no dejó escr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 tremendamente inf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239400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16360" y="1125360"/>
            <a:ext cx="3990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crítico de sus predecesores, especialmente de los sofistas, a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o de su pensamiento es la ética social, en que plantea qu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ción es fundamental en su formación 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 teoría de las ideas, busca el conocimiento objet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rdad en perdurable por ende no es posible buscarlo en lo camb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324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a ideas inmutables y eternas no accesibles por la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 sólo por la raz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alidad sólo existe en la medida que son una imitación de est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ón Percepción – Razón en la que establece instancia medi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332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08720" y="1773360"/>
            <a:ext cx="28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ejemplifica a través de un m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almas inmortales han contemplado las ideas en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a a su n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e sepulta al nacer y es reactivado a través del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16360" y="549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antigua Grecia se produce una transición desde 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 a un pensamiento 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bus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ar estos fenómenos de manera más 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lo sur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ciplina de la filosofía que racionaliz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ómenos de la naturaleza y la sociedad con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as que fundamenta y argumenta con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el fin de lograr un dominio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finición puede decirs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osofía es el descubr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gument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92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68760" y="260280"/>
            <a:ext cx="74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directr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oda actividad individual y social es la del b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 la base que la virtud es un saber enseñable.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luencia en la Polí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su ob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pública plantea una teoría de la educación,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dad y de la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la República, base de la democraci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la sociedad en ca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12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765000"/>
            <a:ext cx="61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ntes o dirigentes que conducen el estado y se les ex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áxima formación en todos los ámbitos del saber hasta los 5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4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836640"/>
            <a:ext cx="433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ianes una combinación de policía y ejército encar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eguridad externa e int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representa la virtud de la valen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os o comerciantes y campesinos encarga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nutrición comercio y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 la temp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sticia es la cuarta virtud que los cohes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s dos primeras castas plantea la renuncia absoluta a la 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766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2920" y="63817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ágora de At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32360" y="765000"/>
            <a:ext cx="4022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stó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filosofía abarca una cantidad enorme de 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ece una división del conocimiento en ra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icología, lógica, zoolog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d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de la Filosofía dado que para cada tema c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 y reconstruye las teorías de otros filósofos y se conv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a fuente de ideas presocráticas la mayor parte extrav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16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5840" y="857160"/>
            <a:ext cx="857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teria permanece perdura en el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a forma al inicio del proceso y otra al final conducente a un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él la esencia de las cosas no se encuentra en las ideas sino e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as mismas que pueden ser animadas o inani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910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38040" y="6402240"/>
            <a:ext cx="31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óteles representado por Rembran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relación 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eza busca sus causas a través de la materi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física que provoca un efecto, la finalidad qu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o debe cumplir y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ma también las ideas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édocles y los cuatro elementos que relac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figuras geométric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5543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97000"/>
            <a:ext cx="351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aza la teoría de las ideas de Platón y establece las formas como las causas de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 detalladament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g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seres humano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ser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97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4720" y="18741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us Vitruvius Pol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aut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gación más anti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ha llegado a nuestros días, trabajó durante el reinado del emper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ió un extenso sumario de toda la teoría sobre la construcción que había sido escrita hasta el momento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ez libros de la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rchitectura libri dec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72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2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o conocimiento de los escritos anteriores griegos y romanos que hoy se han per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2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0" y="333360"/>
            <a:ext cx="73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ge en el continente griego, a Atenas llega en el siglo 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 que en las colonias griegas de Asia Menor,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y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ur de Italia en lugares como El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xplicación para ello era el contacto con otras culturas a travé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o marí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060640"/>
            <a:ext cx="317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 de los escritos eran sobre proporciones, y nada menos que nueve hablaban de las "leyes de la simetría", que en terminología moderna significa en su mayor parte los sistemas de medición de mód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37908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trata no sólo un tema sino varias finalidades prácticas de la constru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da una de ellas en un capítulo separado del lib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tado puede verse como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ción de teorías temáticas paralelas del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7341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916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no da métodos para combinarlas en una síntesis, solamente presenta una clasificación de requisitos para construccione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dad (firm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dad o "conveniencia" (util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eza (venust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7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40464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para casi toda la investigación posterior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asa en las tradiciones de arquitectura griegas y también sobre las enseñanzas de Pitágoras de acuerdo con las cual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o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creada aplicando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es de los números ent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 estaba basado en observaciones anteriores de las cuerdas afinadas de los instrumentos y también sobre las proporciones del cuerpo humano que Vitruvio aplica también a la arquite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5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mbitos y Etap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Presocrática : Fundadores de la Física 650 – 50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 en la física a partir del estudio de la teoría de la naturalez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uego se incluye la t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Clásica: Los Sofistas - Atenas 480 – 32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junto a Platón fundan la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stóteles descubre L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a época se desarrollan obras importantes como la Ac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1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6000" y="404640"/>
            <a:ext cx="592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resocráticos aprox. 650 – 500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o del mito al pensamiento lógico es paula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n responder la siguiente pregun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uál es el origen del mun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puesta habitualmente en un ele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– Pitagóricos – Elea – 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65940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8000" y="6237360"/>
            <a:ext cx="24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n del mundo según 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0640" y="189000"/>
            <a:ext cx="7290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adican en Mileto donde se agrupa un conjunto de pensador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leja del lenguaje mitológico y buscan una ex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nal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s de Mileto e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imandro  el infinito eterno sin 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ímenes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áclito  los opuestos y su luch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314800" cy="26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720" y="60213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167004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640" y="6093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im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0930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ác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71040" y="6113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ím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56000" y="404640"/>
            <a:ext cx="44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ag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ágo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número como principio del mundo material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últi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s cuatro ciencias que para el definen el uni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ritmética, La Geometría, La Astronomía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ústica o teoría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ocupan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s teóricos y prácticos,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s y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a la esencia de los proble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 que lue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desarroll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en la etap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768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92280"/>
            <a:ext cx="3690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n esta época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epticismo  como crítica radical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do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ófa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de la Ontología  desarrollada por Parménides de El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imposible que exista aquello que no se puede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ensamiento base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omenología 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cion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xistencia d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26040" y="333360"/>
            <a:ext cx="4132080" cy="57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0920" y="61657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mé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8:52:54Z</dcterms:created>
  <dc:creator>Marcela Pizzi</dc:creator>
  <dc:description/>
  <dc:language>en-US</dc:language>
  <cp:lastModifiedBy>Marcela Pizzi</cp:lastModifiedBy>
  <dcterms:modified xsi:type="dcterms:W3CDTF">2005-03-28T00:43:03Z</dcterms:modified>
  <cp:revision>84</cp:revision>
  <dc:subject/>
  <dc:title>Diapositiva 1</dc:title>
</cp:coreProperties>
</file>