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A91F-DDE8-4CE5-82F2-B7A36FD4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1A5-5051-44D8-A820-75322F40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4DEC-A0D1-486B-8F19-16B31176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F8B-A263-4463-BB50-789C6C5C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91AD-CC5F-4460-84C3-8F73108D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9A5B-2BFF-456F-985A-E0711EEE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20E2-4739-4A30-BC39-FCD7039C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9F1B-1D22-48BF-BC51-E9848EB7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D880-1716-49F5-BA9E-8BD0ACF1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F6FA-541A-4C80-B3FD-9F903393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22D9-21E0-4337-9C9B-41CFD75E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F277-59D2-4AF8-88AB-2726CA2E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B3CA-1A47-401D-8D83-E33BCDBA8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7960" y="260280"/>
            <a:ext cx="69429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origen del pensamiento filosó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o y L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cialmente los fenómenos se atribuían a dioses y hér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tológ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regían el mundo y condicionaban nuestros a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12944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9640" y="260280"/>
            <a:ext cx="814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ge también el pensamiento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édoc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a el ser a partir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atro elementos que se mezclan en diferentes proporciones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ifestarse en objetos:  fuego, aire, agua y ti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bios  consisten en alteraciones a estas proporciones que 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gen de manera casual sino por dos fuerzas dominantes en el  cos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or y o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5832720" cy="4375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504200" y="640224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pédo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01600" y="333360"/>
            <a:ext cx="729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xágor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ante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ólo cuatro elementos sino infini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ya mezcla es dirigida por el espíri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om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ucipo y Demócr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irman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encia de partículas microscópicas los átom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orman las cosas y la alteración mecánica de su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ocan las alteraciones del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2057400" cy="2828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700360" y="2997360"/>
            <a:ext cx="3949560" cy="2877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804000" y="2924280"/>
            <a:ext cx="1801800" cy="3008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4920" y="595008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xág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7440" y="602136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uci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09440" y="602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ócr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3512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2000" y="189000"/>
            <a:ext cx="83232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Clásica 480 – 320 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Sofistas -  At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entro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és se traslada a la naturaleza, la ontología y los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tico – soc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crates y Platón  vs. Aristót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611964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1280" y="404640"/>
            <a:ext cx="756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crates y Pla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buscan convencer de un saber universalmente válido sino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ptan una posición más relativa, subjetiva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gmática del conoci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a no buscan convencer argumentando sino persuad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nte el uso de la retó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4249800" cy="3294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788000" y="2781360"/>
            <a:ext cx="4211640" cy="3352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18400" y="62578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óc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89800" y="623736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t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859280" y="1052640"/>
            <a:ext cx="3411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esores ambulantes que usaban y enseñaban la orato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ecialmente a los Jóvenes con pretensiones polític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ágor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o de los sofistas más conocid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aca la relativid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las cosas destacando la subjetividad del ser hum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ás, volverás, nunca perecer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ás, volverás nunca, perecer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2638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651640" y="620640"/>
            <a:ext cx="280332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óc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ño 399 AC fue condenado a envenenarse con cicuta por perve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a juventud con su filosofar sofístico, desarrollando la dialéctic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uce a reflexionar sobre las convicciones que hasta ento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consideraban evidentes para construir un nuevo sa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451332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9920" y="189000"/>
            <a:ext cx="842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iniciar el diálogo se presenta como un ignorante de modo que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locutor plantee su postura que luego  induce a la crí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e discusión sirve según Sócrates incluso sólo para plantear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nque no se encuentre la respues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lo se que nada sé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ocemos su pensamiento por Platón su discípulo dado que el no dejó escri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e tremendamente influy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68360" y="2394000"/>
            <a:ext cx="4464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716360" y="1125360"/>
            <a:ext cx="399096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 crítico de sus predecesores, especialmente de los sofistas, aun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o de su pensamiento es la ética social, en que plantea qu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ción es fundamental en su formación correc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a la teoría de las ideas, busca el conocimiento objetiv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verdad en perdurable por ende no es posible buscarlo en lo cambi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2433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1280" y="1341360"/>
            <a:ext cx="324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ell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ea ideas inmutables y eternas no accesibles por la perce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o sólo por la raz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ealidad sólo existe en la medida que son una imitación de estas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sión Percepción – Razón en la que establece instancia mediado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67280" y="549360"/>
            <a:ext cx="43322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508720" y="1773360"/>
            <a:ext cx="280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 ejemplifica a través de un m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 almas inmortales han contemplado las ideas en for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ia a su na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 se sepulta al nacer y es reactivado a través del aprendiz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65768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716360" y="549360"/>
            <a:ext cx="4103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la antigua Grecia se produce una transición desde e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samiento Mitológico a un pensamiento Lógi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busc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icar estos fenómenos de manera más r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 ello surg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disciplina de la filosofía que racionaliza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nómenos de la naturaleza y la sociedad con difer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as que fundamenta y argumenta con prue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 el fin de lograr un dominio del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definición puede decirse q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osofía es el descubrimi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la argumenta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39236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68760" y="260280"/>
            <a:ext cx="746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a directri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toda actividad individual y social es la del b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e de la base que la virtud es un saber enseñable. 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fluencia en la Polí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su ob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República plantea una teoría de la educación,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edad y de la Constit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uctura la República, base de la democracia mod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de la sociedad en ca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42920" y="3068640"/>
            <a:ext cx="7128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92360" y="765000"/>
            <a:ext cx="617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bernantes o dirigentes que conducen el estado y se les ex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máxima formación en todos los ámbitos del saber hasta los 50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 la virtud del 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419640" y="2781360"/>
            <a:ext cx="23428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00720" y="836640"/>
            <a:ext cx="4333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de l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ardianes una combinación de policía y ejército encarg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la seguridad externa e inter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representa la virtud de la valent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vos o comerciantes y campesinos encargado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nutrición comercio y artesaní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 la virtud de la templ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justicia es la cuarta virtud que los cohesi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las dos primeras castas plantea la renuncia absoluta a la propiedad priv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676680" cy="6120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02920" y="638172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ágora de Ate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932360" y="765000"/>
            <a:ext cx="402264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istót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 filosofía abarca una cantidad enorme de te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lece una división del conocimiento en ram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icología, lógica, zoologí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dor de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a de la Filosofía dado que para cada tema ci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ica y reconstruye las teorías de otros filósofos y se convie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una fuente de ideas presocráticas la mayor parte extravi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5162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75840" y="857160"/>
            <a:ext cx="8570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iza el ca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materia permanece perdura en el proceso de ca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tiene una forma al inicio del proceso y otra al final conducente a una m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él la esencia de las cosas no se encuentra en las ideas sino en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as mismas que pueden ser animadas o inanim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771640" y="2637000"/>
            <a:ext cx="3591000" cy="3809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38040" y="6402240"/>
            <a:ext cx="311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istóteles representado por Rembran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68360" y="26028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 relación a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aleza busca sus causas a través de la materia,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a física que provoca un efecto, la finalidad qu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o debe cumplir y las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oma también las ideas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édocles y los cuatro elementos que relaci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 figuras geométrica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50920" y="2852640"/>
            <a:ext cx="55436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435640" y="1197000"/>
            <a:ext cx="351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aza la teoría de las ideas de Platón y establece las formas como las causas de las co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 detalladamente la natural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óg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partir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logis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os los seres humanos son mor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os los reyes son seres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os los reyes son mor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51991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49975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284720" y="1874160"/>
            <a:ext cx="45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us Vitruvius Poll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l autor de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igación más antig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bre arquitectu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ha llegado a nuestros días, trabajó durante el reinado del emperad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us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ribió un extenso sumario de toda la teoría sobre la construcción que había sido escrita hasta el momento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diez libros de la arquitectu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architectura libri dec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1720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2205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undo conocimiento de los escritos anteriores griegos y romanos que hoy se han perd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292720" y="692280"/>
            <a:ext cx="35226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3200" y="333360"/>
            <a:ext cx="7395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urge en el continente griego, a Atenas llega en el siglo V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o que en las colonias griegas de Asia Menor, 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eto y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sur de Italia en lugares como Ele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explicación para ello era el contacto con otras culturas a través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rcio maríti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98508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55640" y="2060640"/>
            <a:ext cx="3170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s de los escritos eran sobre proporciones, y nada menos que nueve hablaban de las "leyes de la simetría", que en terminología moderna significa en su mayor parte los sistemas de medición de mód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379080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189000"/>
            <a:ext cx="635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truvio trata no sólo un tema sino varias finalidades prácticas de la construc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ada una de ellas en un capítulo separado del lib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tratado puede verse como un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ección de teorías temáticas paralelas del dise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673416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4360" y="1916280"/>
            <a:ext cx="3384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truvio no da métodos para combinarlas en una síntesis, solamente presenta una clasificación de requisitos para construcciones: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abilidad (firmitas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ilidad o "conveniencia" (utilitas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leza (venusta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356000" y="981000"/>
            <a:ext cx="387216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4360" y="404640"/>
            <a:ext cx="799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o para casi toda la investigación posterior de la arquite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basa en las tradiciones de arquitectura griegas y también sobre las enseñanzas de Pitágoras de acuerdo con las cuales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moní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 creada aplicando l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rciones de los números enter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o estaba basado en observaciones anteriores de las cuerdas afinadas de los instrumentos y también sobre las proporciones del cuerpo humano que Vitruvio aplica también a la arquitectu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48960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605952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28036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333360"/>
            <a:ext cx="8136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mbitos y Etap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apa Presocrática : Fundadores de la Física 650 – 500 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e en la física a partir del estudio de la teoría de la naturaleza en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luego se incluye la teolog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apa Clásica: Los Sofistas - Atenas 480 – 320 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crates junto a Platón fundan la 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stóteles descubre La 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ta época se desarrollan obras importantes como la Acró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381636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836000" y="404640"/>
            <a:ext cx="59230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 Presocráticos aprox. 650 – 500 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aso del mito al pensamiento lógico es paula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can responder la siguiente pregun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Cuál es el origen del mund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respuesta habitualmente en un elemento pri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eto – Pitagóricos – Elea – Atom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71640" y="2781360"/>
            <a:ext cx="3659400" cy="3681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868000" y="6237360"/>
            <a:ext cx="24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agen del mundo según 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80640" y="189000"/>
            <a:ext cx="729036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radican en Mileto donde se agrupa un conjunto de pensadores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aleja del lenguaje mitológico y buscan una exp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cional del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es de Mileto era el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ximandro  el infinito eterno sin cua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xímenes el a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áclito  los opuestos y su luch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2314800" cy="2635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720" y="6021360"/>
            <a:ext cx="12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les de Mil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627280" y="3500280"/>
            <a:ext cx="1670040" cy="2395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59640" y="60930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ximan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877080" y="3357720"/>
            <a:ext cx="190512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020000" y="6093000"/>
            <a:ext cx="8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rácl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356000" y="3429000"/>
            <a:ext cx="2398680" cy="2406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71040" y="611352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xím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356000" y="404640"/>
            <a:ext cx="447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agó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ágor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número como principio del mundo material y so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e últim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a las cuatro ciencias que para el definen el univer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Aritmética, La Geometría, La Astronomía y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ústica o teoría r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la armon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preocupan de l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as teóricos y prácticos, de proble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ticos y pol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 a la esencia de los problem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 que lueg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á desarrollados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crates y Platón en la etapa 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76884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692280"/>
            <a:ext cx="369072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ge también en esta época 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cepticismo  como crítica radical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samiento mitológi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resentado p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nófa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que 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ursor de la Ontología  desarrollada por Parménides de El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u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ece q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 imposible que exista aquello que no se puede pens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ensamiento base de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nomenología posteri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cionada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existencia del homb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226040" y="333360"/>
            <a:ext cx="4132080" cy="5759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650920" y="61657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mé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6T18:52:54Z</dcterms:created>
  <dc:creator>Marcela Pizzi</dc:creator>
  <dc:description/>
  <dc:language>en-US</dc:language>
  <cp:lastModifiedBy>Marcela Pizzi</cp:lastModifiedBy>
  <dcterms:modified xsi:type="dcterms:W3CDTF">2005-03-28T00:43:03Z</dcterms:modified>
  <cp:revision>84</cp:revision>
  <dc:subject/>
  <dc:title>Diapositiva 1</dc:title>
</cp:coreProperties>
</file>