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03B-5015-4188-96A4-2A58554C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8ED-D498-4FFF-B391-03483B58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D22-5B3F-470C-91ED-4D9BCF67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B60-07C6-4C0E-9D1A-F4DEAE52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DA6-A03C-44DB-9495-3666178C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E25-B8D7-4CE4-8061-5FD51EC0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C3D-8FBA-4726-8E9B-684E0F5C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84F-E430-441E-927F-6B319E98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16BC-9EE0-4872-B683-F958158B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85E-86D7-475F-A02B-2562C886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840-0A67-45E3-9D10-F1C42FF1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E65-7F0C-4778-982B-21F32EC3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0FA0-AD3B-429C-89FA-256307EB3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4640" y="2924280"/>
            <a:ext cx="89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el rol del Arquitecto de hoy y del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9640" y="836640"/>
            <a:ext cx="66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de hace décadas Chile ha privilegiado el desarrollo económico en detrimento de los aspectos ecológicos y comunit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economía presentó por muchos tiempo un crecimiento sostenido desde 1984 convirtiéndose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modelo para el resto de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2997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 modelo económico basado en la diversificación de la exportación de materias primas, la privatiza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regulación y la incorporación a la economía glob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1413000"/>
            <a:ext cx="7380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lo se ha logrado a expensas de la sustentabilidad social y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o indica Larraín en 1996,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insustentabilidad ambiental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se expresa en el actual colapso de especies, la perdida de ecosistemas y suelos agrícolas, la multiplicación de zonas saturadas por la contaminación y el deteri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eneralizado de la salud de la población.”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1 Larraín, S. “¿Es Chile un país sustentable? Costos Políticos, Sociales, Ecológicos  y Culturales de la Inserción Global, el caso Chileno.” Ponencia al Seminario “The Social, Ecological, Cultural and Political Costs of Economic Globlization”, Washington DC, 1012 mayo, 1996, 8 pp, 199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1480" y="1341360"/>
            <a:ext cx="8642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insustentabilidad soci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 expresa en la proporción de nuestra población en situación de pobre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rededor de 4 millones de personas (25% aprox., 1 de cada 4 habitantes) de los cuales 1 millón llega a niveles de indig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77043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627280" y="0"/>
            <a:ext cx="2832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1620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1620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19280" y="1285920"/>
            <a:ext cx="69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97360"/>
            <a:ext cx="4643280" cy="57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2800440" cy="619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320" y="6093000"/>
            <a:ext cx="77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¿Es Santiago una ciudad susten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76720" y="189000"/>
            <a:ext cx="5500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136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a en 1997, en el titular de El Mercurio del 11 de ago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consigna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ongestión, Contaminación, Inseguridad Ciudadana, Déficit de Áreas Verdes y Esparcimiento, Estrés, falta de Calidad de Vida… son los problemas que enfren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s megaciudades – como Santiago- y que requieren un conjunto de soluciones para enfrentarl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" y="2924280"/>
            <a:ext cx="891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el rol del Arquitecto de hoy y del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nuestro rol como profesionales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idad de Ch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11280" y="206064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re los problemas urbanos más crítico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stra ciudad se cuen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Segregación y Ais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ci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éficit o inadecuada localización de equipamiento, servicios e infraestru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la calidad de construcción y diseño de edificaciones habitacionales y de su equip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upación de espacios no aptos para la vid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ciencia en las condicione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58000" y="2205000"/>
            <a:ext cx="7255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adecuada provisión de transporte público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l tránsito urb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l manejo de residuos sólidos y 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taminación de aguas y aire riesgo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undación y desliz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Brown Agend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2 Bartone, CR et al , “Managing the environmenta challenge of Megaregions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International Conference on Managing the Mega Urban Regions of Asian Countr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Policy Challenges and Responses.” Bangkok, Asia Institute of Technology,1992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920" y="2924280"/>
            <a:ext cx="753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Qué ocurre con el conocimi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el uso de dicho conocimiento para resolver 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blem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Cómo debe modificarse nuestro aprendiza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3068640"/>
            <a:ext cx="90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de la antigüedad el desarrollo del saber tuvo un cará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nificado, el conocimiento filosófico y el científico aparecí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d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3284640"/>
            <a:ext cx="65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el avance del conocimiento, se produce una división del trabajo y con ello desigualdades sociales, con lo que comienza una erosión de la unidad del conocimiento científico que culmina con la especialización y la diferenciación entre conocimiento filosófico y conocimiento científico se acentú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280" y="2421000"/>
            <a:ext cx="738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los siglos XVII y XVIII se produce un a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tiginoso de las ciencias naturales , aparec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s disciplinas, ciencias independiente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erenciadas con el consecuente progreso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ber y el conocimi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clasifican las ciencias en dos grande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es y Sociales a las que posterior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agregan las Técnicas, cuyo objeto es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eza; el hombre y sociedad; y la acció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física y la química respect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42100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la segunda mitad del siglo XX nac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ocupación por superar la fragmentación del sa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especialización produjo dos fenómenos no dese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pérdida de la unidad del sa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independencia de las partes que impide comprender el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2200" y="2924280"/>
            <a:ext cx="84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especialista según Ortega y Gasset 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“es esa cast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ombres sobremanera extraños… que saben muy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u mínimo rincón de universo, pero ignoran de raíz to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rest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280" y="596916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 “La Rebelión de las Mas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1840" y="2708280"/>
            <a:ext cx="804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quel que sabe cada vez más de un campo cada v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ás pequeño, hacia ese límite último, en el que sabr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odo de n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este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0960" y="2708280"/>
            <a:ext cx="791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 el siglo XX se caracterizó por el descubr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lo infinitamente pequeño (el átomo) y de 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initamente grande (el universo), el siglo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á el siglo de la reflexión acerca de lo infini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4312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549360"/>
            <a:ext cx="5867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arrollo económico tal como se ha llevado hasta ahora no es sostenible en el futuro dado el deterioro ecológico y comunitario produ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romete seriamente la calidad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desarrollo equilibrado de estos aspectos es esencial para la vida humana y la civi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ción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sarrollo Sust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2960" y="2924280"/>
            <a:ext cx="86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hace indispensable un comprensión hol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do que el conocimiento está dado por factores que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recruzan que han desembocado en problemas glob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7160" y="2637000"/>
            <a:ext cx="873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iencia debe entenderse como una fuerz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adora que afecte la producción,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relaciones de armonía entre el hombre y la natural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8200" y="692280"/>
            <a:ext cx="638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aprendizaje de hoy debe basarse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tegración del conocimiento o basado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blemas (ABP) fuerte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aracterizado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Interprofesion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multi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disciplinas cru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ter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búsqueda de lo necesario par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solución de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or sobre la acumulación de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332000" y="358920"/>
            <a:ext cx="73436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620640"/>
            <a:ext cx="64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el fin de encarar esta amenaza la Comisión Brudtland de Naciones Unidas en su infor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stro Futuro Común”, propuso esta idea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Desarrollo Sustentable”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énd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quel que satisface las necesidades básicas y las aspiraciones de bienestar de la población presente, sin comprometer las capacidades de las futuras generaciones para la satisfacción de sus propias necesidades y aspiraciones” 198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-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1628640"/>
            <a:ext cx="6681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ultáneamente impulsó un programa que busca mediante cambios en el proceso de desarrollo económico asegurar una calidad de vida digna a todas las personas y proteger el hábitat social y los ecosistemas entre ellos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las ciudades, aldeas y bar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o profesionales y especialmente de la Universidad de Chile nos corresponde aportar soluciones creativas a estos proble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565360"/>
            <a:ext cx="68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ciudades se han conformado como grandes y crecientes concentraciones de seres humanos que han deteriorado el medio ambiente natural, lo que hace urgente la generación de u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sarrollo susten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557360"/>
            <a:ext cx="64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e se entiende como la intersección equilibrada del desarrollo económico, comunitario y ecológ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 objetivos sin embargo no  siempre son compatibles o se privilegia uno (s) por sobre otros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0920" y="282600"/>
            <a:ext cx="640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 busca compatibilizar los intereses de los distintos grupos involucrados a través de cinco requerimi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ración de Desarrollo y Con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tisfacción de necesidades humana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gro de Equidad y Justici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ega de Autodeterminación Social y Diversida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tenimiento de la Integridad Ecológ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3213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¿Es Chile un país con una cultura susten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1:40:40Z</dcterms:created>
  <dc:creator>Marcela Pizzi</dc:creator>
  <dc:description/>
  <dc:language>en-US</dc:language>
  <cp:lastModifiedBy>Marcela Pizzi</cp:lastModifiedBy>
  <dcterms:modified xsi:type="dcterms:W3CDTF">2009-03-25T00:03:39Z</dcterms:modified>
  <cp:revision>33</cp:revision>
  <dc:subject/>
  <dc:title>Diapositiva 1</dc:title>
</cp:coreProperties>
</file>