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2801-E1B7-4C0A-B287-A89A389F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B1A4-4D5F-4EE9-8AC6-5FF82FB0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219-65E9-4485-87EC-E62C9D9B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DD1-E034-4BFF-9F28-A6C22589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DCB6-7951-4790-86B6-7C156052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31F2-08CE-4A73-A593-3D5CE39D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AA9F-3083-4A3D-A6F5-C0066A5B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183-4F15-43EF-A23E-1D694807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A78-1153-4B04-96E5-0C65815D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0CFC-AB4F-4740-A33D-D2A9C430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A6F-42AF-432A-A3FC-6F3ED676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9FC8-E005-40AB-B6EA-843ED80E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8B33-4307-48B2-BA52-6223E4605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4640" y="2924280"/>
            <a:ext cx="89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es el rol del Arquitecto de hoy y del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9640" y="836640"/>
            <a:ext cx="669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de hace décadas Chile ha privilegiado el desarrollo económico en detrimento de los aspectos ecológicos y comunit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economía presentó por muchos tiempo un crecimiento sostenido desde 1984 convirtiéndose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modelo para el resto de Amé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2997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 modelo económico basado en la diversificación de la exportación de materias primas, la privatizació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regulación y la incorporación a la economía glob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1413000"/>
            <a:ext cx="73803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lo se ha logrado a expensas de la sustentabilidad social y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mo indica Larraín en 1996, l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insustentabilidad ambiental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se expresa en el actual colapso de especies, la perdida de ecosistemas y suelos agrícolas, la multiplicación de zonas saturadas por la contaminación y el deterio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eneralizado de la salud de la población.”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1 Larraín, S. “¿Es Chile un país sustentable? Costos Políticos, Sociales, Ecológicos  y Culturales de la Inserción Global, el caso Chileno.” Ponencia al Seminario “The Social, Ecological, Cultural and Political Costs of Economic Globlization”, Washington DC, 1012 mayo, 1996, 8 pp, 199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1480" y="1341360"/>
            <a:ext cx="8642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insustentabilidad soci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 expresa en la proporción de nuestra población en situación de pobre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rededor de 4 millones de personas (25% aprox., 1 de cada 4 habitantes) de los cuales 1 millón llega a niveles de indig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77043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627280" y="0"/>
            <a:ext cx="28321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1620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1620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19280" y="1285920"/>
            <a:ext cx="6948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797360"/>
            <a:ext cx="4643280" cy="57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24360" y="260280"/>
            <a:ext cx="2800440" cy="619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3320" y="6093000"/>
            <a:ext cx="77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¿Es Santiago una ciudad susten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76720" y="189000"/>
            <a:ext cx="5500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136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a en 1997, en el titular de El Mercurio del 11 de agos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 consigna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ongestión, Contaminación, Inseguridad Ciudadana, Déficit de Áreas Verdes y Esparcimiento, Estrés, falta de Calidad de Vida… son los problemas que enfrent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s megaciudades – como Santiago- y que requieren un conjunto de soluciones para enfrentarl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640" y="2924280"/>
            <a:ext cx="891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es el rol del Arquitecto de hoy y del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es nuestro rol como profesionales de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idad de Chi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11280" y="206064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re los problemas urbanos más crítico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stra ciudad se cuen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Segregación y Ais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ci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éficit o inadecuada localización de equipamiento, servicios e infraestru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la calidad de construcción y diseño de edificaciones habitacionales y de su equip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upación de espacios no aptos para la vid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ciencia en las condiciones de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58000" y="2205000"/>
            <a:ext cx="7255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adecuada provisión de transporte público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l tránsito urb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l manejo de residuos sólidos y líqu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taminación de aguas y aire riesgo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undación y desliz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Brown Agend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2 Bartone, CR et al , “Managing the environmenta challenge of Megaregions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International Conference on Managing the Mega Urban Regions of Asian Countr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Policy Challenges and Responses.” Bangkok, Asia Institute of Technology,1992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920" y="2924280"/>
            <a:ext cx="753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¿Qué ocurre con el conocimi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¿el uso de dicho conocimiento para resolver 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blem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¿Cómo debe modificarse nuestro aprendiza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280" y="3068640"/>
            <a:ext cx="90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de la antigüedad el desarrollo del saber tuvo un cará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nificado, el conocimiento filosófico y el científico aparecí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nd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3284640"/>
            <a:ext cx="65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 el avance del conocimiento, se produce una división del trabajo y con ello desigualdades sociales, con lo que comienza una erosión de la unidad del conocimiento científico que culmina con la especialización y la diferenciación entre conocimiento filosófico y conocimiento científico se acentú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280" y="2421000"/>
            <a:ext cx="738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los siglos XVII y XVIII se produce un a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tiginoso de las ciencias naturales , aparec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s disciplinas, ciencias independientes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erenciadas con el consecuente progreso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ber y el conocimi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clasifican las ciencias en dos grandes gru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es y Sociales a las que posterior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agregan las Técnicas, cuyo objeto es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eza; el hombre y sociedad; y la acción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física y la química respectiv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42100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la segunda mitad del siglo XX nac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ocupación por superar la fragmentación del sa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especialización produjo dos fenómenos no dese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pérdida de la unidad del sa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independencia de las partes que impide comprender el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2200" y="2924280"/>
            <a:ext cx="84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especialista según Ortega y Gasset 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“es esa cast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ombres sobremanera extraños… que saben muy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u mínimo rincón de universo, pero ignoran de raíz to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rest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280" y="596916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3 “La Rebelión de las Mas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1840" y="2708280"/>
            <a:ext cx="804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quel que sabe cada vez más de un campo cada v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ás pequeño, hacia ese límite último, en el que sabr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odo de na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ester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0960" y="2708280"/>
            <a:ext cx="791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 el siglo XX se caracterizó por el descubr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lo infinitamente pequeño (el átomo) y de 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initamente grande (el universo), el siglo X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á el siglo de la reflexión acerca de lo infini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4312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549360"/>
            <a:ext cx="5867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arrollo económico tal como se ha llevado hasta ahora no es sostenible en el futuro dado el deterioro ecológico y comunitario produ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romete seriamente la calidad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desarrollo equilibrado de estos aspectos es esencial para la vida humana y la civil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ción 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sarrollo Suste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2960" y="2924280"/>
            <a:ext cx="86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hace indispensable un comprensión hol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do que el conocimiento está dado por factores que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recruzan que han desembocado en problemas glob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7160" y="2637000"/>
            <a:ext cx="873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ciencia debe entenderse como una fuerz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ormadora que afecte la producción, l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relaciones de armonía entre el hombre y la natural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8200" y="692280"/>
            <a:ext cx="6380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aprendizaje de hoy debe basarse e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tegración del conocimiento o basado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blemas (ABP) fuerte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aracterizado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Interprofesion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multidisci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disciplinas cruz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terdisci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disci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búsqueda de lo necesario para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solución de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or sobre la acumulación de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332000" y="358920"/>
            <a:ext cx="73436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620640"/>
            <a:ext cx="64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 el fin de encarar esta amenaza la Comisión Brudtland de Naciones Unidas en su infor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stro Futuro Común”, propuso esta idea 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Desarrollo Sustentable”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énd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quel que satisface las necesidades básicas y las aspiraciones de bienestar de la población presente, sin comprometer las capacidades de las futuras generaciones para la satisfacción de sus propias necesidades y aspiraciones” 198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-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1628640"/>
            <a:ext cx="6681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ultáneamente impulsó un programa que busca mediante cambios en el proceso de desarrollo económico asegurar una calidad de vida digna a todas las personas y proteger el hábitat social y los ecosistemas entre ellos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las ciudades, aldeas y barr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o profesionales y especialmente de la Universidad de Chile nos corresponde aportar soluciones creativas a estos proble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565360"/>
            <a:ext cx="68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ciudades se han conformado como grandes y crecientes concentraciones de seres humanos que han deteriorado el medio ambiente natural, lo que hace urgente la generación de u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sarrollo susten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1557360"/>
            <a:ext cx="640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e se entiende como la intersección equilibrada del desarrollo económico, comunitario y ecológ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 objetivos sin embargo no  siempre son compatibles o se privilegia uno (s) por sobre otros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0920" y="282600"/>
            <a:ext cx="6408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 busca compatibilizar los intereses de los distintos grupos involucrados a través de cinco requerimi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gración de Desarrollo y Conser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tisfacción de necesidades humana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gro de Equidad y Justicia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rega de Autodeterminación Social y Diversidad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tenimiento de la Integridad Ecológ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3213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¿Es Chile un país con una cultura sustent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1:40:40Z</dcterms:created>
  <dc:creator>Marcela Pizzi</dc:creator>
  <dc:description/>
  <dc:language>en-US</dc:language>
  <cp:lastModifiedBy>Marcela Pizzi</cp:lastModifiedBy>
  <dcterms:modified xsi:type="dcterms:W3CDTF">2009-03-25T00:03:39Z</dcterms:modified>
  <cp:revision>33</cp:revision>
  <dc:subject/>
  <dc:title>Diapositiva 1</dc:title>
</cp:coreProperties>
</file>