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CD5-DC93-42D0-B69F-C8EEADB5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0ED-C879-407F-8571-5B6D2DD0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B98-FC48-4B54-ACB4-436A77AD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6A7-2D66-4DB6-A44D-99C3AD5C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024-564C-4EB5-9333-EC7302E8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0BD-5760-4D4A-B1C2-328C7102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683-CD60-4602-AEC4-0694E4B2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0F3-EDE2-42E1-944F-D5E147CA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463-37B6-4434-8CBC-E81DC795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71E-DABE-4C49-AAA8-29DA1F4A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421-EBD3-406A-87FE-991F5BD0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175-383B-462D-95B9-8653A852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DAA1-4E0C-4E24-B91C-1EB9A0A1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4640" y="2924280"/>
            <a:ext cx="89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836640"/>
            <a:ext cx="66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 hace décadas Chile ha privilegiado el desarrollo económico en detrimento de los aspectos ecológicos y comuni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economía presentó por muchos tiempo un crecimiento sostenido desde 1984 convirtiéndose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modelo para el resto de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 modelo económico basado en la diversificación de la exportación de materias primas, la privatiz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regulación y la incorporación a la economía glob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1413000"/>
            <a:ext cx="7380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lo se ha logrado a expensas de la sustentabilidad social y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indica Larraín en 1996,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insustentabilidad ambi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se expresa en el actual colapso de especies, la perdida de ecosistemas y suelos agrícolas, la multiplicación de zonas saturadas por la contaminación y el deteri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eneralizado de la salud de la población.”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1 Larraín, S. “¿Es Chile un país sustentable? Costos Políticos, Sociales, Ecológicos  y Culturales de la Inserción Global, el caso Chileno.” Ponencia al Seminario “The Social, Ecological, Cultural and Political Costs of Economic Globlization”, Washington DC, 1012 mayo, 1996, 8 pp,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480" y="134136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insustentabilidad so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expresa en la proporción de nuestra población en situación de pobre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rededor de 4 millones de personas (25% aprox., 1 de cada 4 habitantes) de los cuales 1 millón llega a niveles de indig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7704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2832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1620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1285920"/>
            <a:ext cx="69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97360"/>
            <a:ext cx="4643280" cy="57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800440" cy="619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320" y="609300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¿Es Santiago una ciudad susten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5500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1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a en 1997, en el titular de El Mercurio del 11 de ago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consign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ngestión, Contaminación, Inseguridad Ciudadana, Déficit de Áreas Verdes y Esparcimiento, Estrés, falta de Calidad de Vida… son los problemas que enfren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s megaciudades – como Santiago- y que requieren un conjunto de soluciones para enfrentarl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" y="2924280"/>
            <a:ext cx="891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nuestro rol como profesionales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dad de Ch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206064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 los problemas urbanos más crític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a ciudad se cu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Segregación y Ais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ci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éficit o inadecuada localización de equipamiento, servicios e 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a calidad de construcción y diseño de edificaciones habitacionales y de su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upación de espacios no aptos para la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ciencia en las condicione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58000" y="2205000"/>
            <a:ext cx="7255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adecuada provisión de transporte públic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tránsito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 manejo de residuos sólidos y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minación de aguas y aire riesg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undación y desliz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Brown Agend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2 Bartone, CR et al , “Managing the environmenta challenge of Megaregion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International Conference on Managing the Mega Urban Regions of Asian Countr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Policy Challenges and Responses.” Bangkok, Asia Institute of Technology,1992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920" y="2924280"/>
            <a:ext cx="753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Qué ocurre con el conocimi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el uso de dicho conocimiento para resolver 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ble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Cómo debe modificarse nuestro aprendiza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3068640"/>
            <a:ext cx="90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de la antigüedad el desarrollo del saber tuvo un cará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ificado, el conocimiento filosófico y el científico aparecí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284640"/>
            <a:ext cx="65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avance del conocimiento, se produce una división del trabajo y con ello desigualdades sociales, con lo que comienza una erosión de la unidad del conocimiento científico que culmina con la especialización y la diferenciación entre conocimiento filosófico y conocimiento científico se acentú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280" y="2421000"/>
            <a:ext cx="738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os siglos XVII y XVIII se produce un a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tiginoso de las ciencias naturales , aparec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s disciplinas, ciencias independient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erenciadas con el consecuente progres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ber y el conoci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clasifican las ciencias en dos grande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s y Sociales a las que posterio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agregan las Técnicas, cuyo objeto e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za; el hombre y sociedad; y la ac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física y la química respec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42100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a segunda mitad del siglo XX nac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ocupación por superar la fragmentación del sa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especialización produjo dos fenómenos no dese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pérdida de la unidad del s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independencia de las partes que impide comprender el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2200" y="2924280"/>
            <a:ext cx="84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especialista según Ortega y Gasset 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“es esa cast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ombres sobremanera extraños… que saben muy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 mínimo rincón de universo, pero ignoran de raíz t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res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280" y="596916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 “La Rebelión de las Mas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1840" y="2708280"/>
            <a:ext cx="804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quel que sabe cada vez más de un campo cada v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ás pequeño, hacia ese límite último, en el que sabr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 de n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este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0960" y="2708280"/>
            <a:ext cx="791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el siglo XX se caracterizó por el descubr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o infinitamente pequeño (el átomo) y de 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initamente grande (el universo), el siglo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á el siglo de la reflexión acerca de lo infin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4312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49360"/>
            <a:ext cx="586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 económico tal como se ha llevado hasta ahora no es sostenible en el futuro dado el deterioro ecológico y comunitario produ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omete seriamente la 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desarrollo equilibrado de estos aspectos es esencial para la vida humana y la civi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ón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2960" y="2924280"/>
            <a:ext cx="86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hace indispensable un comprensión hol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do que el conocimiento está dado por factores qu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cruzan que han desembocado en problema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7160" y="2637000"/>
            <a:ext cx="87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iencia debe entenderse como una fuerz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adora que afecte la producción,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relaciones de armonía entre el hombre y la natural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8200" y="692280"/>
            <a:ext cx="638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prendizaje de hoy debe basarse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gración del conocimiento o basado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blemas (ABP) fuerte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racteriz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Interprofesion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multi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disciplinas cru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r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búsqueda de lo necesario pa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olución de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r sobre la acumul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2000" y="358920"/>
            <a:ext cx="73436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620640"/>
            <a:ext cx="64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fin de encarar esta amenaza la Comisión Brudtland de Naciones Unidas en su infor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o Futuro Común”, propuso esta idea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Desarrollo Sustentable”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énd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quel que satisface las necesidades básicas y las aspiraciones de bienestar de la población presente, sin comprometer las capacidades de las futuras generaciones para la satisfacción de sus propias necesidades y aspiraciones” 19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-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1628640"/>
            <a:ext cx="668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ultáneamente impulsó un programa que busca mediante cambios en el proceso de desarrollo económico asegurar una calidad de vida digna a todas las personas y proteger el hábitat social y los ecosistemas entre ellos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as ciudades, aldeas y bar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 profesionales y especialmente de la Universidad de Chile nos corresponde aportar soluciones creativas a estos probl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56536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ciudades se han conformado como grandes y crecientes concentraciones de seres humanos que han deteriorado el medio ambiente natural, lo que hace urgente la generación de u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557360"/>
            <a:ext cx="64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e se entiende como la intersección equilibrada del desarrollo económico, comunitario y ecológ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 objetivos sin embargo no  siempre son compatibles o se privilegia uno (s) por sobre otros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282600"/>
            <a:ext cx="640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busca compatibilizar los intereses de los distintos grupos involucrados a través de cinco requerimi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ción de Desarrollo y Con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isfacción de necesidades humana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ro de Equidad y Justi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ga de Autodeterminación Social y Diversida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tenimiento de la Integridad Ecológ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3213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¿Es Chile un país con una cultura susten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40:40Z</dcterms:created>
  <dc:creator>Marcela Pizzi</dc:creator>
  <dc:description/>
  <dc:language>en-US</dc:language>
  <cp:lastModifiedBy>Marcela Pizzi</cp:lastModifiedBy>
  <dcterms:modified xsi:type="dcterms:W3CDTF">2009-03-25T00:03:39Z</dcterms:modified>
  <cp:revision>33</cp:revision>
  <dc:subject/>
  <dc:title>Diapositiva 1</dc:title>
</cp:coreProperties>
</file>