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0FD-9501-4F9E-9F12-818743A4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FF9-C54B-4DA8-9781-4D3D42B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FD3-1BC1-4E52-9A26-35B5EEF7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D06-3A02-4007-9751-0732B1C7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8A3-D1A6-44F8-8512-A1BB3E1A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CC7-C24F-40FA-ADF2-8F154A00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EC09-351D-40D5-848E-57B6880E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F3A-C34B-46F5-ACFC-DFBDBF75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F03-2C69-451D-92B4-4365709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9A9-4326-4E73-B697-D98E07D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C7F-9B4F-4D3E-B885-DDA966A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BE0-6233-404B-897E-0FA8A58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A77B-E508-4125-BDC5-E90068C26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4640" y="2924280"/>
            <a:ext cx="89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9640" y="836640"/>
            <a:ext cx="66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 hace décadas Chile ha privilegiado el desarrollo económico en detrimento de los aspectos ecológicos y comuni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economía presentó por muchos tiempo un crecimiento sostenido desde 1984 convirtiéndose 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 modelo para el resto de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299736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 modelo económico basado en la diversificación de la exportación de materias primas, la privatiz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regulación y la incorporación a la economía glob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1413000"/>
            <a:ext cx="7380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lo se ha logrado a expensas de la sustentabilidad social y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mo indica Larraín en 1996,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insustentabilidad ambient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se expresa en el actual colapso de especies, la perdida de ecosistemas y suelos agrícolas, la multiplicación de zonas saturadas por la contaminación y el deterio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eralizado de la salud de la población.”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1 Larraín, S. “¿Es Chile un país sustentable? Costos Políticos, Sociales, Ecológicos  y Culturales de la Inserción Global, el caso Chileno.” Ponencia al Seminario “The Social, Ecological, Cultural and Political Costs of Economic Globlization”, Washington DC, 1012 mayo, 1996, 8 pp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480" y="134136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insustentabilidad so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 expresa en la proporción de nuestra población en situación de pobre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rededor de 4 millones de personas (25% aprox., 1 de cada 4 habitantes) de los cuales 1 millón llega a niveles de indig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7704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28321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6200" y="186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1620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19280" y="1285920"/>
            <a:ext cx="69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97360"/>
            <a:ext cx="4643280" cy="57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800440" cy="619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3320" y="6093000"/>
            <a:ext cx="77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¿Es Santiago una ciudad susten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76720" y="189000"/>
            <a:ext cx="5500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a en 1997, en el titular de El Mercurio del 11 de agos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consigna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ongestión, Contaminación, Inseguridad Ciudadana, Déficit de Áreas Verdes y Esparcimiento, Estrés, falta de Calidad de Vida… son los problemas que enfren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s megaciudades – como Santiago- y que requieren un conjunto de soluciones para enfrentarlo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4640" y="2924280"/>
            <a:ext cx="891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el rol del Arquitecto de hoy y del maña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¿Cuál es nuestro rol como profesionales de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dad de Chi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206064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 los problemas urbanos más crític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a ciudad se cuent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Segregación y Ais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ci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éficit o inadecuada localización de equipamiento, servicios e infra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la calidad de construcción y diseño de edificaciones habitacionales y de su equip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upación de espacios no aptos para la vid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ciencia en las condiciones de f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58000" y="2205000"/>
            <a:ext cx="7255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adecuada provisión de transporte públic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l tránsito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manejo de residuos sólidos y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taminación de aguas y aire riesgos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undación y desli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Brown Agend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2 Bartone, CR et al , “Managing the environmenta challenge of Megaregions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International Conference on Managing the Mega Urban Regions of Asian Countr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Policy Challenges and Responses.” Bangkok, Asia Institute of Technology,1992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920" y="2924280"/>
            <a:ext cx="75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Qué ocurre con el conocimi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el uso de dicho conocimiento para resolver 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ble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¿Cómo debe modificarse nuestro aprendiza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1620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306864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de la antigüedad el desarrollo del saber tuvo un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nificado, el conocimiento filosófico y el científico aparecí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u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3284640"/>
            <a:ext cx="65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avance del conocimiento, se produce una división del trabajo y con ello desigualdades sociales, con lo que comienza una erosión de la unidad del conocimiento científico que culmina con la especialización y la diferenciación entre conocimiento filosófico y conocimiento científico se acentú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7280" y="2421000"/>
            <a:ext cx="738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os siglos XVII y XVIII se produce un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inoso de las ciencias naturales , aparec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s disciplinas, ciencias independiente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erenciadas con el consecuente progreso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ber y el conocimi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clasifican las ciencias en dos grande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s y Sociales a las que posterior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agregan las Técnicas, cuyo objeto es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eza; el hombre y sociedad; y la ac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física y la química respectiv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42100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la segunda mitad del siglo XX nac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ocupación por superar la fragmentación del sa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especialización produjo dos fenómenos no dese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pérdida de la unidad del s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independencia de las partes que impide comprender el 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200" y="2924280"/>
            <a:ext cx="84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especialista según Ortega y Gasset 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“es esa cast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ombres sobremanera extraños… que saben 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u mínimo rincón de universo, pero ignoran de raíz to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res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280" y="596916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 “La Rebelión de las Mas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840" y="2708280"/>
            <a:ext cx="804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quel que sabe cada vez más de un campo cad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pequeño, hacia ese límite último, en el que sabr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o de nad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este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0960" y="2708280"/>
            <a:ext cx="79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el siglo XX se caracterizó por el descubr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o infinitamente pequeño (el átomo) y de 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initamente grande (el universo), el siglo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á el siglo de la reflexión acerca de lo infin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4312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43280" y="549360"/>
            <a:ext cx="5867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arrollo económico tal como se ha llevado hasta ahora no es sostenible en el futuro dado el deterioro ecológico y comunitario produc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omete seriamente la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desarrollo equilibrado de estos aspectos es esencial para la vida humana y la civil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ción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2960" y="2924280"/>
            <a:ext cx="86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 hace indispensable un comprensión hol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o que el conocimiento está dado por factores qu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recruzan que han desembocado en problema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7160" y="2637000"/>
            <a:ext cx="87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iencia debe entenderse como una fuerz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ormadora que afecte la producción, la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relaciones de armonía entre el hombre y la natural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78200" y="692280"/>
            <a:ext cx="638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prendizaje de hoy debe basarse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gración del conocimiento o basado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blemas (ABP) fuerte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aracteriz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Interprofesi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ulti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disciplinas cruz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ter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sdiscipl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n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búsqueda de lo necesario pa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solución de un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sobre la acumul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358920"/>
            <a:ext cx="73436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620640"/>
            <a:ext cx="64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 el fin de encarar esta amenaza la Comisión Brudtland de Naciones Unidas en su infor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stro Futuro Común”, propuso esta idea d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Desarrollo Sustentable”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énd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quel que satisface las necesidades básicas y las aspiraciones de bienestar de la población presente, sin comprometer las capacidades de las futuras generaciones para la satisfacción de sus propias necesidades y aspiraciones” 19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-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1628640"/>
            <a:ext cx="6681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ultáneamente impulsó un programa que busca mediante cambios en el proceso de desarrollo económico asegurar una calidad de vida digna a todas las personas y proteger el hábitat social y los ecosistemas entre ellos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las ciudades, aldeas y barr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o profesionales y especialmente de la Universidad de Chile nos corresponde aportar soluciones creativas a esto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565360"/>
            <a:ext cx="68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ciudades se han conformado como grandes y crecientes concentraciones de seres humanos que han deteriorado el medio ambiente natural, lo que hace urgente la generación de u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sarrollo suste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1557360"/>
            <a:ext cx="64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e se entiende como la intersección equilibrada del desarrollo económico, comunitario y ecológ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s objetivos sin embargo no  siempre son compatibles o se privilegia uno (s) por sobre otros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282600"/>
            <a:ext cx="6408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 busca compatibilizar los intereses de los distintos grupos involucrados a través de cinco requerimi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ción de Desarrollo y Con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acción de necesidades humana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ro de Equidad y Justi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rega de Autodeterminación Social y Divers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tenimiento de la Integridad Ecológ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360" y="1484280"/>
            <a:ext cx="148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o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zzi – Valen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U . U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32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¿Es Chile un país con una cultura susten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40:40Z</dcterms:created>
  <dc:creator>Marcela Pizzi</dc:creator>
  <dc:description/>
  <dc:language>en-US</dc:language>
  <cp:lastModifiedBy>Marcela Pizzi</cp:lastModifiedBy>
  <dcterms:modified xsi:type="dcterms:W3CDTF">2009-03-25T00:03:39Z</dcterms:modified>
  <cp:revision>33</cp:revision>
  <dc:subject/>
  <dc:title>Diapositiva 1</dc:title>
</cp:coreProperties>
</file>