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E78-DF18-4EBC-8C88-2C8AEA14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36D-7F3D-495D-84D9-F59A77A9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81F-AC1A-48E0-ACD3-E1B3D09C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F53-A7B4-4142-9CA2-D08C8E82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6AE-5A92-4FC2-BCFE-14F094B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51F-02CB-480E-BED6-8DE2C49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B4C-3075-4A50-871D-9C61B75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702-DB0B-4DE5-90E7-023041D8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CFF-3A46-4F13-A2BC-B157A9CA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C00-8003-4439-8545-EF31CA3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150-2B4E-4EA2-A115-F4ED437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68A-0025-4FCB-91C9-4EF4F80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21E8-67FD-44B7-9F18-738F0AB8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TEORIA DE LA ARQUITECTURA I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280" y="486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OFESOR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cela Pizzi Kirschb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ía Paz Valenzuela Blos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34136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studio comparativo de las disciplinas relacionadas con el estudio de la arquitectura, tales como la filosofía, el arte la ciencia, la historia y l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Introducción al pensamiento filosófico contemp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finición y análisis de la disciplina de la arquitectura y sus componentes desde un punto de vista teórico - filosó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9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34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sarrollo de diferentes conceptos relacionados a la disciplina tales como el espacio y l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Relación y manifestación de las problemáticas planteadas en la realidad actual - local y global.</a:t>
            </a:r>
            <a:r>
              <a:rPr b="1" lang="es-ES" sz="32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047600"/>
            <a:ext cx="8640720" cy="543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900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ESTRATEGIAS DE ENSEÑANZA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Clases expositivas con material de apoyo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ecturas de material pertinente a las temáticas desarrolladas para discusión en clase o elaboración de presentación con una postura crítica frente al mismo por los alumnos de manera individual o gru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Elaboración de presentaciones frente a una temática d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Visitas a exposiciones y seminarios vigentes en el año.</a:t>
            </a:r>
            <a:r>
              <a:rPr b="1" lang="es-E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EVAL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28916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uebas definidas por la Dirección de Escuela para el año académico. Estas no evaluarán contenido sino más bien la interpretación por parte de los alumnos de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a Nota Final del curso se compon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Primer Semestre 3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, Prueba 3  4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Segundo Semestre 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  y Prueba 3 4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rabajos e Informes de Películas, 15%, Trabajo Grupal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8100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xtos Generales de Filosofía y 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Brugger, Walter, Diccionario de Filosofía, Editorial Herder, 19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elius, Christoph et al. ,Historia de la Filosofía ,Editorial Könemann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ujovne, León, Teoría de los valores y filosofía de la historia, Paidos,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Ferrater Mora, José,  Diccionario de Filosofía, Editorial Sudamericana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eiddegger, Martín, Ciencia y Técnica, Editorial Universitaria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Kuhn, Thomas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, La Estructura de la Revoluciones Científicas , FCE,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Tedeschi, Enrico, Teoría de la Arquitectura, Nueva Visión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981000"/>
            <a:ext cx="87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Fenomenología, Espacio,Teoría de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chelard, Gastón, La Poética del Espacio, FCE, 1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degger, Martín, Ser y Tiempo, Ed. Universitaria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 et al., Cuerpo , Memoria y Arquitectura, Editorial Blume,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, et al.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Dimensiones de la Arq, Espacio, Forma y Escala, E. G. Gili,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xistencia, Espacio y Arquitectura, Editorial Blume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l significado de la arquitectura Occidental, Ed. Summa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Intenciones en la Arquitectura, Ed. Gustavo Gili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Norberg-Schulz,Christian, Genius Loci, Towards a Phenomenology in Arch. ,Rizzoli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Rasmussen, Teen Biler, Experiencing Architecture,MIT Press, 19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836640"/>
            <a:ext cx="92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ercepción y Prox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Arnheim, Rudolf, El pensamiento visual, Eudeba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all, ET, La Dimensión Oculta, Ed. Siglo XXI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Lynch, Kevin, La Imagen de la Ciudad, Editorial Infinito,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36640"/>
            <a:ext cx="851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eoría de la Arquit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nham, Reyner, Teoría y Diseño en la era de la Máquina, Ed. G. Gili, 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egger, Martín, Construir, Habitar, Pensar, Revista Teoría, págs 150 a 163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Kahn, Louis, Forma y Diseño, Nueva Visión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Le Corbusier, Hacia una Arquitectura, Apóstrofe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oth, Leland, Entender la Arq. :  Sus Elementos, Historia y Significado, Ed.G.Gili,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uskin, John, Las Siete Lámparas de la Arquitectura, Alta Fulla Ed.,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Vitruvio, Marco Lucio, Los Diez libros de Arquitectura, Akal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Walter Kruft, Hanno, Historia de la Teoría de la Arquitectura, Alianza Editorial,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Zevi, Bruno, Saber Ver la Arquitectura, Poseidó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76500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•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Bonfanti, Enzo et. Al , Arquitectura Racionalista, Ed. Alianza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ollins, Peter, Los Ideales de la Arquitectura Moderna; su evolución, Ed. G. Gili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Internacional, Ultimas Tendencias, Ed. G. Gili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Tardomoderna y Otros Ensayos, Ed. G.Gili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Lenguaje de la arquitectura posmoderna, Ed. G.Gili,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Movimiento Moderno en Arquitectura, Ed. Blume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"/>
              </a:rPr>
              <a:t>Jencks, Charles, What is Posmodernism?, Art Design,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oos, Adolf, Ornamento y Delito y otros escritos, Ed. G. Gili,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yotard, Jean Francois, La Condición Posmoderna, Cátedra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acrae – Gibson, Gavin, La Vida Secreta de los Edificios, Ed. Nevea, 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Arquitectura y Crítica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Después del Movimiento Moderno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Rossi, Aldo, La Arquitectura de la Ciudad, Ed. G.Gili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 et al, Aprendiendo de Las Vegas, Ed. G. Gili,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, Complejidad y Contradicción en Arquitectura, Ed. G. Gili,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820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Profes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nálisis de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ompletar fi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rmar grupos de 5 inte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elícula Koyanitska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ORIA DE LA ARQUITECTURA I </a:t>
            </a: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IZZI/VALENZUELA</a:t>
            </a:r>
            <a:br>
              <a:rPr sz="2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SESION 1 11/03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700280"/>
            <a:ext cx="8640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uaderno universitario o Croqu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rchivador tamaño carta para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to tamaño carnet o pasapo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(plazo máximo 25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85920"/>
            <a:ext cx="32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Christian Norberg Schu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artín Heidd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acques Der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Francois Lyo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Baudrill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urgen Habe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Karl P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Edmund Huss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ichel Fouc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homas Ku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Richard Ro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Marc-Antoine Laug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Louis 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John Ru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Filósofo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9012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060640"/>
            <a:ext cx="7810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"/>
              </a:rPr>
              <a:t>Esta asignatura contribuye al desarrollo del Perfil Profesional del Arquitecto en el ámbito de el conocimiento de la Teoría de la Arquitectura como fundamento de la discipl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 través de una aproximación general trata los aspectos básicos que explican y posibilitan un pensamiento arquitectónico reflexiv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urso pretende sentar las bases para entender los fundamentos de la arquitectura tanto con relación a otras disciplinas como entre los diferentes pensamientos al interior de la mis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812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El dominio básico de los medios y herramientas para comunicar de manera oral y escrita, ideas y fundamentos con relación a problemáticas tanto urbanas como arquitectó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121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onocimiento básico de la historia, las teorías de la Arquitectura, el arte, la estética y las ciencias humanas y su inte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060640"/>
            <a:ext cx="81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Century"/>
              </a:rPr>
              <a:t>El Conocimiento, sensibilidad y compromiso frente a los temas del debate arquitectónico actual-local y global.</a:t>
            </a:r>
            <a:r>
              <a:rPr b="1" lang="es-ES" sz="3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0:39:06Z</dcterms:created>
  <dc:creator>Marcela Pizzi</dc:creator>
  <dc:description/>
  <dc:language>en-US</dc:language>
  <cp:lastModifiedBy>Marcela Pizzi</cp:lastModifiedBy>
  <dcterms:modified xsi:type="dcterms:W3CDTF">2009-03-10T22:35:59Z</dcterms:modified>
  <cp:revision>32</cp:revision>
  <dc:subject/>
  <dc:title>Diapositiva 1</dc:title>
</cp:coreProperties>
</file>