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3EB-3531-4D08-B2E2-46D01AB1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7EF-719C-4DC4-8E1F-C92053A8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C3B3-8E05-45B5-9E72-3B86C6B7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6F1E-B6EF-48F0-AC53-DD1CE0DD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FEF-742B-4F74-8468-187385E5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B32-878C-4E41-B653-70A237C7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CD14-62AC-4E56-887A-B7CC8C3A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B69-25DD-4D47-A30D-98F2B0D5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428-2B0A-4FFC-AC2F-8EC94291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77A-8C0C-4E89-B2F9-B80A9F32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BD9-4D1A-4F40-B49F-EEA7C677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846-FA53-437B-9A3E-7BD5442C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D8EC-4E76-45A8-A2FA-BD17DC17A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87480" y="190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Century"/>
              </a:rPr>
              <a:t>TEORIA DE LA ARQUITECTURA I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Century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280" y="486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PROFESOR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Marcela Pizzi Kirschba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María Paz Valenzuela Blos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120" y="1865160"/>
            <a:ext cx="80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34136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Estudio comparativo de las disciplinas relacionadas con el estudio de la arquitectura, tales como la filosofía, el arte la ciencia, la historia y la crí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Introducción al pensamiento filosófico contemporáne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Definición y análisis de la disciplina de la arquitectura y sus componentes desde un punto de vista teórico - filosó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3720" y="268200"/>
            <a:ext cx="32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"/>
              </a:rPr>
              <a:t>CONTE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3949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5120" y="1865160"/>
            <a:ext cx="80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341360"/>
            <a:ext cx="88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Desarrollo de diferentes conceptos relacionados a la disciplina tales como el espacio y l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Relación y manifestación de las problemáticas planteadas en la realidad actual - local y global.</a:t>
            </a:r>
            <a:r>
              <a:rPr b="1" lang="es-ES" sz="32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3720" y="268200"/>
            <a:ext cx="32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"/>
              </a:rPr>
              <a:t>CONTE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1047600"/>
            <a:ext cx="8640720" cy="5435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89000"/>
            <a:ext cx="44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"/>
              </a:rPr>
              <a:t>ESTRATEGIAS DE ENSEÑANZA APRENDIZ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842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Clases expositivas con material de apoyo vis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Lecturas de material pertinente a las temáticas desarrolladas para discusión en clase o elaboración de presentación con una postura crítica frente al mismo por los alumnos de manera individual o grup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Elaboración de presentaciones frente a una temática de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Visitas a exposiciones y seminarios vigentes en el año.</a:t>
            </a:r>
            <a:r>
              <a:rPr b="1" lang="es-ES" sz="24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EVALU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289160"/>
            <a:ext cx="88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Pruebas definidas por la Dirección de Escuela para el año académico. Estas no evaluarán contenido sino más bien la interpretación por parte de los alumnos de los mi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La Nota Final del curso se compone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Promedio Primer Semestre 3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(Prueba 1 30 %, Prueba 2 30 %, Prueba 3  4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Promedio Segundo Semestre 4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(Prueba 1 30 %, Prueba 2 30 %  y Prueba 3 40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Trabajos e Informes de Películas, 15%, Trabajo Grupal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BIBLI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981000"/>
            <a:ext cx="85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Textos Generales de Filosofía y Concep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Brugger, Walter, Diccionario de Filosofía, Editorial Herder, 19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Delius, Christoph et al. ,Historia de la Filosofía ,Editorial Könemann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Dujovne, León, Teoría de los valores y filosofía de la historia, Paidos,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Ferrater Mora, José,  Diccionario de Filosofía, Editorial Sudamericana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Heiddegger, Martín, Ciencia y Técnica, Editorial Universitaria, 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Kuhn, Thomas</a:t>
            </a: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, La Estructura de la Revoluciones Científicas , FCE, 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Tedeschi, Enrico, Teoría de la Arquitectura, Nueva Visión, 19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BIBLI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981000"/>
            <a:ext cx="8748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Fenomenología, Espacio,Teoría de L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Bachelard, Gastón, La Poética del Espacio, FCE, 19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Heiddegger, Martín, Ser y Tiempo, Ed. Universitaria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Moore, Charles et al., Cuerpo , Memoria y Arquitectura, Editorial Blume, 19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Moore, Charles, et al.</a:t>
            </a: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, Dimensiones de la Arq, Espacio, Forma y Escala, E. G. Gili, 19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Norberg-Schulz,Christian, Existencia, Espacio y Arquitectura, Editorial Blume, 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Norberg-Schulz,Christian, El significado de la arquitectura Occidental, Ed. Summa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Norberg-Schulz,Christian, Intenciones en la Arquitectura, Ed. Gustavo Gili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Norberg-Schulz,Christian, Genius Loci, Towards a Phenomenology in Arch. ,Rizzoli, 1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Rasmussen, Teen Biler, Experiencing Architecture,MIT Press, 19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BIBLI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836640"/>
            <a:ext cx="922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Percepción y Proxé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Arnheim, Rudolf, El pensamiento visual, Eudeba, 19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Hall, ET, La Dimensión Oculta, Ed. Siglo XXI, 19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"/>
              </a:rPr>
              <a:t>Lynch, Kevin, La Imagen de la Ciudad, Editorial Infinito, 19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BIBLI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836640"/>
            <a:ext cx="8516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Teoría de la Arquit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Banham, Reyner, Teoría y Diseño en la era de la Máquina, Ed. G. Gili, 19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Heidegger, Martín, Construir, Habitar, Pensar, Revista Teoría, págs 150 a 163, 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Kahn, Louis, Forma y Diseño, Nueva Visión, 1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Le Corbusier, Hacia una Arquitectura, Apóstrofe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Roth, Leland, Entender la Arq. :  Sus Elementos, Historia y Significado, Ed.G.Gili,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Ruskin, John, Las Siete Lámparas de la Arquitectura, Alta Fulla Ed.,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Vitruvio, Marco Lucio, Los Diez libros de Arquitectura, Akal</a:t>
            </a: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,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Walter Kruft, Hanno, Historia de la Teoría de la Arquitectura, Alianza Editorial, 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"/>
              </a:rPr>
              <a:t>Zevi, Bruno, Saber Ver la Arquitectura, Poseidón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"/>
              </a:rPr>
              <a:t>BIBLI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765000"/>
            <a:ext cx="856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•</a:t>
            </a: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Bonfanti, Enzo et. Al , Arquitectura Racionalista, Ed. Alianza, 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Collins, Peter, Los Ideales de la Arquitectura Moderna; su evolución, Ed. G. Gili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Jencks, Charles, Arquitectura Internacional, Ultimas Tendencias, Ed. G. Gili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Jencks, Charles, Arquitectura Tardomoderna y Otros Ensayos, Ed. G.Gili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Jencks, Charles, El Lenguaje de la arquitectura posmoderna, Ed. G.Gili,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Jencks, Charles, El Movimiento Moderno en Arquitectura, Ed. Blume, 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"/>
              </a:rPr>
              <a:t>Jencks, Charles, What is Posmodernism?, Art Design,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Loos, Adolf, Ornamento y Delito y otros escritos, Ed. G. Gili,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Lyotard, Jean Francois, La Condición Posmoderna, Cátedra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Macrae – Gibson, Gavin, La Vida Secreta de los Edificios, Ed. Nevea, 19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Montaner, Josep María, Arquitectura y Crítica, Ed. G. Gili,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Montaner, Josep María, Después del Movimiento Moderno, Ed. G. Gili,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Rossi, Aldo, La Arquitectura de la Ciudad, Ed. G.Gili, 19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Venturi, Robert et al, Aprendiendo de Las Vegas, Ed. G. Gili, 19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"/>
              </a:rPr>
              <a:t>Venturi, Robert, Complejidad y Contradicción en Arquitectura, Ed. G. Gili, 19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87480" y="190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820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8280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Presentación Profes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Presentación 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Análisis del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Completar fi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Formar grupos de 5 integr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Película Koyanitska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TEORIA DE LA ARQUITECTURA I </a:t>
            </a: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Century"/>
              </a:rPr>
              <a:t>PIZZI/VALENZUELA</a:t>
            </a:r>
            <a:br>
              <a:rPr sz="2400"/>
            </a:br>
            <a:r>
              <a:rPr b="1" lang="es-CL" sz="4400" spc="-1" strike="noStrike">
                <a:solidFill>
                  <a:srgbClr val="ffffff"/>
                </a:solidFill>
                <a:latin typeface="Century"/>
              </a:rPr>
              <a:t>SESION 1 11/03/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700280"/>
            <a:ext cx="8640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Cuaderno universitario o Croqu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Archivador tamaño carta para doc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Foto tamaño carnet o pasapor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(plazo máximo 25/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385920"/>
            <a:ext cx="323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Mate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77336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Christian Norberg Schul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Martín Heidd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Jacques Der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Jean Francois Lyot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Jean Baudrill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Jurgen Habe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Karl Po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Edmund Husse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Michel Fouc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Thomas Ku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"/>
              </a:rPr>
              <a:t>Richard Ro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"/>
              </a:rPr>
              <a:t>Marc-Antoine Laug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"/>
              </a:rPr>
              <a:t>Louis Ka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"/>
              </a:rPr>
              <a:t>John Ru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784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Century"/>
              </a:rPr>
              <a:t>Filósofos y Te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90120" cy="5867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0"/>
            <a:ext cx="44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"/>
              </a:rPr>
              <a:t>MA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8900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PROGRAMA (AO 104-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TEORIA DE LA ARQUITECTURA 1</a:t>
            </a: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JUS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2060640"/>
            <a:ext cx="7810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"/>
              </a:rPr>
              <a:t>Esta asignatura contribuye al desarrollo del Perfil Profesional del Arquitecto en el ámbito de el conocimiento de la Teoría de la Arquitectura como fundamento de la discipl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8900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PROGRAMA (AO 104-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TEORIA DE LA ARQUITECTURA 1</a:t>
            </a: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JUS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773360"/>
            <a:ext cx="7810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A través de una aproximación general trata los aspectos básicos que explican y posibilitan un pensamiento arquitectónico reflexiv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8900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PROGRAMA (AO 104-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TEORIA DE LA ARQUITECTURA 1</a:t>
            </a: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JUS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773360"/>
            <a:ext cx="7810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El curso pretende sentar las bases para entender los fundamentos de la arquitectura tanto con relación a otras disciplinas como entre los diferentes pensamientos al interior de la mis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333360"/>
            <a:ext cx="82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RESULTADOS DE APRENDIZAJE EN TERMINOS DE COMPE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197000"/>
            <a:ext cx="8121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entury"/>
              </a:rPr>
              <a:t>Al finalizar esta asignatura, cada alumno será competente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entury"/>
              </a:rPr>
              <a:t>El dominio básico de los medios y herramientas para comunicar de manera oral y escrita, ideas y fundamentos con relación a problemáticas tanto urbanas como arquitectón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333360"/>
            <a:ext cx="82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RESULTADOS DE APRENDIZAJE EN TERMINOS DE COMPE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197000"/>
            <a:ext cx="8121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Al finalizar esta asignatura, cada alumno será competente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Century"/>
              </a:rPr>
              <a:t>El Conocimiento básico de la historia, las teorías de la Arquitectura, el arte, la estética y las ciencias humanas y su inter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5480" y="609480"/>
            <a:ext cx="37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333360"/>
            <a:ext cx="82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"/>
              </a:rPr>
              <a:t>RESULTADOS DE APRENDIZAJE EN TERMINOS DE COMPE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060640"/>
            <a:ext cx="812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Century"/>
              </a:rPr>
              <a:t>El Conocimiento, sensibilidad y compromiso frente a los temas del debate arquitectónico actual-local y global.</a:t>
            </a:r>
            <a:r>
              <a:rPr b="1" lang="es-ES" sz="36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20:39:06Z</dcterms:created>
  <dc:creator>Marcela Pizzi</dc:creator>
  <dc:description/>
  <dc:language>en-US</dc:language>
  <cp:lastModifiedBy>Marcela Pizzi</cp:lastModifiedBy>
  <dcterms:modified xsi:type="dcterms:W3CDTF">2009-03-10T22:35:59Z</dcterms:modified>
  <cp:revision>32</cp:revision>
  <dc:subject/>
  <dc:title>Diapositiva 1</dc:title>
</cp:coreProperties>
</file>