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3B5-DAF6-4629-AC6E-96F96537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198-BD68-4177-BDB3-63897DC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CAA-9B20-4E53-B6B9-526E5A19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596-321E-465C-8A18-4663A410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47A5-729C-4833-8966-3178248B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83BD-F1A1-4A6C-A954-AFF320B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DAF-7E86-420C-BDE2-F8D3FF7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4CFF-B200-47E3-A80A-31BAD846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4B4F-41CF-4C9A-9387-92918786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35F6-6B43-467D-97E5-7B274D23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CE2-7798-4A8A-9EA1-C9FD278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C68-219C-4865-B1B3-E53BCFBC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6AF1-5F85-495E-B73C-7ECB236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43C4-0930-40DB-9F43-5E4B821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021-287C-4B84-9F5D-F514EBE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6145-9A59-4E9D-B7E7-2BCCFDB7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881-5990-46EA-89EC-71BAC113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4CE-2184-45FA-864B-2C2FDE5D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CC0-972C-4DFC-9263-0492BDA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919-9C04-4917-B663-CDCA836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7FE-464E-4A8F-BB56-612B057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AAD-7D0B-4BD8-9B12-749B9C7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4EE-A51B-40B1-9823-0D0968F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08A-6D6D-4E78-A5B5-346527B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72E-D050-4676-B0CA-8EA31B25C3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AAA-9561-4414-82EA-A793583550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SEGUNDO SEMEST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8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ase Esté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5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786"/>
          <p:cNvGraphicFramePr/>
          <p:nvPr/>
        </p:nvGraphicFramePr>
        <p:xfrm>
          <a:off x="500040" y="642960"/>
          <a:ext cx="7705800" cy="47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Object 37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642960"/>
                    <a:ext cx="7705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 pruebas 45% (15% cada un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as a exposiciones 10% (19/11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sayo “Saber ver la Arquitectura” 10% (15/1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rabajo individual final 20%. Sólo se aceptarán trabajos que hayan sido corregidos en el taller de ensay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8-06T17:40:04Z</dcterms:modified>
  <cp:revision>20</cp:revision>
  <dc:subject/>
  <dc:title>TEORIA DE LA ARQUITECTURA I</dc:title>
</cp:coreProperties>
</file>