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B5F-9D4C-41AE-896F-EE3C11E4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B7E-BDFC-4F21-A464-4481368D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273-9E25-47F3-95F5-3C7A5619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3CD-4700-4E8B-AA42-DF58E607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7D61-CE05-46B2-A3CE-2CE1A574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1810-42C4-43F7-A8E0-A6884A64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BE60-B757-4A0D-A421-A17A329E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5D11-4BA8-4663-96C7-1F1ADA27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3C6E-7DB5-44DA-9ABD-50E204DC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FFC7-7651-4142-8B52-79EC0370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5566-93E4-4F42-9E23-5D34AE30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21B-6D7D-4E17-B068-D000F223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3D68-63BD-4CFE-8B72-4DF962F7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EF04-8A40-498D-BFD0-7EF25B73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4654-850E-4666-A47E-53E3ECDA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EAD9-DE83-4A10-A571-1BB9C5D5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F76A-A2EA-4237-972F-E90139A6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EA2-2979-46B4-831B-62372726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C4E-4143-4F2C-A153-9994F9C1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627-572E-4A4F-9EDD-20E7D80E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573-DD36-4965-9B41-02C2C8D1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E87-0BE8-428B-A3A2-35E5F862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7AA-6E49-45CE-9F54-3E7B645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DDB-D525-4F4A-90C4-23CAC3A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4F62-0F0A-4EB8-97F3-F5B2BB75D3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871F-B4DF-4349-8992-03FD9CEBA2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SEGUNDO SEMEST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MELA DOMIN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ctividades de l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rmar 8 grup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gramación del semest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lase Esté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5"/>
          <p:cNvGraphicFramePr/>
          <p:nvPr/>
        </p:nvGraphicFramePr>
        <p:xfrm>
          <a:off x="1522440" y="13651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13651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786"/>
          <p:cNvGraphicFramePr/>
          <p:nvPr/>
        </p:nvGraphicFramePr>
        <p:xfrm>
          <a:off x="500040" y="642960"/>
          <a:ext cx="7705800" cy="473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Object 378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642960"/>
                    <a:ext cx="770580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 pruebas 45% (15% cada un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xposición grupal 15%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isitas a exposiciones 10% (19/11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nsayo “Saber ver la Arquitectura” 10% (15/1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rabajo individual final 20%. Sólo se aceptarán trabajos que hayan sido corregidos en el taller de ensay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 </cp:lastModifiedBy>
  <dcterms:modified xsi:type="dcterms:W3CDTF">2009-08-06T17:40:04Z</dcterms:modified>
  <cp:revision>20</cp:revision>
  <dc:subject/>
  <dc:title>TEORIA DE LA ARQUITECTURA I</dc:title>
</cp:coreProperties>
</file>