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28C-3642-4E42-88B1-BB5EFE5C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29B-04E3-4033-B198-3002F19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775-0193-48D7-BE35-E509C0E9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35C-1BC5-4A38-A9CA-EAC3D4D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F1E0-AA2C-49CB-A952-C77FFC51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A865-E053-40FA-B130-4FA20E2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A24-9FC4-4989-943E-A99FC59A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5380-F4D0-46C6-8570-FAF1627D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773-A76A-41D6-B5D4-1F6D0B05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8576-F01F-4432-BAC7-90230344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C66-279C-4DFE-B78F-D239C8B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D40-995C-4FA7-B9C7-7F33223D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0A5A-0135-4718-B1A4-A211CF05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739F-CDC7-4E1A-8D7B-4B34376A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A70E-A647-49BD-AC9C-0013791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E50C-5A60-42F8-89FD-310BD094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9F40-88E2-4DE1-887F-3D618686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831-017B-4D83-9844-400E7FF9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5D6-7E53-4F34-86FD-C5EBF3FC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BF9-5BAF-440B-BBEE-93C12F50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C6E-4A7D-4903-960D-BB5CD3A6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C67-2F20-473F-B360-19B65773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DD6-F942-4D88-838E-5296964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741-3554-480D-AAE0-43C96BD1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510-F96A-4F8E-BF7E-A6977DBE6E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410-0E21-4021-82A5-7BD1E4261C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SEGUNDO SEMEST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8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ase Esté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5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786"/>
          <p:cNvGraphicFramePr/>
          <p:nvPr/>
        </p:nvGraphicFramePr>
        <p:xfrm>
          <a:off x="500040" y="642960"/>
          <a:ext cx="7705800" cy="47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Object 37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642960"/>
                    <a:ext cx="7705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 pruebas 45% (15% cada un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as a exposiciones 10% (19/11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sayo “Saber ver la Arquitectura” 10% (15/1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rabajo individual final 20%. Sólo se aceptarán trabajos que hayan sido corregidos en el taller de ensay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8-06T17:40:04Z</dcterms:modified>
  <cp:revision>20</cp:revision>
  <dc:subject/>
  <dc:title>TEORIA DE LA ARQUITECTURA I</dc:title>
</cp:coreProperties>
</file>