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D2D-ACC3-419F-BCD7-053688F9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919-8E84-4A41-BF5B-1EE0710D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C43-A2CF-4A12-926F-04D63FD2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DCA-1FFC-435C-88F9-A9DE93CD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3014-49D5-48C9-B872-DBF31CAE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6CFA-5300-4EAA-AA63-FDF3AF82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6938-4B10-48A6-8FBA-509C5FCA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3B01-1341-4B31-823D-C3C260C2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320F-CDE1-4B60-B1CD-5F25F126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0CED-3508-498D-B97D-68E470AC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1C6D-4951-48AA-BF11-4324B19A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14A-9CDC-486A-8107-64FE3762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DB62-D578-4729-B069-8176E30A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8169-1263-4457-8ADD-F52FC6F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F57D-F099-45DF-985D-AF473AC6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E65B-2B3E-4690-AFBE-CD3661C8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6601-C84A-4FFC-8678-EFADF624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A2F-3B24-48C7-A35B-0F1A58AC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A9A-0DFE-4B42-BC7A-943180E5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8EB-DEAB-4A02-935E-D55026BE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B26-12E6-4259-BB1A-EBF51042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84F-66D8-4292-836F-E555FC52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57A-9DB1-4730-A21E-3377B67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A6A-639D-4D2E-B693-F3EDDC93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840A-A700-4575-8ADC-3C5611F301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312F-0DF5-4ECF-A056-A1BCC66CC8A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SEGUNDO SEMEST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AMELA DOMINGU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Actividades de l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rmar 8 grup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gramación del semest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ase Esté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5"/>
          <p:cNvGraphicFramePr/>
          <p:nvPr/>
        </p:nvGraphicFramePr>
        <p:xfrm>
          <a:off x="1522440" y="13651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651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3786"/>
          <p:cNvGraphicFramePr/>
          <p:nvPr/>
        </p:nvGraphicFramePr>
        <p:xfrm>
          <a:off x="500040" y="642960"/>
          <a:ext cx="7705800" cy="473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" name="Object 378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642960"/>
                    <a:ext cx="770580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 pruebas 45% (15% cada un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xposición grupal 15%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isitas a exposiciones 10% (19/11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nsayo “Saber ver la Arquitectura” 10% (15/1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rabajo individual final 20%. Sólo se aceptarán trabajos que hayan sido corregidos en el taller de ensay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 </cp:lastModifiedBy>
  <dcterms:modified xsi:type="dcterms:W3CDTF">2009-08-06T17:40:04Z</dcterms:modified>
  <cp:revision>20</cp:revision>
  <dc:subject/>
  <dc:title>TEORIA DE LA ARQUITECTURA I</dc:title>
</cp:coreProperties>
</file>