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BF07-88C0-4E98-B32E-F69F846F2167}"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DC2D-F0C0-471A-9282-F7124FC78C97}"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5FC8-5ABF-4BA5-83A5-12B7497EEF71}"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80859-35C0-4302-A549-9488B3578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60732-B1FF-4B86-B4D7-76E7D899B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F6CC7-335E-4D92-95AD-3DDA1F1C2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CEB2F-A75A-467E-91F4-A9D197251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7EEAC-4194-428A-853C-B9FBF2F4E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DD643-40DC-4E36-A38D-38FDDAE57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4A616-6800-43A0-9467-2403133B6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C08F8-0107-4CD0-B55C-7057E828C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F20F9-2CAB-408D-A1F1-5D8BE6A8C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D761D-E08E-4B06-8AED-B5AB1221B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E5892-93D5-43E8-B487-9C991E0D0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B1226-32B6-490D-828B-1E0B5634F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880E7-E782-4C69-BC08-C930BA13B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95996-1A7A-49A7-9442-A25D1AC83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54D35-42F3-4E0C-9B2E-1A65D3C4C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A8A78-99E3-402F-91B1-359725BEF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77774A-2F6C-4A48-BBF0-F0D0AED42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7215A-8EA6-4761-A46F-040A0F104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3A557-8EBD-4793-98F3-08AEFC3BE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EB1FD-174D-4677-9F9B-A6D0F67B1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9BCE0-B619-415F-B4D1-BEC0E3BAE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2C3E0-E0F0-4C16-84B4-532B07036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7B8DF-998D-4D39-AB44-FEFD60A24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A5B1D-7CC9-44E9-8192-9D0971643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571D-05F0-418A-8DA0-5F1BE5889D6D}"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26A7-B2C6-4101-8C83-42D3E0BD2A2E}"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Rorty-2"/>
          <p:cNvPicPr/>
          <p:nvPr/>
        </p:nvPicPr>
        <p:blipFill>
          <a:blip r:embed="rId1"/>
          <a:stretch/>
        </p:blipFill>
        <p:spPr>
          <a:xfrm>
            <a:off x="885960" y="-533520"/>
            <a:ext cx="7370640" cy="739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frontación: visiones</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confrontación ha conducido a visiones tan opuestas como el idealismo, la fenomenología, el naturalismo, el mecanicismo, el conductismo, etc., todos los cuales tienen en sus bases la idea de verdad como el reflejo depurado (o depurable por virtud de la filosofía) en el Espejo de la Naturaleza (la mente como metáfora), como una correspondencia ya sea entre conceptos y estados de cosas, neuronas y estímulos externos, ideas y propiedades a priori de la mente humana, ideas claras y distintas versus la confusión y el accidente. </a:t>
            </a:r>
            <a:endParaRPr b="0" lang="en-US" sz="2100" spc="-1" strike="noStrike">
              <a:solidFill>
                <a:srgbClr val="000000"/>
              </a:solidFill>
              <a:latin typeface="Verdana"/>
            </a:endParaRPr>
          </a:p>
        </p:txBody>
      </p:sp>
      <p:graphicFrame>
        <p:nvGraphicFramePr>
          <p:cNvPr id="119" name="Object 4"/>
          <p:cNvGraphicFramePr/>
          <p:nvPr/>
        </p:nvGraphicFramePr>
        <p:xfrm>
          <a:off x="1527120" y="1397160"/>
          <a:ext cx="6087960" cy="4063680"/>
        </p:xfrm>
        <a:graphic>
          <a:graphicData uri="http://schemas.openxmlformats.org/presentationml/2006/ole">
            <p:oleObj progId="Word.Document.12" r:id="rId1" spid="">
              <p:embed/>
              <p:pic>
                <p:nvPicPr>
                  <p:cNvPr id="120"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 qué se refiere con Conversación?</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Tras la idea de conversación, Rorty nos está proponiendo el reconocimiento de que las justificaciones y la apreciación de verdades debe bastante más al medio social y a las relaciones interpersonales en un sentido holístico, global (como lo entendieron Sellars y Quine), más que al atomista y particularizado de la supuesta correspondencia entre representaciones (o ideas) y objetos. «La premisa fundamental de este argumento es que entendemos el conocimiento cuando entendemos la justificación social de la creencia, y, por tanto, no tenemos ninguna necesidad de considerarlo como precisión en la representación». (Pág. 162)</a:t>
            </a:r>
            <a:endParaRPr b="0" lang="en-US" sz="2100" spc="-1" strike="noStrike">
              <a:solidFill>
                <a:srgbClr val="000000"/>
              </a:solidFill>
              <a:latin typeface="Verdana"/>
            </a:endParaRPr>
          </a:p>
        </p:txBody>
      </p:sp>
      <p:graphicFrame>
        <p:nvGraphicFramePr>
          <p:cNvPr id="123" name="Object 4"/>
          <p:cNvGraphicFramePr/>
          <p:nvPr/>
        </p:nvGraphicFramePr>
        <p:xfrm>
          <a:off x="1527120" y="1397160"/>
          <a:ext cx="6087960" cy="4063680"/>
        </p:xfrm>
        <a:graphic>
          <a:graphicData uri="http://schemas.openxmlformats.org/presentationml/2006/ole">
            <p:oleObj progId="Word.Document.12" r:id="rId1" spid="">
              <p:embed/>
              <p:pic>
                <p:nvPicPr>
                  <p:cNvPr id="124"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Validez del conocimiento</a:t>
            </a:r>
            <a:endParaRPr b="0" lang="en-US" sz="3800" spc="-1" strike="noStrike">
              <a:solidFill>
                <a:srgbClr val="000000"/>
              </a:solidFill>
              <a:latin typeface="Verdana"/>
            </a:endParaRPr>
          </a:p>
        </p:txBody>
      </p:sp>
      <p:sp>
        <p:nvSpPr>
          <p:cNvPr id="126" name="PlaceHolder 2"/>
          <p:cNvSpPr>
            <a:spLocks noGrp="1"/>
          </p:cNvSpPr>
          <p:nvPr>
            <p:ph/>
          </p:nvPr>
        </p:nvSpPr>
        <p:spPr>
          <a:xfrm>
            <a:off x="328680" y="1676520"/>
            <a:ext cx="8208720" cy="437976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propone que la búsqueda de la validez del conocimiento debe ser hecha en dirección contraria a la de la tradición filosófica iniciada por Descartes en la introspección del individuo. «Para entender las materias que Descartes quería entender —la superioridad de la Nueva Ciencia sobre Aristóteles, las relaciones entre esta ciencia y las matemáticas, el sentido común, la teología y la moralidad— hemos de dirigirnos hacia fuera en vez de hacia adentro, hacia el contexto social de la justificación más que a las relaciones entre las representaciones internas». Señala a Wittgenstein con sus Investigaciones filosóficas y a T.S. Kuhn con la Estructura de las revoluciones científicas como dos notables ejemplos de progresos realizados en esta nueva búsqueda.</a:t>
            </a:r>
            <a:endParaRPr b="0" lang="en-US" sz="2100" spc="-1" strike="noStrike">
              <a:solidFill>
                <a:srgbClr val="000000"/>
              </a:solidFill>
              <a:latin typeface="Verdana"/>
            </a:endParaRPr>
          </a:p>
        </p:txBody>
      </p:sp>
      <p:graphicFrame>
        <p:nvGraphicFramePr>
          <p:cNvPr id="127" name="Object 4"/>
          <p:cNvGraphicFramePr/>
          <p:nvPr/>
        </p:nvGraphicFramePr>
        <p:xfrm>
          <a:off x="1527120" y="1397160"/>
          <a:ext cx="6087960" cy="4063680"/>
        </p:xfrm>
        <a:graphic>
          <a:graphicData uri="http://schemas.openxmlformats.org/presentationml/2006/ole">
            <p:oleObj progId="Word.Document.12" r:id="rId1" spid="">
              <p:embed/>
              <p:pic>
                <p:nvPicPr>
                  <p:cNvPr id="128"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radigmas y Problemas</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obre la importancia del lenguaje en la filosofía del siglo XX —el giro lingüístico—, La objeción de Rorty se centra en el reconocimiento de que los paradigmas filosóficos nuevos van dejando de lado a los antiguos problemas, en vez de ofrecer nuevas y mejores formas de resolverlos. “La idea de Dummett de la filosofía del lenguaje como ‘filosofía primera’ nos parecerá equivocada no porque haya alguna otra área ‘primera’ sino porque la idea de la filosofía en cuanto dotada de fundamentos es tan errónea como la de que el conocimiento tenga fundamento...”  </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46980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31" name="Object 4"/>
          <p:cNvGraphicFramePr/>
          <p:nvPr/>
        </p:nvGraphicFramePr>
        <p:xfrm>
          <a:off x="1521000" y="1407960"/>
          <a:ext cx="6070320" cy="4065840"/>
        </p:xfrm>
        <a:graphic>
          <a:graphicData uri="http://schemas.openxmlformats.org/presentationml/2006/ole">
            <p:oleObj progId="Word.Document.12" r:id="rId1" spid="">
              <p:embed/>
              <p:pic>
                <p:nvPicPr>
                  <p:cNvPr id="132"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pistemología y hermenéutica</a:t>
            </a:r>
            <a:endParaRPr b="0" lang="en-US" sz="3800" spc="-1" strike="noStrike">
              <a:solidFill>
                <a:srgbClr val="000000"/>
              </a:solidFill>
              <a:latin typeface="Verdana"/>
            </a:endParaRPr>
          </a:p>
        </p:txBody>
      </p:sp>
      <p:sp>
        <p:nvSpPr>
          <p:cNvPr id="134" name="PlaceHolder 2"/>
          <p:cNvSpPr>
            <a:spLocks noGrp="1"/>
          </p:cNvSpPr>
          <p:nvPr>
            <p:ph/>
          </p:nvPr>
        </p:nvSpPr>
        <p:spPr>
          <a:xfrm>
            <a:off x="328680" y="1752120"/>
            <a:ext cx="8208720" cy="4303800"/>
          </a:xfrm>
          <a:prstGeom prst="rect">
            <a:avLst/>
          </a:prstGeom>
          <a:noFill/>
          <a:ln w="0">
            <a:noFill/>
          </a:ln>
        </p:spPr>
        <p:txBody>
          <a:bodyPr anchor="t">
            <a:normAutofit fontScale="28000"/>
          </a:bodyPr>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Rorty, la hermenéutica no es una filosofía que llene el vacío ocupado en otros tiempos por la filosofía centrada epistemológicamente. Tampoco «es el nombre de una disciplina, ni de un método de conseguir los resultados que la epistemología no consiguió obtener, ni un programa de investigación. Por el contrario, la hermenéutica es una expresión de esperanza de que el espacio cultural dejado por el abandono de la epistemología no llegue a llenarse —que nuestra cultura sea una cultura en la que ya no se siente la exigencia de constricción y confrontación. Así, la epistemología avanza partiendo de la suposición de que todas las aportaciones a un discurso determinado son conmensurables. La hermenéutica es en gran parte una lucha contra esta suposición». (Página 288).</a:t>
            </a:r>
            <a:endParaRPr b="0" lang="en-US" sz="2100" spc="-1" strike="noStrike">
              <a:solidFill>
                <a:srgbClr val="000000"/>
              </a:solidFill>
              <a:latin typeface="Verdana"/>
            </a:endParaRPr>
          </a:p>
          <a:p>
            <a:pPr marL="1314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Rorty señala que, de acuerdo al enfoque pragmático del conductismo epistemológico (según el cual sólo podemos explicar la racionalidad, afirmar cosas y atribuir relevancia y autoridad epistemológica por referencia a lo que la sociedad nos permite decir y no al revés) la posibilidad de hacer conmensurables discursos diferentes unificándolos en uno sólo coherente, o que esto no pueda hacerse, depende exclusivamente de que estos discursos pertenezcan a un mismo paradigma, es decir, que pueda darse la diferencia entre un discuro «normal» y uno «anormal», tal como Kuhn entiende la división entre ciencia normal y ciencia anormal. Esta ampliación de los conceptos de Kuhn sobre otros aspectos de cultura además de las ciencias permite a Rorty plantearnos que la hermenéutica busca una racionalidad donde ya sabemos que no podemos acordar sus bases y cuando hemos perdido toda posibilidad de recurrir a una disciplina (como la filosofía) que pueda ayudarnos a establecer un acuerdo. «Pero la hermenéutica es el estudio de un discurso anormal desde el punto de vista de un discurso normal —el intento de dar cierto sentido a lo que está pasando en momentos en los que aun no estamos seguros sobre ello como para hacer una descripción y, por tanto,  para comenzar su explicación epistemológica». (Página 292).</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sde este punto de vista, la línea divisoria entre los respectivos dominios de la epistemología y la hermenéutica no consiste en la diferencia entre ‘ciencias de la naturaleza’ y las ‘ciencias del hombre’, ni entre hecho y valor, ni entre teórico y práctico, ni entre ‘conocimiento objetivo’ y algo más viscoso y dudoso. La diferencia es cuestión de familiaridad, simplemente. Seremos epistemólogos donde comprendamos perfectamente bien lo que está ocurriendo, pero queremos codificarlo para ampliarlo, fortalecerlo, enseñarlo o ‘buscarle una base’. Tenemos que ser hermenéuticos cuando no comprendamos lo que está ocurriendo, pero tenemos la honradez de admitirlo, en vez de adoptar una actitud descaradamente ‘Whiggish’ (acomodaticia) al respecto». (Página 292).</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gún estos argumentos, Rorty se atreve, sobrepasando a Kuhn, a negar definitivamente que haya algo extra llamado «reconstrucción racional» que pueda legitimar la práctica científica actual (u otra cultural como la arquitectura, diríamos nosotros), sin considerar que ello equivalga a decir que los átomos, las ondas, y otros descubrimientos de los científicos sean creaciones del espíritu humano, es decir, que la actitud hermenéutica sobre la historia de los discursos teóricos (a diferencia de la epistemológica) sea un retorno al idealismo kantiano y la tesis de que la actividad del espíritu humano hace (desde el interior subjetivo) más bien que encuentra (en el exterior, objetivo).</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Hermenéutica y edificación</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n el proyecto rortyano de una orientación diferente para la filosofía que deje de lado la confrontación para adoptar una conversación donde la hermenéutica actúe como una racionalidad alternativa o complementaria de la epistemológica, debe superar primero una concepción clásica del hombre que es común a platónicos, kantianos y positivista: que el hombre tiene una esencia, y ésta es descubrir esencias. «La idea de que nuestra tarea principal es reflejar con exactitud, en nuestra propia Esencia de Vidrio, el universo que nos rodea, es el complemento a la idea, común a Demócrito y Descartes, de que el universo está formado por cosas muy simples, clara y distintamente cognoscibles, el conocimiento de cuyas esencias constituye el vocabulario-maestro que permite la conmensuración de todos los discursos». (Página 323). Así, la visión tradicional de la filosofía entre los siglos XVII y XIX  ha sido su relación con la validez del conocimiento al punto que no puede pensarse en «filosofía» sin entender, al mismo tiempo, que se está, de algún modo, refiriendo al conocimiento o a alguna teoría sobre éste.</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proyecto rortyano de una filosofía cuyo centro no esté en la epistemología, tiene el nombre de «hermenéutica». Rorty señala a Gadamer y su idea de Bildung (educación, auto-formación) como quien ha aportado la orientación aconsejable capaz de suplantar al conocimiento como meta del pensamiento filosófico, y propone el empleo de la palabra «edificación» con el propósito de revigorizar el término gadameriano. Según Gadamer, la Bildung se corresponde con nuestra intuición existencialista de que lo más importante que podemos hacer es redescribirnos a nosotros mismos.  </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Decir que nos convertimos en otras personas, que nos ‘rehacemos’ a nosotros mismos al leer más, hablar más y escribir más, no es más que una forma llamativa de decir que las oraciones que resultan verdaderas de nosotros en virtud de tales actividades son, con frecuencia, mucho más importantes para nosotros que las oraciones que resultan verdaderas de nosotros cuando bebemos más, ganamos más, etc. Los hechos que nos hacen capaces de decir cosas nuevas e interesantes sobre nosotros mismos son, en este sentido, no-metafísico, más ‘esenciales’ para nosotros (al menos para nosotros, intelectuales de vida relativamente tranquila, habitantes de una parte próspera y estable del mundo) que los hechos que cambian nuestras formas o nuestros niveles de vida (‘re-hacernos’ en formas menos ‘espirituales’)».</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edificar (a nosotros mismos y a los demás) puede consistir en la actividad hermenéutica de establecer conexiones entre nuestra propia cultura y alguna cultura o período histórico exóticos, o entre nuestra propia disciplina y otra disciplina que parezca buscar metas inconmensurables con un vocabulario inconmensurable. Pero puede consistir también en la actividad ‘poética’ de elaborar esas metas nuevas, nuevas palabras, o nuevas disciplinas, a lo que seguiría, por así decirlo, lo contrario de la hermenéutica: el intento de reinterpretar nuestros entornos familiares en términos, no familiares, de nuestras nuevas invenciones. En cualquier caso, la actividad es (a pesar de la relación etimológica entre las dos palabras) edificar sin ser constructivo —al menos si ‘constructivo’ significa aquella forma de cooperación en la realización de programas de investigación que tiene lugar en el discurso normal. Se supone que el discurso que edifica es anormal, que nos saca de nosotros mismos por la fuerza de lo extraño, para ayudarnos a convertirnos en seres nuevos». (Página 326).</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cuestión de que si esta actitud (el deseo de ser edificado) compromete la búsqueda de la verdad, Rorty menciona a Gadamer, Heidegger y Sartre como aquellos que nos han hecho ver que la búsqueda de la verdad y el conocimiento objetivo (y especialmente aquel que sólo puede encontrarse buscando afuera) es sólo una de las muchas formas de ser edificado, sólo uno de diversos proyectos humanos. «Sin embargo, éste queda reflejado más gráficamente en Sartre, quien concibe el intento de adquirir un conocimiento objetivo del mundo y, por tanto, de uno mismo, como un intento de evitar la responsabilidad de elegir el propio proyecto. Para Sartre, decir esto no es decir que el deseo de conocimiento objetivo de la naturaleza, de la historia o de cualquier otra cosa esté condenado al fracaso, ni siquiera que tenga que resultar engañoso. Es decir, simplemente, que presenta una tentación al auto-engaño en la medida en que pensemos que sabiendo qué descripciones dentro de un conjunto dado de discursos normales se aplican a nosotros, por eso mismo nos conocemos a nosotros. Para Heidegger, Sartre y Gadamer, la investigación objetiva es perfectamente posible y muchas veces real —lo único que hay que decir en su contra es que proporciona sólo algunas, de las muchas, formas de describirnos a nosotros mismos, y que algunas de ellas pueden dificultar el proceso de edificación».  (Página 326).</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314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35" name="Object 4"/>
          <p:cNvGraphicFramePr/>
          <p:nvPr/>
        </p:nvGraphicFramePr>
        <p:xfrm>
          <a:off x="1521000" y="1407960"/>
          <a:ext cx="6070320" cy="4065840"/>
        </p:xfrm>
        <a:graphic>
          <a:graphicData uri="http://schemas.openxmlformats.org/presentationml/2006/ole">
            <p:oleObj progId="Word.Document.12" r:id="rId1" spid="">
              <p:embed/>
              <p:pic>
                <p:nvPicPr>
                  <p:cNvPr id="136"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pistemología y hermenéutica</a:t>
            </a:r>
            <a:endParaRPr b="0" lang="en-US" sz="3800" spc="-1" strike="noStrike">
              <a:solidFill>
                <a:srgbClr val="000000"/>
              </a:solidFill>
              <a:latin typeface="Verdana"/>
            </a:endParaRPr>
          </a:p>
        </p:txBody>
      </p:sp>
      <p:sp>
        <p:nvSpPr>
          <p:cNvPr id="138" name="PlaceHolder 2"/>
          <p:cNvSpPr>
            <a:spLocks noGrp="1"/>
          </p:cNvSpPr>
          <p:nvPr>
            <p:ph/>
          </p:nvPr>
        </p:nvSpPr>
        <p:spPr>
          <a:xfrm>
            <a:off x="328680" y="1752120"/>
            <a:ext cx="8208720" cy="4303800"/>
          </a:xfrm>
          <a:prstGeom prst="rect">
            <a:avLst/>
          </a:prstGeom>
          <a:noFill/>
          <a:ln w="0">
            <a:noFill/>
          </a:ln>
        </p:spPr>
        <p:txBody>
          <a:bodyPr anchor="t">
            <a:normAutofit fontScale="30000"/>
          </a:bodyPr>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señala que, de acuerdo al enfoque pragmático del conductismo epistemológico (según el cual sólo podemos explicar la racionalidad, afirmar cosas y atribuir relevancia y autoridad epistemológica por referencia a lo que la sociedad nos permite decir y no al revés) la posibilidad de hacer conmensurables discursos diferentes unificándolos en uno sólo coherente, o que esto no pueda hacerse, depende exclusivamente de que estos discursos pertenezcan a un mismo paradigma, es decir, que pueda darse la diferencia entre un discuro «normal» y uno «anormal», tal como Kuhn entiende la división entre ciencia normal y ciencia anormal. Esta ampliación de los conceptos de Kuhn sobre otros aspectos de cultura además de las ciencias permite a Rorty plantearnos que la hermenéutica busca una racionalidad donde ya sabemos que no podemos acordar sus bases y cuando hemos perdido toda posibilidad de recurrir a una disciplina (como la filosofía) que pueda ayudarnos a establecer un acuerdo. «Pero la hermenéutica es el estudio de un discurso anormal desde el punto de vista de un discurso normal —el intento de dar cierto sentido a lo que está pasando en momentos en los que aun no estamos seguros sobre ello como para hacer una descripción y, por tanto,  para comenzar su explicación epistemológica». (Página 292).</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sde este punto de vista, la línea divisoria entre los respectivos dominios de la epistemología y la hermenéutica no consiste en la diferencia entre ‘ciencias de la naturaleza’ y las ‘ciencias del hombre’, ni entre hecho y valor, ni entre teórico y práctico, ni entre ‘conocimiento objetivo’ y algo más viscoso y dudoso. La diferencia es cuestión de familiaridad, simplemente. Seremos epistemólogos donde comprendamos perfectamente bien lo que está ocurriendo, pero queremos codificarlo para ampliarlo, fortalecerlo, enseñarlo o ‘buscarle una base’. Tenemos que ser hermenéuticos cuando no comprendamos lo que está ocurriendo, pero tenemos la honradez de admitirlo, en vez de adoptar una actitud descaradamente ‘Whiggish’ (acomodaticia) al respecto». (Página 292).</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gún estos argumentos, Rorty se atreve, sobrepasando a Kuhn, a negar definitivamente que haya algo extra llamado «reconstrucción racional» que pueda legitimar la práctica científica actual (u otra cultural como la arquitectura, diríamos nosotros), sin considerar que ello equivalga a decir que los átomos, las ondas, y otros descubrimientos de los científicos sean creaciones del espíritu humano, es decir, que la actitud hermenéutica sobre la historia de los discursos teóricos (a diferencia de la epistemológica) sea un retorno al idealismo kantiano y la tesis de que la actividad del espíritu humano hace (desde el interior subjetivo) más bien que encuentra (en el exterior, objetivo).</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Hermenéutica y edificación</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n el proyecto rortyano de una orientación diferente para la filosofía que deje de lado la confrontación para adoptar una conversación donde la hermenéutica actúe como una racionalidad alternativa o complementaria de la epistemológica, debe superar primero una concepción clásica del hombre que es común a platónicos, kantianos y positivista: que el hombre tiene una esencia, y ésta es descubrir esencias. «La idea de que nuestra tarea principal es reflejar con exactitud, en nuestra propia Esencia de Vidrio, el universo que nos rodea, es el complemento a la idea, común a Demócrito y Descartes, de que el universo está formado por cosas muy simples, clara y distintamente cognoscibles, el conocimiento de cuyas esencias constituye el vocabulario-maestro que permite la conmensuración de todos los discursos». (Página 323). Así, la visión tradicional de la filosofía entre los siglos XVII y XIX  ha sido su relación con la validez del conocimiento al punto que no puede pensarse en «filosofía» sin entender, al mismo tiempo, que se está, de algún modo, refiriendo al conocimiento o a alguna teoría sobre éste.</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proyecto rortyano de una filosofía cuyo centro no esté en la epistemología, tiene el nombre de «hermenéutica». Rorty señala a Gadamer y su idea de Bildung (educación, auto-formación) como quien ha aportado la orientación aconsejable capaz de suplantar al conocimiento como meta del pensamiento filosófico, y propone el empleo de la palabra «edificación» con el propósito de revigorizar el término gadameriano. Según Gadamer, la Bildung se corresponde con nuestra intuición existencialista de que lo más importante que podemos hacer es redescribirnos a nosotros mismos.  </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Decir que nos convertimos en otras personas, que nos ‘rehacemos’ a nosotros mismos al leer más, hablar más y escribir más, no es más que una forma llamativa de decir que las oraciones que resultan verdaderas de nosotros en virtud de tales actividades son, con frecuencia, mucho más importantes para nosotros que las oraciones que resultan verdaderas de nosotros cuando bebemos más, ganamos más, etc. Los hechos que nos hacen capaces de decir cosas nuevas e interesantes sobre nosotros mismos son, en este sentido, no-metafísico, más ‘esenciales’ para nosotros (al menos para nosotros, intelectuales de vida relativamente tranquila, habitantes de una parte próspera y estable del mundo) que los hechos que cambian nuestras formas o nuestros niveles de vida (‘re-hacernos’ en formas menos ‘espirituales’)».</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edificar (a nosotros mismos y a los demás) puede consistir en la actividad hermenéutica de establecer conexiones entre nuestra propia cultura y alguna cultura o período histórico exóticos, o entre nuestra propia disciplina y otra disciplina que parezca buscar metas inconmensurables con un vocabulario inconmensurable. Pero puede consistir también en la actividad ‘poética’ de elaborar esas metas nuevas, nuevas palabras, o nuevas disciplinas, a lo que seguiría, por así decirlo, lo contrario de la hermenéutica: el intento de reinterpretar nuestros entornos familiares en términos, no familiares, de nuestras nuevas invenciones. En cualquier caso, la actividad es (a pesar de la relación etimológica entre las dos palabras) edificar sin ser constructivo —al menos si ‘constructivo’ significa aquella forma de cooperación en la realización de programas de investigación que tiene lugar en el discurso normal. Se supone que el discurso que edifica es anormal, que nos saca de nosotros mismos por la fuerza de lo extraño, para ayudarnos a convertirnos en seres nuevos». (Página 326).</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cuestión de que si esta actitud (el deseo de ser edificado) compromete la búsqueda de la verdad, Rorty menciona a Gadamer, Heidegger y Sartre como aquellos que nos han hecho ver que la búsqueda de la verdad y el conocimiento objetivo (y especialmente aquel que sólo puede encontrarse buscando afuera) es sólo una de las muchas formas de ser edificado, sólo uno de diversos proyectos humanos. «Sin embargo, éste queda reflejado más gráficamente en Sartre, quien concibe el intento de adquirir un conocimiento objetivo del mundo y, por tanto, de uno mismo, como un intento de evitar la responsabilidad de elegir el propio proyecto. Para Sartre, decir esto no es decir que el deseo de conocimiento objetivo de la naturaleza, de la historia o de cualquier otra cosa esté condenado al fracaso, ni siquiera que tenga que resultar engañoso. Es decir, simplemente, que presenta una tentación al auto-engaño en la medida en que pensemos que sabiendo qué descripciones dentro de un conjunto dado de discursos normales se aplican a nosotros, por eso mismo nos conocemos a nosotros. Para Heidegger, Sartre y Gadamer, la investigación objetiva es perfectamente posible y muchas veces real —lo único que hay que decir en su contra es que proporciona sólo algunas, de las muchas, formas de describirnos a nosotros mismos, y que algunas de ellas pueden dificultar el proceso de edificación».  (Página 326).</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407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39" name="Object 4"/>
          <p:cNvGraphicFramePr/>
          <p:nvPr/>
        </p:nvGraphicFramePr>
        <p:xfrm>
          <a:off x="1521000" y="1407960"/>
          <a:ext cx="6070320" cy="4065840"/>
        </p:xfrm>
        <a:graphic>
          <a:graphicData uri="http://schemas.openxmlformats.org/presentationml/2006/ole">
            <p:oleObj progId="Word.Document.12" r:id="rId1" spid="">
              <p:embed/>
              <p:pic>
                <p:nvPicPr>
                  <p:cNvPr id="140"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l problema de la racionalidad</a:t>
            </a:r>
            <a:endParaRPr b="0" lang="en-US" sz="3800" spc="-1" strike="noStrike">
              <a:solidFill>
                <a:srgbClr val="000000"/>
              </a:solidFill>
              <a:latin typeface="Verdana"/>
            </a:endParaRPr>
          </a:p>
        </p:txBody>
      </p:sp>
      <p:sp>
        <p:nvSpPr>
          <p:cNvPr id="142" name="PlaceHolder 2"/>
          <p:cNvSpPr>
            <a:spLocks noGrp="1"/>
          </p:cNvSpPr>
          <p:nvPr>
            <p:ph/>
          </p:nvPr>
        </p:nvSpPr>
        <p:spPr>
          <a:xfrm>
            <a:off x="328680" y="1752120"/>
            <a:ext cx="8208720" cy="441972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la hermenéutica, ser racional es estar dispuesto a abstenerse de la epistemología y a adquirir la jerga del interlocutor en vez de traducirla a la suya propia. Para la epistemología, ser racional es encontrar el conjunto adecuado de términos a que deberían traducirse todas las aportaciones para que sea posible el acuerdo. </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epistemología ve a los participantes unidos en lo que Oakeshott llama una universitas —grupo unido por intereses mutuos en la consecución de un fin común. La hermenéutica los ve unidos en lo que él llama una societas —personas cuyos caminos por la vida se han juntado, unidas por la urbanidad más que por un objetivo común, y mucho menos por un terreno común». (Página 290).</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43" name="Object 4"/>
          <p:cNvGraphicFramePr/>
          <p:nvPr/>
        </p:nvGraphicFramePr>
        <p:xfrm>
          <a:off x="1521000" y="1407960"/>
          <a:ext cx="6070320" cy="4065840"/>
        </p:xfrm>
        <a:graphic>
          <a:graphicData uri="http://schemas.openxmlformats.org/presentationml/2006/ole">
            <p:oleObj progId="Word.Document.12" r:id="rId1" spid="">
              <p:embed/>
              <p:pic>
                <p:nvPicPr>
                  <p:cNvPr id="144"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dea de Conmesuración</a:t>
            </a:r>
            <a:endParaRPr b="0" lang="en-US" sz="3800" spc="-1" strike="noStrike">
              <a:solidFill>
                <a:srgbClr val="000000"/>
              </a:solidFill>
              <a:latin typeface="Verdana"/>
            </a:endParaRPr>
          </a:p>
        </p:txBody>
      </p:sp>
      <p:sp>
        <p:nvSpPr>
          <p:cNvPr id="146" name="PlaceHolder 2"/>
          <p:cNvSpPr>
            <a:spLocks noGrp="1"/>
          </p:cNvSpPr>
          <p:nvPr>
            <p:ph/>
          </p:nvPr>
        </p:nvSpPr>
        <p:spPr>
          <a:xfrm>
            <a:off x="328680" y="1752120"/>
            <a:ext cx="8208720" cy="430380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r>
              <a:rPr b="0" lang="es-CL" sz="2100" spc="-1" strike="noStrike">
                <a:solidFill>
                  <a:srgbClr val="000000"/>
                </a:solidFill>
                <a:latin typeface="Verdana"/>
              </a:rPr>
              <a:t>Conmensurable es aquello que es capaz de ser sometido a un conjunto de reglas que nos dicen cómo podríamos llegar a acuerdo sobre lo que resolvería el problema...”</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señala que, la posibilidad de hacer </a:t>
            </a:r>
            <a:r>
              <a:rPr b="0" lang="es-CL" sz="2100" spc="-1" strike="noStrike">
                <a:solidFill>
                  <a:srgbClr val="cc0000"/>
                </a:solidFill>
                <a:latin typeface="Verdana"/>
              </a:rPr>
              <a:t>conmensurables</a:t>
            </a:r>
            <a:r>
              <a:rPr b="0" lang="es-CL" sz="2100" spc="-1" strike="noStrike">
                <a:solidFill>
                  <a:srgbClr val="000000"/>
                </a:solidFill>
                <a:latin typeface="Verdana"/>
              </a:rPr>
              <a:t> discursos diferentes unificándolos en uno sólo coherente, o que esto no pueda hacerse, depende exclusivamente de que estos discursos pertenezcan a un mismo paradigma, es decir, que pueda darse la diferencia entre un discuro «normal» y uno «anormal», tal como Kuhn entiende la división entre ciencia normal y ciencia anormal. </a:t>
            </a:r>
            <a:endParaRPr b="0" lang="en-US" sz="2100" spc="-1" strike="noStrike">
              <a:solidFill>
                <a:srgbClr val="000000"/>
              </a:solidFill>
              <a:latin typeface="Verdana"/>
            </a:endParaRPr>
          </a:p>
        </p:txBody>
      </p:sp>
      <p:graphicFrame>
        <p:nvGraphicFramePr>
          <p:cNvPr id="147" name="Object 4"/>
          <p:cNvGraphicFramePr/>
          <p:nvPr/>
        </p:nvGraphicFramePr>
        <p:xfrm>
          <a:off x="1521000" y="1407960"/>
          <a:ext cx="6070320" cy="4065840"/>
        </p:xfrm>
        <a:graphic>
          <a:graphicData uri="http://schemas.openxmlformats.org/presentationml/2006/ole">
            <p:oleObj progId="Word.Document.12" r:id="rId1" spid="">
              <p:embed/>
              <p:pic>
                <p:nvPicPr>
                  <p:cNvPr id="148"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como discurso</a:t>
            </a:r>
            <a:endParaRPr b="0" lang="en-US" sz="3800" spc="-1" strike="noStrike">
              <a:solidFill>
                <a:srgbClr val="000000"/>
              </a:solidFill>
              <a:latin typeface="Verdana"/>
            </a:endParaRPr>
          </a:p>
        </p:txBody>
      </p:sp>
      <p:sp>
        <p:nvSpPr>
          <p:cNvPr id="150" name="PlaceHolder 2"/>
          <p:cNvSpPr>
            <a:spLocks noGrp="1"/>
          </p:cNvSpPr>
          <p:nvPr>
            <p:ph/>
          </p:nvPr>
        </p:nvSpPr>
        <p:spPr>
          <a:xfrm>
            <a:off x="328680" y="1752120"/>
            <a:ext cx="8208720" cy="430380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a ampliación de los conceptos de Kuhn sobre otros aspectos de cultura además de las ciencias permite a Rorty plantearnos que la hermenéutica busca una racionalidad donde ya sabemos que no podemos acordar sus bases y cuando hemos perdido toda posibilidad de recurrir a una disciplina (como la filosofía) que pueda ayudarnos a establecer un acuerdo. «Pero la hermenéutica es el estudio de un discurso anormal desde el punto de vista de un discurso normal —el intento de dar cierto sentido a lo que está pasando en momentos en los que aun no estamos seguros sobre ello como para hacer una descripción y, por tanto,  para comenzar su explicación epistemológica». (Página 292).</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51" name="Object 4"/>
          <p:cNvGraphicFramePr/>
          <p:nvPr/>
        </p:nvGraphicFramePr>
        <p:xfrm>
          <a:off x="1521000" y="1407960"/>
          <a:ext cx="6070320" cy="4065840"/>
        </p:xfrm>
        <a:graphic>
          <a:graphicData uri="http://schemas.openxmlformats.org/presentationml/2006/ole">
            <p:oleObj progId="Word.Document.12" r:id="rId1" spid="">
              <p:embed/>
              <p:pic>
                <p:nvPicPr>
                  <p:cNvPr id="152"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como postura permanente?</a:t>
            </a:r>
            <a:endParaRPr b="0" lang="en-US" sz="3800" spc="-1" strike="noStrike">
              <a:solidFill>
                <a:srgbClr val="000000"/>
              </a:solidFill>
              <a:latin typeface="Verdana"/>
            </a:endParaRPr>
          </a:p>
        </p:txBody>
      </p:sp>
      <p:sp>
        <p:nvSpPr>
          <p:cNvPr id="154" name="PlaceHolder 2"/>
          <p:cNvSpPr>
            <a:spLocks noGrp="1"/>
          </p:cNvSpPr>
          <p:nvPr>
            <p:ph/>
          </p:nvPr>
        </p:nvSpPr>
        <p:spPr>
          <a:xfrm>
            <a:off x="328680" y="1752120"/>
            <a:ext cx="8208720" cy="4303800"/>
          </a:xfrm>
          <a:prstGeom prst="rect">
            <a:avLst/>
          </a:prstGeom>
          <a:noFill/>
          <a:ln w="0">
            <a:noFill/>
          </a:ln>
        </p:spPr>
        <p:txBody>
          <a:bodyPr anchor="t">
            <a:normAutofit/>
          </a:bodyPr>
          <a:p>
            <a:pPr marL="469800" indent="-469800" algn="just">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remos epistemólogos donde compren-damos perfectamente bien lo que está ocurrien-do, pero queremos codificarlo para ampliarlo, fortalecerlo, enseñarlo o ‘buscarle una base’. Tenemos que ser hermenéuticos cuando no comprendamos lo que está ocurriendo, pero tenemos la honradez de admitirlo, en vez de adoptar una actitud descaradamente ‘Whiggish’ (acomodaticia) al respecto». (Página 292).</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graphicFrame>
        <p:nvGraphicFramePr>
          <p:cNvPr id="155" name="Object 4"/>
          <p:cNvGraphicFramePr/>
          <p:nvPr/>
        </p:nvGraphicFramePr>
        <p:xfrm>
          <a:off x="1521000" y="1407960"/>
          <a:ext cx="6070320" cy="4065840"/>
        </p:xfrm>
        <a:graphic>
          <a:graphicData uri="http://schemas.openxmlformats.org/presentationml/2006/ole">
            <p:oleObj progId="Word.Document.12" r:id="rId1" spid="">
              <p:embed/>
              <p:pic>
                <p:nvPicPr>
                  <p:cNvPr id="156"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r>
              <a:rPr b="0" lang="es-CL" sz="3200" spc="-1" strike="noStrike">
                <a:solidFill>
                  <a:srgbClr val="000000"/>
                </a:solidFill>
                <a:latin typeface="Verdana"/>
              </a:rPr>
              <a:t>CLASE 5- </a:t>
            </a:r>
            <a:r>
              <a:rPr b="0" lang="es-CL" sz="1400" spc="-1" strike="noStrike">
                <a:solidFill>
                  <a:srgbClr val="000000"/>
                </a:solidFill>
                <a:latin typeface="Verdana"/>
              </a:rPr>
              <a:t>9 DE ABRIL DE 2009</a:t>
            </a:r>
            <a:endParaRPr b="0" lang="en-US" sz="1400" spc="-1" strike="noStrike">
              <a:solidFill>
                <a:srgbClr val="000000"/>
              </a:solidFill>
              <a:latin typeface="Verdana"/>
            </a:endParaRPr>
          </a:p>
        </p:txBody>
      </p:sp>
      <p:sp>
        <p:nvSpPr>
          <p:cNvPr id="94"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ESORA: PILAR BARB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S: CRISTIAN RAYNAUD</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	</a:t>
            </a:r>
            <a:r>
              <a:rPr b="0" lang="es-CL" sz="2400" spc="-1" strike="noStrike">
                <a:solidFill>
                  <a:srgbClr val="000000"/>
                </a:solidFill>
                <a:latin typeface="Verdana"/>
              </a:rPr>
              <a:t>   </a:t>
            </a:r>
            <a:r>
              <a:rPr b="0" lang="es-CL" sz="2400" spc="-1" strike="noStrike">
                <a:solidFill>
                  <a:srgbClr val="000000"/>
                </a:solidFill>
                <a:latin typeface="Verdana"/>
              </a:rPr>
              <a:t>PAMELA DOMINGUEZ</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y ciencia</a:t>
            </a:r>
            <a:endParaRPr b="0" lang="en-US" sz="3800" spc="-1" strike="noStrike">
              <a:solidFill>
                <a:srgbClr val="000000"/>
              </a:solidFill>
              <a:latin typeface="Verdana"/>
            </a:endParaRPr>
          </a:p>
        </p:txBody>
      </p:sp>
      <p:sp>
        <p:nvSpPr>
          <p:cNvPr id="158" name="PlaceHolder 2"/>
          <p:cNvSpPr>
            <a:spLocks noGrp="1"/>
          </p:cNvSpPr>
          <p:nvPr>
            <p:ph/>
          </p:nvPr>
        </p:nvSpPr>
        <p:spPr>
          <a:xfrm>
            <a:off x="328680" y="1752120"/>
            <a:ext cx="8208720" cy="430380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gún estos argumentos, Rorty se atreve, sobrepasando a Kuhn, a negar definitivamente que haya algo extra llamado «reconstrucción racional» que pueda legitimar la práctica científica actual (u otra cultural como la arquitectura, diríamos nosotros), sin considerar que ello equivalga a decir que los átomos, las ondas, y otros descubrimientos de los científicos sean creaciones del espíritu humano, es decir, que la actitud hermenéutica sobre la historia de los discursos teóricos (a diferencia de la epistemológica) sea un retorno al idealismo kantiano y la tesis de que la actividad del espíritu humano hace (desde el interior subjetivo) más bien que encuentra (en el exterior, objetivo).</a:t>
            </a:r>
            <a:endParaRPr b="0" lang="en-US" sz="21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59" name="Object 4"/>
          <p:cNvGraphicFramePr/>
          <p:nvPr/>
        </p:nvGraphicFramePr>
        <p:xfrm>
          <a:off x="1521000" y="1407960"/>
          <a:ext cx="6070320" cy="4065840"/>
        </p:xfrm>
        <a:graphic>
          <a:graphicData uri="http://schemas.openxmlformats.org/presentationml/2006/ole">
            <p:oleObj progId="Word.Document.12" r:id="rId1" spid="">
              <p:embed/>
              <p:pic>
                <p:nvPicPr>
                  <p:cNvPr id="160"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blemas para hermenéutica</a:t>
            </a:r>
            <a:endParaRPr b="0" lang="en-US" sz="3800" spc="-1" strike="noStrike">
              <a:solidFill>
                <a:srgbClr val="000000"/>
              </a:solidFill>
              <a:latin typeface="Verdana"/>
            </a:endParaRPr>
          </a:p>
        </p:txBody>
      </p:sp>
      <p:sp>
        <p:nvSpPr>
          <p:cNvPr id="162"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n el proyecto de Rorty, de una orientación diferente para la filosofía que deje de lado la confrontación para adoptar una conversación donde la hermenéutica actúe como una racionalidad alternativa o complementaria de la epistemológica, debe superar :</a:t>
            </a:r>
            <a:endParaRPr b="0" lang="en-US" sz="2100" spc="-1" strike="noStrike">
              <a:solidFill>
                <a:srgbClr val="000000"/>
              </a:solidFill>
              <a:latin typeface="Verdana"/>
            </a:endParaRPr>
          </a:p>
          <a:p>
            <a:pPr marL="533520" indent="-533520" algn="just">
              <a:lnSpc>
                <a:spcPct val="90000"/>
              </a:lnSpc>
              <a:spcBef>
                <a:spcPts val="5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Una concepción clásica del hombre que es común a platónicos, kantianos y positivista: que el hombre tiene una esencia, y ésta es descubrir esencias. </a:t>
            </a:r>
            <a:endParaRPr b="0" lang="en-US" sz="2100" spc="-1" strike="noStrike">
              <a:solidFill>
                <a:srgbClr val="000000"/>
              </a:solidFill>
              <a:latin typeface="Verdana"/>
            </a:endParaRPr>
          </a:p>
          <a:p>
            <a:pPr marL="533520" indent="-533520" algn="just">
              <a:lnSpc>
                <a:spcPct val="90000"/>
              </a:lnSpc>
              <a:spcBef>
                <a:spcPts val="5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que nuestra tarea principal es reflejar con exactitud, en nuestra propia Esencia de Vidrio, el uni-verso que nos rodea, es el complemento a la idea 1.</a:t>
            </a:r>
            <a:endParaRPr b="0" lang="en-US" sz="2100" spc="-1" strike="noStrike">
              <a:solidFill>
                <a:srgbClr val="000000"/>
              </a:solidFill>
              <a:latin typeface="Verdana"/>
            </a:endParaRPr>
          </a:p>
          <a:p>
            <a:pPr marL="53352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63" name="Object 4"/>
          <p:cNvGraphicFramePr/>
          <p:nvPr/>
        </p:nvGraphicFramePr>
        <p:xfrm>
          <a:off x="1521000" y="1407960"/>
          <a:ext cx="6070320" cy="4065840"/>
        </p:xfrm>
        <a:graphic>
          <a:graphicData uri="http://schemas.openxmlformats.org/presentationml/2006/ole">
            <p:oleObj progId="Word.Document.12" r:id="rId1" spid="">
              <p:embed/>
              <p:pic>
                <p:nvPicPr>
                  <p:cNvPr id="164"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y Edificación</a:t>
            </a:r>
            <a:endParaRPr b="0" lang="en-US" sz="3800" spc="-1" strike="noStrike">
              <a:solidFill>
                <a:srgbClr val="000000"/>
              </a:solidFill>
              <a:latin typeface="Verdana"/>
            </a:endParaRPr>
          </a:p>
        </p:txBody>
      </p:sp>
      <p:sp>
        <p:nvSpPr>
          <p:cNvPr id="166"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señala a Gadamer y su idea de Bildung (educación, auto-formación) como quien ha aportado la orientación aconsejable capaz de suplantar al conocimiento como meta del pensamiento filosófico, y propone el empleo de la palabra «edificación» .</a:t>
            </a:r>
            <a:endParaRPr b="0" lang="en-US" sz="2100" spc="-1" strike="noStrike">
              <a:solidFill>
                <a:srgbClr val="000000"/>
              </a:solidFill>
              <a:latin typeface="Verdana"/>
            </a:endParaRPr>
          </a:p>
          <a:p>
            <a:pPr marL="533520" indent="-53352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egún Gadamer, la Bildung se corresponde con nuestra intuición existencialista de que lo más importante que podemos hacer es redescribirnos a nosotros mismos.  </a:t>
            </a:r>
            <a:endParaRPr b="0" lang="en-US" sz="2100" spc="-1" strike="noStrike">
              <a:solidFill>
                <a:srgbClr val="000000"/>
              </a:solidFill>
              <a:latin typeface="Verdana"/>
            </a:endParaRPr>
          </a:p>
          <a:p>
            <a:pPr marL="533520" indent="-53352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edificar (a nosotros mismos y a los demás) puede consistir en la actividad hermenéutica de establecer conexiones entre nuestra propia cultura y alguna cultura o período histórico exóticos, o entre nuestra propia disciplina y otra disciplina</a:t>
            </a:r>
            <a:endParaRPr b="0" lang="en-US" sz="2100" spc="-1" strike="noStrike">
              <a:solidFill>
                <a:srgbClr val="000000"/>
              </a:solidFill>
              <a:latin typeface="Verdana"/>
            </a:endParaRPr>
          </a:p>
        </p:txBody>
      </p:sp>
      <p:graphicFrame>
        <p:nvGraphicFramePr>
          <p:cNvPr id="167" name="Object 4"/>
          <p:cNvGraphicFramePr/>
          <p:nvPr/>
        </p:nvGraphicFramePr>
        <p:xfrm>
          <a:off x="1521000" y="1407960"/>
          <a:ext cx="6070320" cy="4065840"/>
        </p:xfrm>
        <a:graphic>
          <a:graphicData uri="http://schemas.openxmlformats.org/presentationml/2006/ole">
            <p:oleObj progId="Word.Document.12" r:id="rId1" spid="">
              <p:embed/>
              <p:pic>
                <p:nvPicPr>
                  <p:cNvPr id="168"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dificación y verdad</a:t>
            </a:r>
            <a:endParaRPr b="0" lang="en-US" sz="3800" spc="-1" strike="noStrike">
              <a:solidFill>
                <a:srgbClr val="000000"/>
              </a:solidFill>
              <a:latin typeface="Verdana"/>
            </a:endParaRPr>
          </a:p>
        </p:txBody>
      </p:sp>
      <p:sp>
        <p:nvSpPr>
          <p:cNvPr id="170"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menciona a Gadamer, Heidegger y Sartre como aquellos que nos han hecho ver que la búsqueda de la verdad y el conocimiento objetivo (y especialmente aquel que sólo puede encontrarse buscando afuera) es sólo una de las muchas formas de ser edificado, sólo uno de diversos proyectos humanos. «Sin embargo, éste queda reflejado más gráficamente en Sartre, quien concibe el intento de adquirir un conocimiento objetivo del mundo y, por tanto, de uno mismo, como un intento de evitar la responsabilidad de elegir el propio proyecto...(Página 326).</a:t>
            </a:r>
            <a:endParaRPr b="0" lang="en-US" sz="2100" spc="-1" strike="noStrike">
              <a:solidFill>
                <a:srgbClr val="000000"/>
              </a:solidFill>
              <a:latin typeface="Verdana"/>
            </a:endParaRPr>
          </a:p>
          <a:p>
            <a:pPr marL="53352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71" name="Object 4"/>
          <p:cNvGraphicFramePr/>
          <p:nvPr/>
        </p:nvGraphicFramePr>
        <p:xfrm>
          <a:off x="1521000" y="1407960"/>
          <a:ext cx="6070320" cy="4065840"/>
        </p:xfrm>
        <a:graphic>
          <a:graphicData uri="http://schemas.openxmlformats.org/presentationml/2006/ole">
            <p:oleObj progId="Word.Document.12" r:id="rId1" spid="">
              <p:embed/>
              <p:pic>
                <p:nvPicPr>
                  <p:cNvPr id="172"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lgunas recomendaciones  “edificantes”</a:t>
            </a:r>
            <a:endParaRPr b="0" lang="en-US" sz="3800" spc="-1" strike="noStrike">
              <a:solidFill>
                <a:srgbClr val="000000"/>
              </a:solidFill>
              <a:latin typeface="Verdana"/>
            </a:endParaRPr>
          </a:p>
        </p:txBody>
      </p:sp>
      <p:sp>
        <p:nvSpPr>
          <p:cNvPr id="174"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reinterpretar nuestros entornos familiares en términos, no familiares, de nuestras nuevas invenciones. </a:t>
            </a:r>
            <a:endParaRPr b="0" lang="en-US" sz="2100" spc="-1" strike="noStrike">
              <a:solidFill>
                <a:srgbClr val="000000"/>
              </a:solidFill>
              <a:latin typeface="Verdana"/>
            </a:endParaRPr>
          </a:p>
          <a:p>
            <a:pPr marL="533520" indent="-53352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ctividad es edificar sin ser constructivo —al menos si ‘constructivo’ significa aquella forma de cooperación en la realización de programas de investigación que tiene lugar en el discurso normal.</a:t>
            </a:r>
            <a:endParaRPr b="0" lang="en-US" sz="2100" spc="-1" strike="noStrike">
              <a:solidFill>
                <a:srgbClr val="000000"/>
              </a:solidFill>
              <a:latin typeface="Verdana"/>
            </a:endParaRPr>
          </a:p>
          <a:p>
            <a:pPr marL="533520" indent="-53352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e supone que el discurso que edifica es anormal, que nos saca de nosotros mismos por la fuerza de lo extraño, para ayudarnos a convertirnos en seres nuevos». (Página 326).</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53352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75" name="Object 4"/>
          <p:cNvGraphicFramePr/>
          <p:nvPr/>
        </p:nvGraphicFramePr>
        <p:xfrm>
          <a:off x="1521000" y="1407960"/>
          <a:ext cx="6070320" cy="4065840"/>
        </p:xfrm>
        <a:graphic>
          <a:graphicData uri="http://schemas.openxmlformats.org/presentationml/2006/ole">
            <p:oleObj progId="Word.Document.12" r:id="rId1" spid="">
              <p:embed/>
              <p:pic>
                <p:nvPicPr>
                  <p:cNvPr id="176"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ceptos clave</a:t>
            </a:r>
            <a:endParaRPr b="0" lang="en-US" sz="3800" spc="-1" strike="noStrike">
              <a:solidFill>
                <a:srgbClr val="000000"/>
              </a:solidFill>
              <a:latin typeface="Verdana"/>
            </a:endParaRPr>
          </a:p>
        </p:txBody>
      </p:sp>
      <p:sp>
        <p:nvSpPr>
          <p:cNvPr id="178"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nfrontación v/s Conversación</a:t>
            </a:r>
            <a:endParaRPr b="0" lang="en-US" sz="2600" spc="-1" strike="noStrike">
              <a:solidFill>
                <a:srgbClr val="000000"/>
              </a:solidFill>
              <a:latin typeface="Verdana"/>
            </a:endParaRPr>
          </a:p>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pistemología v/s Hermenéutica</a:t>
            </a:r>
            <a:endParaRPr b="0" lang="en-US" sz="2600" spc="-1" strike="noStrike">
              <a:solidFill>
                <a:srgbClr val="000000"/>
              </a:solidFill>
              <a:latin typeface="Verdana"/>
            </a:endParaRPr>
          </a:p>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Idea de Conmesuración</a:t>
            </a:r>
            <a:endParaRPr b="0" lang="en-US" sz="2600" spc="-1" strike="noStrike">
              <a:solidFill>
                <a:srgbClr val="000000"/>
              </a:solidFill>
              <a:latin typeface="Verdana"/>
            </a:endParaRPr>
          </a:p>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dificación-Hermenéutica</a:t>
            </a:r>
            <a:endParaRPr b="0" lang="en-US" sz="2600" spc="-1" strike="noStrike">
              <a:solidFill>
                <a:srgbClr val="000000"/>
              </a:solidFill>
              <a:latin typeface="Verdana"/>
            </a:endParaRPr>
          </a:p>
        </p:txBody>
      </p:sp>
      <p:graphicFrame>
        <p:nvGraphicFramePr>
          <p:cNvPr id="179" name="Object 4"/>
          <p:cNvGraphicFramePr/>
          <p:nvPr/>
        </p:nvGraphicFramePr>
        <p:xfrm>
          <a:off x="1521000" y="1407960"/>
          <a:ext cx="6070320" cy="4065840"/>
        </p:xfrm>
        <a:graphic>
          <a:graphicData uri="http://schemas.openxmlformats.org/presentationml/2006/ole">
            <p:oleObj progId="Word.Document.12" r:id="rId1" spid="">
              <p:embed/>
              <p:pic>
                <p:nvPicPr>
                  <p:cNvPr id="180"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ra reflexionar</a:t>
            </a:r>
            <a:endParaRPr b="0" lang="en-US" sz="3800" spc="-1" strike="noStrike">
              <a:solidFill>
                <a:srgbClr val="000000"/>
              </a:solidFill>
              <a:latin typeface="Verdana"/>
            </a:endParaRPr>
          </a:p>
        </p:txBody>
      </p:sp>
      <p:sp>
        <p:nvSpPr>
          <p:cNvPr id="182"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Todo vale?</a:t>
            </a:r>
            <a:endParaRPr b="0" lang="en-US" sz="2600" spc="-1" strike="noStrike">
              <a:solidFill>
                <a:srgbClr val="000000"/>
              </a:solidFill>
              <a:latin typeface="Verdana"/>
            </a:endParaRPr>
          </a:p>
        </p:txBody>
      </p:sp>
      <p:graphicFrame>
        <p:nvGraphicFramePr>
          <p:cNvPr id="183" name="Object 4"/>
          <p:cNvGraphicFramePr/>
          <p:nvPr/>
        </p:nvGraphicFramePr>
        <p:xfrm>
          <a:off x="1521000" y="1407960"/>
          <a:ext cx="6070320" cy="4065840"/>
        </p:xfrm>
        <a:graphic>
          <a:graphicData uri="http://schemas.openxmlformats.org/presentationml/2006/ole">
            <p:oleObj progId="Word.Document.12" r:id="rId1" spid="">
              <p:embed/>
              <p:pic>
                <p:nvPicPr>
                  <p:cNvPr id="184"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5" name="Picture 4" descr="Rorty-1"/>
          <p:cNvPicPr/>
          <p:nvPr/>
        </p:nvPicPr>
        <p:blipFill>
          <a:blip r:embed="rId1"/>
          <a:stretch/>
        </p:blipFill>
        <p:spPr>
          <a:xfrm>
            <a:off x="1085760" y="0"/>
            <a:ext cx="7372440" cy="737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563400"/>
            <a:ext cx="8001000" cy="95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ichard Rorty</a:t>
            </a:r>
            <a:br>
              <a:rPr sz="3800"/>
            </a:br>
            <a:r>
              <a:rPr b="0" lang="es-CL" sz="1900" spc="-1" strike="noStrike">
                <a:solidFill>
                  <a:srgbClr val="000000"/>
                </a:solidFill>
                <a:latin typeface="Verdana"/>
              </a:rPr>
              <a:t>Nueva York, 1931-2007</a:t>
            </a:r>
            <a:endParaRPr b="0" lang="en-US" sz="1900" spc="-1" strike="noStrike">
              <a:solidFill>
                <a:srgbClr val="000000"/>
              </a:solidFill>
              <a:latin typeface="Verdana"/>
            </a:endParaRPr>
          </a:p>
        </p:txBody>
      </p:sp>
      <p:pic>
        <p:nvPicPr>
          <p:cNvPr id="96" name="Picture 8" descr="Rorty-1"/>
          <p:cNvPicPr/>
          <p:nvPr/>
        </p:nvPicPr>
        <p:blipFill>
          <a:blip r:embed="rId1"/>
          <a:stretch/>
        </p:blipFill>
        <p:spPr>
          <a:xfrm>
            <a:off x="3809880" y="15238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gresa el conocimiento?</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Verdades eternas y perenn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cordemos nuestra definición de espacio...</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i fueramos astrónomo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i fueramos campesino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O músico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O poeta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exto</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99"/>
                </a:solidFill>
                <a:latin typeface="Verdana"/>
              </a:rPr>
              <a:t>La filosofía y el espejo de la naturaleza </a:t>
            </a:r>
            <a:r>
              <a:rPr b="0" lang="es-CL" sz="3000" spc="-1" strike="noStrike">
                <a:solidFill>
                  <a:srgbClr val="000000"/>
                </a:solidFill>
                <a:latin typeface="Verdana"/>
              </a:rPr>
              <a:t>(1979)</a:t>
            </a: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r>
              <a:rPr b="0" lang="es-CL" sz="3000" spc="-1" strike="noStrike">
                <a:solidFill>
                  <a:srgbClr val="000000"/>
                </a:solidFill>
                <a:latin typeface="Verdana"/>
              </a:rPr>
              <a:t>Editorial Cátedra S.A. 1989, Madrid.</a:t>
            </a:r>
            <a:endParaRPr b="0" lang="en-US" sz="3000" spc="-1" strike="noStrike">
              <a:solidFill>
                <a:srgbClr val="000000"/>
              </a:solidFill>
              <a:latin typeface="Verdana"/>
            </a:endParaRPr>
          </a:p>
          <a:p>
            <a:pPr marL="609480" indent="-60948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s iniciales: </a:t>
            </a:r>
            <a:endParaRPr b="0" lang="en-US" sz="3000" spc="-1" strike="noStrike">
              <a:solidFill>
                <a:srgbClr val="000000"/>
              </a:solidFill>
              <a:latin typeface="Verdana"/>
            </a:endParaRPr>
          </a:p>
          <a:p>
            <a:pPr marL="609480" indent="-609480">
              <a:lnSpc>
                <a:spcPct val="90000"/>
              </a:lnSpc>
              <a:spcBef>
                <a:spcPts val="75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 filosofía como búsqueda privilegiada de fundamentos</a:t>
            </a:r>
            <a:endParaRPr b="0" lang="en-US" sz="3000" spc="-1" strike="noStrike">
              <a:solidFill>
                <a:srgbClr val="000000"/>
              </a:solidFill>
              <a:latin typeface="Verdana"/>
            </a:endParaRPr>
          </a:p>
          <a:p>
            <a:pPr marL="609480" indent="-609480">
              <a:lnSpc>
                <a:spcPct val="90000"/>
              </a:lnSpc>
              <a:spcBef>
                <a:spcPts val="75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 idea de que la mente humana es como un espejo que refleja la realida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l espejo de la naturaleza</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presenta una visión de la historia de la filosofía (especialmente de la filosofía analítica) caracterizada por la idea de </a:t>
            </a:r>
            <a:r>
              <a:rPr b="0" lang="es-CL" sz="2100" spc="-1" strike="noStrike">
                <a:solidFill>
                  <a:srgbClr val="cc0000"/>
                </a:solidFill>
                <a:latin typeface="Verdana"/>
              </a:rPr>
              <a:t>confrontación</a:t>
            </a:r>
            <a:r>
              <a:rPr b="0" lang="es-CL" sz="2100" spc="-1" strike="noStrike">
                <a:solidFill>
                  <a:srgbClr val="000000"/>
                </a:solidFill>
                <a:latin typeface="Verdana"/>
              </a:rPr>
              <a:t>. La separación categórica entre mente y cuerpo, entre la cosa pensante interior y la cosa física exterior, según la cual el hombre está caracterizado y distinguido entre los demás seres, ha sugerido un modelo de lo mental como un Ojo Interior que mira y distingue dentro de sí mismo, una Esencia de Vidrio que refleja el mundo real. Pensar y, especialmente, conocer, es aquello que desde el siglo XVII hasta el XIX ha caracterizado tradicionalmente lo filosófico y sigue caracterizando la opinión común sobre el rol de la filosofía hasta nuestros días.</a:t>
            </a:r>
            <a:endParaRPr b="0" lang="en-US" sz="2100" spc="-1" strike="noStrike">
              <a:solidFill>
                <a:srgbClr val="000000"/>
              </a:solidFill>
              <a:latin typeface="Verdana"/>
            </a:endParaRPr>
          </a:p>
        </p:txBody>
      </p:sp>
      <p:graphicFrame>
        <p:nvGraphicFramePr>
          <p:cNvPr id="103" name="Object 4"/>
          <p:cNvGraphicFramePr/>
          <p:nvPr/>
        </p:nvGraphicFramePr>
        <p:xfrm>
          <a:off x="1527120" y="1397160"/>
          <a:ext cx="6087960" cy="4063680"/>
        </p:xfrm>
        <a:graphic>
          <a:graphicData uri="http://schemas.openxmlformats.org/presentationml/2006/ole">
            <p:oleObj progId="Word.Document.12" r:id="rId1" spid="">
              <p:embed/>
              <p:pic>
                <p:nvPicPr>
                  <p:cNvPr id="104"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uentes</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ontra esta idea privilegiada de lo humano causante de problemas insolubles (que han dado lugar a la filosofía analítica en sus numerosas corrientes que buscan mejorar y depurar la imagen en el espejo), Rorty propone la necesidad de superar estas construcciones metafóricas, sustituyendo la motivación </a:t>
            </a:r>
            <a:r>
              <a:rPr b="0" lang="es-CL" sz="2100" spc="-1" strike="noStrike">
                <a:solidFill>
                  <a:srgbClr val="cc0000"/>
                </a:solidFill>
                <a:latin typeface="Verdana"/>
              </a:rPr>
              <a:t>confrontacional</a:t>
            </a:r>
            <a:r>
              <a:rPr b="0" lang="es-CL" sz="2100" spc="-1" strike="noStrike">
                <a:solidFill>
                  <a:srgbClr val="000000"/>
                </a:solidFill>
                <a:latin typeface="Verdana"/>
              </a:rPr>
              <a:t> por otra </a:t>
            </a:r>
            <a:r>
              <a:rPr b="0" lang="es-CL" sz="2100" spc="-1" strike="noStrike">
                <a:solidFill>
                  <a:srgbClr val="cc0000"/>
                </a:solidFill>
                <a:latin typeface="Verdana"/>
              </a:rPr>
              <a:t>conversacional</a:t>
            </a:r>
            <a:r>
              <a:rPr b="0" lang="es-CL" sz="2100" spc="-1" strike="noStrike">
                <a:solidFill>
                  <a:srgbClr val="000000"/>
                </a:solidFill>
                <a:latin typeface="Verdana"/>
              </a:rPr>
              <a:t>, tomando como referencia el pensamiento crítico de Wittgenstein, Heidegger y Dewey y conectándolo con la hermenéutica y la edificación de Gadamer.</a:t>
            </a:r>
            <a:endParaRPr b="0" lang="en-US" sz="2100" spc="-1" strike="noStrike">
              <a:solidFill>
                <a:srgbClr val="000000"/>
              </a:solidFill>
              <a:latin typeface="Verdana"/>
            </a:endParaRPr>
          </a:p>
        </p:txBody>
      </p:sp>
      <p:graphicFrame>
        <p:nvGraphicFramePr>
          <p:cNvPr id="107" name="Object 4"/>
          <p:cNvGraphicFramePr/>
          <p:nvPr/>
        </p:nvGraphicFramePr>
        <p:xfrm>
          <a:off x="1527120" y="1397160"/>
          <a:ext cx="6087960" cy="4063680"/>
        </p:xfrm>
        <a:graphic>
          <a:graphicData uri="http://schemas.openxmlformats.org/presentationml/2006/ole">
            <p:oleObj progId="Word.Document.12" r:id="rId1" spid="">
              <p:embed/>
              <p:pic>
                <p:nvPicPr>
                  <p:cNvPr id="108"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ilosofía como confrontación</a:t>
            </a:r>
            <a:endParaRPr b="0" lang="en-US" sz="3800" spc="-1" strike="noStrike">
              <a:solidFill>
                <a:srgbClr val="000000"/>
              </a:solidFill>
              <a:latin typeface="Verdana"/>
            </a:endParaRPr>
          </a:p>
        </p:txBody>
      </p:sp>
      <p:sp>
        <p:nvSpPr>
          <p:cNvPr id="110" name="PlaceHolder 2"/>
          <p:cNvSpPr>
            <a:spLocks noGrp="1"/>
          </p:cNvSpPr>
          <p:nvPr>
            <p:ph/>
          </p:nvPr>
        </p:nvSpPr>
        <p:spPr>
          <a:xfrm>
            <a:off x="228240" y="1828800"/>
            <a:ext cx="8209080" cy="411480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filosofía orientada por la metáfora confrontacional puede sintetizarse en la siguiente secuencia (pág. 154):</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 «...original era la de determinar nuestras creencias poniéndolas cara a cara con el objeto de la creencia (la figura geométrica que prueba el teorema, por ejemplo). »  Filosofía griega, Platón, etc.</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b) «El siguiente paso es pensar que entender cómo se conoce mejor es entender cómo se mejora la actividad de una facultad cuasi-visual, el Espejo de la Naturaleza, y, por lo tanto, pensar en el conocimiento en cuanto agrupación de representaciones exactas. »</a:t>
            </a:r>
            <a:endParaRPr b="0" lang="en-US" sz="2100" spc="-1" strike="noStrike">
              <a:solidFill>
                <a:srgbClr val="000000"/>
              </a:solidFill>
              <a:latin typeface="Verdana"/>
            </a:endParaRPr>
          </a:p>
        </p:txBody>
      </p:sp>
      <p:graphicFrame>
        <p:nvGraphicFramePr>
          <p:cNvPr id="111" name="Object 4"/>
          <p:cNvGraphicFramePr/>
          <p:nvPr/>
        </p:nvGraphicFramePr>
        <p:xfrm>
          <a:off x="1527120" y="1727280"/>
          <a:ext cx="6087960" cy="4064040"/>
        </p:xfrm>
        <a:graphic>
          <a:graphicData uri="http://schemas.openxmlformats.org/presentationml/2006/ole">
            <p:oleObj progId="Word.Document.12" r:id="rId1" spid="">
              <p:embed/>
              <p:pic>
                <p:nvPicPr>
                  <p:cNvPr id="112" name="Object 4" descr=""/>
                  <p:cNvPicPr/>
                  <p:nvPr/>
                </p:nvPicPr>
                <p:blipFill>
                  <a:blip r:embed="rId2"/>
                  <a:stretch/>
                </p:blipFill>
                <p:spPr>
                  <a:xfrm>
                    <a:off x="1527120" y="1727280"/>
                    <a:ext cx="608796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ilosofía como confrontación</a:t>
            </a:r>
            <a:endParaRPr b="0" lang="en-US" sz="3800" spc="-1" strike="noStrike">
              <a:solidFill>
                <a:srgbClr val="000000"/>
              </a:solidFill>
              <a:latin typeface="Verdana"/>
            </a:endParaRPr>
          </a:p>
        </p:txBody>
      </p:sp>
      <p:sp>
        <p:nvSpPr>
          <p:cNvPr id="114" name="PlaceHolder 2"/>
          <p:cNvSpPr>
            <a:spLocks noGrp="1"/>
          </p:cNvSpPr>
          <p:nvPr>
            <p:ph/>
          </p:nvPr>
        </p:nvSpPr>
        <p:spPr>
          <a:xfrm>
            <a:off x="328680" y="1676520"/>
            <a:ext cx="8208720" cy="4379760"/>
          </a:xfrm>
          <a:prstGeom prst="rect">
            <a:avLst/>
          </a:prstGeom>
          <a:noFill/>
          <a:ln w="0">
            <a:noFill/>
          </a:ln>
        </p:spPr>
        <p:txBody>
          <a:bodyPr anchor="t">
            <a:normAutofit fontScale="97000"/>
          </a:bodyPr>
          <a:p>
            <a:pPr marL="455400" indent="-455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Luego viene la idea de que la forma de tener representaciones exactas es encontrar, dentro del Espejo, una clase privilegiada especial de representaciones tan irresistibles que no se puede dudar de su exactitud. Estos fundamentos privilegiados serán los fundamentos del conocimiento, y la disciplina que nos dirija hacia ellos —la teoría del conocimiento— será el fundamento de la cultura.» (Descartes)</a:t>
            </a:r>
            <a:endParaRPr b="0" lang="en-US" sz="2100" spc="-1" strike="noStrike">
              <a:solidFill>
                <a:srgbClr val="000000"/>
              </a:solidFill>
              <a:latin typeface="Verdana"/>
            </a:endParaRPr>
          </a:p>
          <a:p>
            <a:pPr marL="455400" indent="-455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La teoría del conocimiento será la búsqueda de lo que obliga a la mente a creer en el mismo momento en que es desvelado. La filosofía-como-episte­mología será la búsqueda de estructuras inmutables dentro de las cuales deban estar contenidos el conocimiento, la vida y la cultura-estructuras establecidas por las representaciones privilegiadas que estudia.» (Kant)</a:t>
            </a:r>
            <a:endParaRPr b="0" lang="en-US" sz="2100" spc="-1" strike="noStrike">
              <a:solidFill>
                <a:srgbClr val="000000"/>
              </a:solidFill>
              <a:latin typeface="Verdana"/>
            </a:endParaRPr>
          </a:p>
        </p:txBody>
      </p:sp>
      <p:graphicFrame>
        <p:nvGraphicFramePr>
          <p:cNvPr id="115" name="Object 4"/>
          <p:cNvGraphicFramePr/>
          <p:nvPr/>
        </p:nvGraphicFramePr>
        <p:xfrm>
          <a:off x="1527120" y="1397160"/>
          <a:ext cx="6087960" cy="4063680"/>
        </p:xfrm>
        <a:graphic>
          <a:graphicData uri="http://schemas.openxmlformats.org/presentationml/2006/ole">
            <p:oleObj progId="Word.Document.12" r:id="rId1" spid="">
              <p:embed/>
              <p:pic>
                <p:nvPicPr>
                  <p:cNvPr id="116"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 </cp:lastModifiedBy>
  <dcterms:modified xsi:type="dcterms:W3CDTF">2009-04-09T16:06:23Z</dcterms:modified>
  <cp:revision>30</cp:revision>
  <dc:subject/>
  <dc:title>TEORIA DE LA ARQUITECTURA I</dc:title>
</cp:coreProperties>
</file>