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CC9-A180-43F8-91E6-D2E3B7FF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C92-C2D0-42C9-AD73-5CDB942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E9E-3BD1-4C50-82C5-36903239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409-D67A-4D9A-B995-CFCBA365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861C-E0B0-4EC6-8F02-727191A6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CF5B-C6FE-4FAC-A927-5634ACA9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E915-5C8C-41E2-8B9A-05D80989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8500-7C89-4DA2-BBA6-1DDD0D3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3182-E3D9-4D36-9016-B249E49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B5CF-620F-49AE-9D9E-BD791851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94C9-6C9B-4CB8-B49D-3B4A156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9EE-D9FA-463A-A54E-3BE3C8E3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B6C4-0F37-4247-9ED6-79A3AA31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E0D2-6376-4AA8-83D0-8283124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97C9-753D-4BD3-BB64-D52CEBE0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5510-52D1-4CF3-B411-67A47699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1BA1-7F99-4D32-BEA5-145656B7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E2A-87B7-4A5C-B23B-075F14E6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357-634A-482F-A36F-E8731532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9AC-C745-49FB-9F28-F900D6CC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004-2E7F-47DB-B605-81B438D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A96-E07F-44DC-A45C-D11E9D8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1D3-D6D5-4C60-BF9A-42DDBDE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60B-F2EE-411D-A7AD-1A2B9D0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B6E8-86AB-488D-8106-3EC80EE19D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EEE-3DEE-4FD8-B5EA-C971858537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LASE 3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26/03/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MELA DOMIN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NITORA: FRANCIA RODRI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aceptación por la ciencia de una ley o de una teoría es sol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tentativa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es decir no a priori valederas y confirmables (verificables), sin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falsable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Luego los datos observacionales pueden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deductivamant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refutar una teorí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ómo son posibles las hipótesis ento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oda teoría (hipótesis) es un salto. Toda teoría tiene como fundamento otra teoría, creencia o mito previo, y no la observ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pregunta sobre la fuente del conocimiento es inútil para la producción de teoría científic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4. Está todo dic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saltamos de un enunciado observacional a una teorí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salto no se produce a partir de un enunciado observacional, sino a partir de una situación-problema, y que la teoría debe permitirnos explicar las observaciones que originaron el problema (deducirlas de la teoría). Pág.8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5. Recapitulemos (problemas original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distinguir entre ciencia y magia primi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acionalidad del procedimiento científico o crítico y el papel de la observación dentro de és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racionalidad de nuestra aceptación de teorí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6. Para reflexiona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e en la ci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o estudiamos temas, sino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Qué es la cienci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niño que hace esta pregun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filósofo que nos interpela de igual for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¿Cómo lo sab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¿En qué se basa para afirmar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563400"/>
            <a:ext cx="8001000" cy="9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Raimund Popper</a:t>
            </a:r>
            <a:br>
              <a:rPr sz="3800"/>
            </a:b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Viena, 1902-199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028" descr="popper"/>
          <p:cNvPicPr/>
          <p:nvPr/>
        </p:nvPicPr>
        <p:blipFill>
          <a:blip r:embed="rId1"/>
          <a:stretch/>
        </p:blipFill>
        <p:spPr>
          <a:xfrm>
            <a:off x="3492360" y="1541520"/>
            <a:ext cx="56516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ex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Conjeturas y refutaciones. El desarrollo del conocimiento científico.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(1963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idós Básica. 1994. Barcel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s artícul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Sobre las fuentes del conocimiento y de la ignorancia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SFCI) págs.23-5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La ciencia: conjeturas y refutaciones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LCCR) págs. 57-9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er: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www.unav.es/cdb/dbcapo8c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asunto de la ver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ctrina de la verdad manifiesta y del pecado de la ignora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timismo y pesimismo epistemológ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ortación liberal del conocimiento:”El hombre puede conocer, por lo tanto, puede ser lib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método para el conocimiento verdadero (Bacon, 1561-1626)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interpretatio naturae – antipatio ment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2. El problema de la demarcación entre ciencia y pseudoci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 la enorme capacidad explicativa de la pseudoci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bilidad de las ciencias duras para con el fracaso de sus predi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l método de la verificabil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onclusiones (pág. 61): La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refutabilidad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de una teoría, o sea la capacidad de ser testeada y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falsad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, es lo que hace auténticamente científica a una teorí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6680" y="1693800"/>
            <a:ext cx="792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 es la inferencia de una ley general, desde lo particular de los casos experimentados y las observ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deducción, inferencia de lo particular a partir de lo gen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omen papel y lápiz, observen cuidadosamente y escriban lo que han observado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duco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 ducere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 ductum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 que significa lleva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 de entrad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de salid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9" name="AutoShape 5"/>
          <p:cNvCxnSpPr>
            <a:stCxn id="98" idx="0"/>
            <a:endCxn id="98" idx="0"/>
          </p:cNvCxnSpPr>
          <p:nvPr/>
        </p:nvCxnSpPr>
        <p:spPr>
          <a:xfrm>
            <a:off x="4401720" y="1693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... es un mito. No es un hecho psicológico, ni un hecho de la vida cotidiana, ni un procedimiento científ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procedimiento real de la ciencia consiste en trabajar con conjeturas: en saltar a conclusiones, a menudo después de una sola observ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s observaciones y experimentos repetidos funcionan en la ciencia como test de nuestras conjeturas o hipótesis, es decir, como intentos de refu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errónea creencia en la inducción se fortifica por la necesidad de un criterio de demarcación que, según se cree tradicional pero erróneamente, sólo lo puede suministrar el método induc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concepción de este método inductivo, como el criterio de verificabilidad, supone una demarcación defectuo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ada de lo anterior cambia lo más mínimo con afirmar que la inducción no hace seguras a las teorías, sino sólo prob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 </cp:lastModifiedBy>
  <dcterms:modified xsi:type="dcterms:W3CDTF">2009-03-26T12:06:58Z</dcterms:modified>
  <cp:revision>15</cp:revision>
  <dc:subject/>
  <dc:title>TEORIA DE LA ARQUITECTURA I</dc:title>
</cp:coreProperties>
</file>