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537B-27EB-4978-906E-1AF779A5C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F2B8-1766-4806-938D-6DE0371A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8FFF-9CE1-4DC0-B722-56385D96D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BD64-7F4D-4B11-8261-36BC585E0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5A95-893C-4D18-BDE4-F9FB1B020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A951F-C398-48A9-8558-11F97CB0B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364E-AB54-4759-AE3C-ED3C0AF1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7C7E-78AC-492F-9542-4B3DED4D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9A0E-E22A-416F-A157-646C17C3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C31B-D3F6-4C67-A2D0-C80BEA7B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C591-9ED2-4D4E-B0DA-59EB6FAE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B29D-3578-4ECE-848D-5CA51467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CE4C-2802-4F68-9183-8F11AEE2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7916-3509-492F-AC6A-D6B64779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DCAE-8B8A-4679-9DF0-8DBF5624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B915-491F-4AC1-B62E-97A889E9C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DFB0-9672-4C00-A4A0-0C2679CA9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2B89-C431-49AE-9D96-E0997595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0BA4-FB9A-4C86-B660-90CDBCA2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D7A6-7C2A-41EF-B54A-010567B0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AF59-56D0-465E-B59C-D55608A4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D26D-D016-47A9-A119-DA7F73C8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79DD-9D90-4415-AA5F-79B30D0A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1B86-86E1-4187-A3E6-D7F1FEB0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9670-4F88-4EBB-BA02-7B2D7F0955C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6B2F-591A-4459-8597-0CEC00EB5A9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TEORIA DE LA ARQUITECTURA I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CLASE 3 </a:t>
            </a: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26/03/09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ROFESORA: PILAR BARB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YUDANTE: CRISTIAN RAYNAU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AMELA DOMINGUE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MONITORA: FRANCIA RODRIGUE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509400"/>
            <a:ext cx="8001000" cy="101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3. El pseudoproblema de la inducción (conclusiones de Poppe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La aceptación por la ciencia de una ley o de una teoría es solo </a:t>
            </a:r>
            <a:r>
              <a:rPr b="0" lang="es-CL" sz="2100" spc="-1" strike="noStrike" u="sng">
                <a:solidFill>
                  <a:srgbClr val="000000"/>
                </a:solidFill>
                <a:uFillTx/>
                <a:latin typeface="Verdana"/>
              </a:rPr>
              <a:t>tentativa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, es decir no a priori valederas y confirmables (verificables), sino </a:t>
            </a:r>
            <a:r>
              <a:rPr b="0" lang="es-CL" sz="2100" spc="-1" strike="noStrike" u="sng">
                <a:solidFill>
                  <a:srgbClr val="000000"/>
                </a:solidFill>
                <a:uFillTx/>
                <a:latin typeface="Verdana"/>
              </a:rPr>
              <a:t>falsables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. Luego los datos observacionales pueden </a:t>
            </a:r>
            <a:r>
              <a:rPr b="0" lang="es-CL" sz="2100" spc="-1" strike="noStrike" u="sng">
                <a:solidFill>
                  <a:srgbClr val="000000"/>
                </a:solidFill>
                <a:uFillTx/>
                <a:latin typeface="Verdana"/>
              </a:rPr>
              <a:t>deductivamante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 refutar una teorí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Cómo son posibles las hipótesis entonces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Toda teoría (hipótesis) es un salto. Toda teoría tiene como fundamento otra teoría, creencia o mito previo, y no la observac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La pregunta sobre la fuente del conocimiento es inútil para la producción de teoría científic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975960"/>
            <a:ext cx="8001000" cy="5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4. Está todo dicho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Cómo saltamos de un enunciado observacional a una teorí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El salto no se produce a partir de un enunciado observacional, sino a partir de una situación-problema, y que la teoría debe permitirnos explicar las observaciones que originaron el problema (deducirlas de la teoría). Pág.8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975960"/>
            <a:ext cx="8001000" cy="5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5. Recapitulemos (problemas originale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Cómo distinguir entre ciencia y magia primitiv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Racionalidad del procedimiento científico o crítico y el papel de la observación dentro de és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La racionalidad de nuestra aceptación de teorí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Verdana"/>
              </a:rPr>
              <a:t>6. Para reflexiona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Fe en la cienci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No estudiamos temas, sino problem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Qué es la ciencia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Qué responder a un niño que hace esta pregunt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Qué responder a un filósofo que nos interpela de igual form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¿Cómo lo sabe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¿En qué se basa para afirmarlo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563400"/>
            <a:ext cx="8001000" cy="95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Karl Raimund Popper</a:t>
            </a:r>
            <a:br>
              <a:rPr sz="3800"/>
            </a:b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Viena, 1902-1994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Picture 1028" descr="popper"/>
          <p:cNvPicPr/>
          <p:nvPr/>
        </p:nvPicPr>
        <p:blipFill>
          <a:blip r:embed="rId1"/>
          <a:stretch/>
        </p:blipFill>
        <p:spPr>
          <a:xfrm>
            <a:off x="3492360" y="1541520"/>
            <a:ext cx="565164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Tex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36699"/>
                </a:solidFill>
                <a:latin typeface="Verdana"/>
              </a:rPr>
              <a:t>Conjeturas y refutaciones. El desarrollo del conocimiento científico.</a:t>
            </a: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 (1963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Paidós Básica. 1994. Barcelon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Dos artículo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Verdana"/>
              </a:rPr>
              <a:t>Sobre las fuentes del conocimiento y de la ignorancia. </a:t>
            </a: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(SFCI) págs.23-56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Verdana"/>
              </a:rPr>
              <a:t>La ciencia: conjeturas y refutaciones. </a:t>
            </a: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(LCCR) págs. 57-9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Ver: </a:t>
            </a: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www.unav.es/cdb/dbcapo8c.htm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El asunto de la ver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Doctrina de la verdad manifiesta y del pecado de la ignoranci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Optimismo y pesimismo epistemológic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Exortación liberal del conocimiento:”El hombre puede conocer, por lo tanto, puede ser libre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El método para el conocimiento verdadero (Bacon, 1561-1626)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s-CL" sz="2600" spc="-1" strike="noStrike">
                <a:solidFill>
                  <a:srgbClr val="000000"/>
                </a:solidFill>
                <a:latin typeface="Verdana"/>
              </a:rPr>
              <a:t>interpretatio naturae – antipatio menti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509400"/>
            <a:ext cx="8001000" cy="101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2. El problema de la demarcación entre ciencia y pseudocienc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Objeción de Popper a la enorme capacidad explicativa de la pseudocienci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Debilidad de las ciencias duras para con el fracaso de sus prediccion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Objeción de Popper al método de la verificabilida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Conclusiones (pág. 61): La </a:t>
            </a:r>
            <a:r>
              <a:rPr b="0" lang="es-CL" sz="2600" spc="-1" strike="noStrike">
                <a:solidFill>
                  <a:srgbClr val="336699"/>
                </a:solidFill>
                <a:latin typeface="Verdana"/>
              </a:rPr>
              <a:t>refutabilidad</a:t>
            </a: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 de una teoría, o sea la capacidad de ser testeada y </a:t>
            </a:r>
            <a:r>
              <a:rPr b="0" lang="es-CL" sz="2600" spc="-1" strike="noStrike">
                <a:solidFill>
                  <a:srgbClr val="336699"/>
                </a:solidFill>
                <a:latin typeface="Verdana"/>
              </a:rPr>
              <a:t>falsada</a:t>
            </a: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, es lo que hace auténticamente científica a una teorí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3. El pseudoproblema de la induc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36680" y="1693800"/>
            <a:ext cx="7929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La inducción es la inferencia de una ley general, desde lo particular de los casos experimentados y las observacion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La deducción, inferencia de lo particular a partir de lo gener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Tomen papel y lápiz, observen cuidadosamente y escriban lo que han observado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Verdana"/>
              </a:rPr>
              <a:t>duco</a:t>
            </a: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s-ES" sz="1700" spc="-1" strike="noStrike">
                <a:solidFill>
                  <a:srgbClr val="000000"/>
                </a:solidFill>
                <a:latin typeface="Verdana"/>
              </a:rPr>
              <a:t> ducere</a:t>
            </a: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s-ES" sz="1700" spc="-1" strike="noStrike">
                <a:solidFill>
                  <a:srgbClr val="000000"/>
                </a:solidFill>
                <a:latin typeface="Verdana"/>
              </a:rPr>
              <a:t> ductum</a:t>
            </a: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, que significa llevar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Verdana"/>
              </a:rPr>
              <a:t>in</a:t>
            </a: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, de entrad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Verdana"/>
              </a:rPr>
              <a:t>De</a:t>
            </a: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,de salida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99" name="AutoShape 5"/>
          <p:cNvCxnSpPr>
            <a:stCxn id="98" idx="0"/>
            <a:endCxn id="98" idx="0"/>
          </p:cNvCxnSpPr>
          <p:nvPr/>
        </p:nvCxnSpPr>
        <p:spPr>
          <a:xfrm>
            <a:off x="4401720" y="16934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509400"/>
            <a:ext cx="8001000" cy="101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3. El pseudoproblema de la inducción (conclusiones de Poppe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La inducción... es un mito. No es un hecho psicológico, ni un hecho de la vida cotidiana, ni un procedimiento científic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El procedimiento real de la ciencia consiste en trabajar con conjeturas: en saltar a conclusiones, a menudo después de una sola observ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Las observaciones y experimentos repetidos funcionan en la ciencia como test de nuestras conjeturas o hipótesis, es decir, como intentos de refut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509400"/>
            <a:ext cx="8001000" cy="101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3. El pseudoproblema de la inducción (conclusiones de Poppe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La errónea creencia en la inducción se fortifica por la necesidad de un criterio de demarcación que, según se cree tradicional pero erróneamente, sólo lo puede suministrar el método inductiv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97240" indent="-5972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La concepción de este método inductivo, como el criterio de verificabilidad, supone una demarcación defectuos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97240" indent="-5972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Nada de lo anterior cambia lo más mínimo con afirmar que la inducción no hace seguras a las teorías, sino sólo probab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03:28:31Z</dcterms:created>
  <dc:creator>Pilar Barba</dc:creator>
  <dc:description/>
  <dc:language>en-US</dc:language>
  <cp:lastModifiedBy> </cp:lastModifiedBy>
  <dcterms:modified xsi:type="dcterms:W3CDTF">2009-03-26T12:06:58Z</dcterms:modified>
  <cp:revision>15</cp:revision>
  <dc:subject/>
  <dc:title>TEORIA DE LA ARQUITECTURA I</dc:title>
</cp:coreProperties>
</file>