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973-99D1-4A0A-9567-0681E4FB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722-B75A-4018-9F35-FDE29ED6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B84-DC94-4D61-BAFA-38534432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7D38-100E-40D4-A1B7-5B47CFCF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A3375-375D-46F8-B6DC-8DB32829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F3AB-E011-42DE-B4B3-EEE38B8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56A9-B118-4C71-B8B9-43E80EA8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6575-488F-4225-B32D-96396CA2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49AC-FD95-4E56-9600-17915AF5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FC53-8F13-46B1-869F-5B0FE621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3AF6-9F2C-4095-93AF-0A02428A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656-C5D5-47AC-8C16-8A4070D4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4666-DA95-4F8A-81D3-E93B8656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C329-E6C3-4ED4-BFA9-F22FBD3A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8592-C68D-4CBC-A814-798EF1F6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1B98-417B-49FD-8095-00BE22F2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A05F-C9E4-4F5F-B4D5-679D9836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CCF-C49D-48AF-B661-0ABB774F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A5E-9073-4EC2-8901-8B8244B6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AC5-60BE-4BF1-A61A-92D1F227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7F2-7B55-4110-A818-4D3D273F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4A5E-EC8C-4BF6-B20D-7271C3E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105-EBC2-473D-9EB4-A4005789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19A-DEE7-46A0-AD56-D6F9565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7AA7-B28F-49E9-990E-CE7C71E65D7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9E88-408C-4A05-AD2F-E4449B8E440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br>
              <a:rPr sz="3200"/>
            </a:b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CLASE 3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26/03/0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AMELA DOMIN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MONITORA: FRANCIA RODRIGUE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aceptación por la ciencia de una ley o de una teoría es sol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tentativa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, es decir no a priori valederas y confirmables (verificables), sino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falsable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. Luego los datos observacionales pueden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Verdana"/>
              </a:rPr>
              <a:t>deductivamante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refutar una teorí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Cómo son posibles las hipótesis entonce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oda teoría (hipótesis) es un salto. Toda teoría tiene como fundamento otra teoría, creencia o mito previo, y no la observ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La pregunta sobre la fuente del conocimiento es inútil para la producción de teoría científic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4. Está todo dich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saltamos de un enunciado observacional a una teorí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salto no se produce a partir de un enunciado observacional, sino a partir de una situación-problema, y que la teoría debe permitirnos explicar las observaciones que originaron el problema (deducirlas de la teoría). Pág.8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975960"/>
            <a:ext cx="800100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5. Recapitulemos (problemas original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ómo distinguir entre ciencia y magia primi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acionalidad del procedimiento científico o crítico y el papel de la observación dentro de és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racionalidad de nuestra aceptación de teorí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6. Para reflexiona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Fe en la ci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o estudiamos temas, sino problem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Qué es la cienci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niño que hace esta pregun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Qué responder a un filósofo que nos interpela de igual for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¿Cómo lo sab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¿En qué se basa para afirmar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563400"/>
            <a:ext cx="8001000" cy="9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Karl Raimund Popper</a:t>
            </a:r>
            <a:br>
              <a:rPr sz="3800"/>
            </a:b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Viena, 1902-1994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Picture 1028" descr="popper"/>
          <p:cNvPicPr/>
          <p:nvPr/>
        </p:nvPicPr>
        <p:blipFill>
          <a:blip r:embed="rId1"/>
          <a:stretch/>
        </p:blipFill>
        <p:spPr>
          <a:xfrm>
            <a:off x="3492360" y="1541520"/>
            <a:ext cx="56516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ex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Conjeturas y refutaciones. El desarrollo del conocimiento científico.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(1963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idós Básica. 1994. Barcelo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s artícul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Sobre las fuentes del conocimiento y de la ignorancia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SFCI) págs.23-56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La ciencia: conjeturas y refutaciones. 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(LCCR) págs. 57-9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Ver: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www.unav.es/cdb/dbcapo8c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l asunto de la ver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octrina de la verdad manifiesta y del pecado de la ignora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ptimismo y pesimismo epistemológ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ortación liberal del conocimiento:”El hombre puede conocer, por lo tanto, puede ser libre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método para el conocimiento verdadero (Bacon, 1561-1626)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CL" sz="2600" spc="-1" strike="noStrike">
                <a:solidFill>
                  <a:srgbClr val="000000"/>
                </a:solidFill>
                <a:latin typeface="Verdana"/>
              </a:rPr>
              <a:t>interpretatio naturae – antipatio ment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2. El problema de la demarcación entre ciencia y pseudoci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 la enorme capacidad explicativa de la pseudoci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Debilidad de las ciencias duras para con el fracaso de sus predic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Objeción de Popper al método de la verificabilid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onclusiones (pág. 61): La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refutabilidad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 de una teoría, o sea la capacidad de ser testeada y </a:t>
            </a:r>
            <a:r>
              <a:rPr b="0" lang="es-CL" sz="2600" spc="-1" strike="noStrike">
                <a:solidFill>
                  <a:srgbClr val="336699"/>
                </a:solidFill>
                <a:latin typeface="Verdana"/>
              </a:rPr>
              <a:t>falsada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, es lo que hace auténticamente científica a una teorí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6680" y="1693800"/>
            <a:ext cx="7929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inducción es la inferencia de una ley general, desde lo particular de los casos experimentados y las observa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deducción, inferencia de lo particular a partir de lo gener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Tomen papel y lápiz, observen cuidadosamente y escriban lo que han observado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duco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 ducere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 ductum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 que significa llevar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 de entrad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7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,de salida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9" name="AutoShape 5"/>
          <p:cNvCxnSpPr>
            <a:stCxn id="98" idx="0"/>
            <a:endCxn id="98" idx="0"/>
          </p:cNvCxnSpPr>
          <p:nvPr/>
        </p:nvCxnSpPr>
        <p:spPr>
          <a:xfrm>
            <a:off x="4401720" y="1693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inducción... es un mito. No es un hecho psicológico, ni un hecho de la vida cotidiana, ni un procedimiento científic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l procedimiento real de la ciencia consiste en trabajar con conjeturas: en saltar a conclusiones, a menudo después de una sola observ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s observaciones y experimentos repetidos funcionan en la ciencia como test de nuestras conjeturas o hipótesis, es decir, como intentos de refut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509400"/>
            <a:ext cx="80010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3. El pseudoproblema de la inducción (conclusiones de Poppe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errónea creencia en la inducción se fortifica por la necesidad de un criterio de demarcación que, según se cree tradicional pero erróneamente, sólo lo puede suministrar el método induc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La concepción de este método inductivo, como el criterio de verificabilidad, supone una demarcación defectuos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Nada de lo anterior cambia lo más mínimo con afirmar que la inducción no hace seguras a las teorías, sino sólo prob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 </cp:lastModifiedBy>
  <dcterms:modified xsi:type="dcterms:W3CDTF">2009-03-26T12:06:58Z</dcterms:modified>
  <cp:revision>15</cp:revision>
  <dc:subject/>
  <dc:title>TEORIA DE LA ARQUITECTURA I</dc:title>
</cp:coreProperties>
</file>