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8803600" cy="7740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0C5D-3EFD-4E4B-9597-766485A5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1DB-1900-42B5-8FBD-901C1AD5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332-CBD4-4A24-869B-D62E3E974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0492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970200" y="180468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00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20492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8970200" y="4473720"/>
            <a:ext cx="834732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509-3EAF-4091-A66F-F6B4FF73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D32-32C3-4F5C-B7EE-12C589C6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D89-E8C2-426C-8A4E-5F21C072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F6D1-3D77-4E62-AB1D-A2FE8EFE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2647-4457-413F-9430-1A4EEAC2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0000" y="310680"/>
            <a:ext cx="2592360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C3A5-544E-4166-9F07-0EB71998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B3E1-E634-4C8F-A0F7-11290F73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723280" y="447372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F04-0236-4222-8420-596495B6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0000" y="89280"/>
            <a:ext cx="25923600" cy="173232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000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723280" y="1804680"/>
            <a:ext cx="126504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0000" y="4473720"/>
            <a:ext cx="25923600" cy="2437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3A85-F6C1-4779-BDEB-6F001D6D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0000" y="310680"/>
            <a:ext cx="25923600" cy="128916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ctr">
            <a:noAutofit/>
          </a:bodyPr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0000" y="1804680"/>
            <a:ext cx="25923600" cy="5110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rmAutofit fontScale="53000"/>
          </a:bodyPr>
          <a:p>
            <a:pPr marL="412920" indent="-41292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894960" indent="-34488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1376280" indent="-2750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1927440" indent="-275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2477880" indent="-27504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00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840960" y="7048080"/>
            <a:ext cx="912168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642400" y="7048080"/>
            <a:ext cx="6721200" cy="538200"/>
          </a:xfrm>
          <a:prstGeom prst="rect">
            <a:avLst/>
          </a:prstGeom>
          <a:noFill/>
          <a:ln w="0">
            <a:noFill/>
          </a:ln>
        </p:spPr>
        <p:txBody>
          <a:bodyPr lIns="207720" rIns="207720" tIns="104040" bIns="104040" anchor="t">
            <a:noAutofit/>
          </a:bodyPr>
          <a:lstStyle>
            <a:lvl1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fld id="{1F725045-7029-499D-9D4D-5CB0D0DD83B7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63640" y="270000"/>
            <a:ext cx="26992080" cy="3598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12720" y="48564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   E   M   A          F   I   N   A   L        S   E   M    E    S   T   R    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12720" y="1494000"/>
            <a:ext cx="2181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 Black"/>
              </a:rPr>
              <a:t>BIBLIOTECA  DEL  REALISMO  MAGIC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6200000">
            <a:off x="26075520" y="134172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FA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84360" y="2502000"/>
            <a:ext cx="2217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U   N   I   V   E   R   S   I   D   A   D       D   E       C   H   I   L   E       /       F   A   C   U   L   T   A   D        D   E     A   R   Q     U   I   T   E   C   T   U   R   A        Y       U   R   B   A   N   I   S   M   O</a:t>
            </a:r>
            <a:r>
              <a:rPr b="1" lang="en-US" sz="5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49240" y="390852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56240" y="3913200"/>
            <a:ext cx="19410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088680" y="3913200"/>
            <a:ext cx="3759120" cy="3598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63640" y="3908520"/>
            <a:ext cx="26992080" cy="3598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56360" y="6534000"/>
            <a:ext cx="21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T   A   L   L   E   R       D   O   N   O   S   O      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0  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9744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lumno     : Peter Zum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08360" y="516564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08360" y="6318360"/>
            <a:ext cx="194421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97440" y="4230720"/>
            <a:ext cx="221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nido: Lámina de idea / Planimetría / Croquis interi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45816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NIO 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698160" y="4518000"/>
            <a:ext cx="2519640" cy="24480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0027200">
            <a:off x="25101360" y="4943160"/>
            <a:ext cx="1690560" cy="1758960"/>
          </a:xfrm>
          <a:prstGeom prst="rtTriangle">
            <a:avLst/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5274160" y="4807080"/>
            <a:ext cx="129708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096720" y="545472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077920"/>
                <a:tab algn="l" pos="4156200"/>
                <a:tab algn="l" pos="6234120"/>
                <a:tab algn="l" pos="8312040"/>
                <a:tab algn="l" pos="103903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cala: 1/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9344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02520" y="5165640"/>
            <a:ext cx="0" cy="1152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55640" y="4662360"/>
            <a:ext cx="2159280" cy="216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68600" y="466740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20:59:10Z</dcterms:created>
  <dc:creator>Oscar Reyes</dc:creator>
  <dc:description/>
  <dc:language>en-US</dc:language>
  <cp:lastModifiedBy>Oscar Reyes</cp:lastModifiedBy>
  <dcterms:modified xsi:type="dcterms:W3CDTF">2009-07-01T13:37:03Z</dcterms:modified>
  <cp:revision>17</cp:revision>
  <dc:subject/>
  <dc:title>Diapositiva 1</dc:title>
</cp:coreProperties>
</file>