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8803600" cy="7740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755-FD33-47B5-9D32-8EFD8C86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0000" y="447372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86B-22BA-4613-ABAE-A2FAE3D7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72328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7E4-7C5E-4B0E-B00F-927140F8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0492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97020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000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20492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97020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583-0E00-4213-ADD0-E419FF65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E0C-777C-499C-8206-C50461C7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5CA-F7AA-4628-8CF9-C19FADDF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52A-F20B-4616-8FE5-F91A5192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35F-5D32-4233-A4A6-A7B09A44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0000" y="310680"/>
            <a:ext cx="2592360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27C-4029-4C18-90D6-A6D23FF3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A14-D22C-4754-A441-FB6D7995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2328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A70-A41B-4963-9965-13135906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519-A313-4917-BA17-A90675DB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0000" y="310680"/>
            <a:ext cx="25923600" cy="128916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 fontScale="53000"/>
          </a:bodyPr>
          <a:p>
            <a:pPr marL="412920" indent="-41292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894960" indent="-34488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2750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1927440" indent="-275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0000" y="7048080"/>
            <a:ext cx="672120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840960" y="7048080"/>
            <a:ext cx="912168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642400" y="7048080"/>
            <a:ext cx="672120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 algn="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fld id="{15D00E2F-69E0-42F7-9EB1-B74A9BD9B949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3640" y="270000"/>
            <a:ext cx="26992080" cy="359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12720" y="485640"/>
            <a:ext cx="221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   E   M   A          F   I   N   A   L        S   E   M    E    S   T   R   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2720" y="1494000"/>
            <a:ext cx="2181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BIBLIOTECA  DEL  REALISMO  MAGIC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26075520" y="134172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A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84360" y="2502000"/>
            <a:ext cx="221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U   N   I   V   E   R   S   I   D   A   D       D   E       C   H   I   L   E       /       F   A   C   U   L   T   A   D        D   E     A   R   Q     U   I   T   E   C   T   U   R   A        Y       U   R   B   A   N   I   S   M   O</a:t>
            </a:r>
            <a:r>
              <a:rPr b="1" lang="en-US" sz="5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9240" y="3908520"/>
            <a:ext cx="3759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56240" y="3913200"/>
            <a:ext cx="19410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088680" y="3913200"/>
            <a:ext cx="3759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3640" y="3908520"/>
            <a:ext cx="26992080" cy="3598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6360" y="6534000"/>
            <a:ext cx="21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T   A   L   L   E   R       D   O   N   O   S   O     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0  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744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umno     : Peter Zum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08360" y="5165640"/>
            <a:ext cx="1944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8360" y="6318360"/>
            <a:ext cx="1944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97440" y="4230720"/>
            <a:ext cx="221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ido: Lámina de idea / Planimetría / Croquis i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45816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IO 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698160" y="4518000"/>
            <a:ext cx="2519640" cy="24480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027200">
            <a:off x="25101360" y="4943160"/>
            <a:ext cx="1690560" cy="1758960"/>
          </a:xfrm>
          <a:prstGeom prst="rtTriangle">
            <a:avLst/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274160" y="4807080"/>
            <a:ext cx="1297080" cy="19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09672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cala: 1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93440" y="516564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02520" y="516564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55640" y="4662360"/>
            <a:ext cx="2159280" cy="216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68600" y="466740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20:59:10Z</dcterms:created>
  <dc:creator>Oscar Reyes</dc:creator>
  <dc:description/>
  <dc:language>en-US</dc:language>
  <cp:lastModifiedBy>Oscar Reyes</cp:lastModifiedBy>
  <dcterms:modified xsi:type="dcterms:W3CDTF">2009-07-01T13:37:03Z</dcterms:modified>
  <cp:revision>17</cp:revision>
  <dc:subject/>
  <dc:title>Diapositiva 1</dc:title>
</cp:coreProperties>
</file>