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8803600" cy="7740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8A0A-7B53-4879-ABB4-80461A0C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259236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0000" y="4473720"/>
            <a:ext cx="259236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1415-966E-4B77-B4EB-FB782B19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723280" y="180468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0000" y="447372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723280" y="447372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AC43-4D1C-41EF-A00A-D1D0CC56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834732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204920" y="1804680"/>
            <a:ext cx="834732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970200" y="1804680"/>
            <a:ext cx="834732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0000" y="4473720"/>
            <a:ext cx="834732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204920" y="4473720"/>
            <a:ext cx="834732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8970200" y="4473720"/>
            <a:ext cx="834732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7F3D-6174-49B2-8569-C5F0040F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0000" y="1804680"/>
            <a:ext cx="259236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03C9-BBD9-4977-B77B-151564B2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25923600" cy="5110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9749-D9C7-4A62-B6DB-15288C80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12650400" cy="5110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723280" y="1804680"/>
            <a:ext cx="12650400" cy="5110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78C7-054B-46F9-ADD2-EA4A6C5D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B4F-217F-4DDC-9409-C0DE0446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0000" y="310680"/>
            <a:ext cx="2592360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9D2C-6455-4AD5-9730-EACC0B29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723280" y="1804680"/>
            <a:ext cx="12650400" cy="5110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0000" y="447372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1CAF-9629-4B1C-9258-65AA0FC6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12650400" cy="5110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723280" y="180468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723280" y="447372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EA32-B837-43AC-8EFB-AAC5314F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723280" y="180468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0000" y="4473720"/>
            <a:ext cx="259236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3EB4-6859-49DC-886D-BEA462D2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0000" y="310680"/>
            <a:ext cx="25923600" cy="128916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0000" y="1804680"/>
            <a:ext cx="25923600" cy="5110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 fontScale="53000"/>
          </a:bodyPr>
          <a:p>
            <a:pPr marL="412920" indent="-41292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894960" indent="-34488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1376280" indent="-27504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1927440" indent="-27576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2477880" indent="-27504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2477880" indent="-27504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2477880" indent="-27504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0000" y="7048080"/>
            <a:ext cx="6721200" cy="538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Autofit/>
          </a:bodyPr>
          <a:lstStyle>
            <a:lvl1pPr indent="0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840960" y="7048080"/>
            <a:ext cx="9121680" cy="538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Autofit/>
          </a:bodyPr>
          <a:lstStyle>
            <a:lvl1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0642400" y="7048080"/>
            <a:ext cx="6721200" cy="538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Autofit/>
          </a:bodyPr>
          <a:lstStyle>
            <a:lvl1pPr indent="0" algn="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fld id="{3502DE67-1B49-43C8-8170-C32A7A74A8F7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63640" y="270000"/>
            <a:ext cx="26992080" cy="3598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12720" y="485640"/>
            <a:ext cx="221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   E   M   A          F   I   N   A   L        S   E   M    E    S   T   R    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12720" y="1494000"/>
            <a:ext cx="2181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 Black"/>
              </a:rPr>
              <a:t>BIBLIOTECA  DEL  REALISMO  MAGIC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26075520" y="1341720"/>
            <a:ext cx="23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FA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84360" y="2502000"/>
            <a:ext cx="221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U   N   I   V   E   R   S   I   D   A   D       D   E       C   H   I   L   E       /       F   A   C   U   L   T   A   D        D   E     A   R   Q     U   I   T   E   C   T   U   R   A        Y       U   R   B   A   N   I   S   M   O</a:t>
            </a:r>
            <a:r>
              <a:rPr b="1" lang="en-US" sz="5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49240" y="3908520"/>
            <a:ext cx="3759120" cy="3598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56240" y="3913200"/>
            <a:ext cx="19410120" cy="3598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088680" y="3913200"/>
            <a:ext cx="3759120" cy="3598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63640" y="3908520"/>
            <a:ext cx="26992080" cy="3598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6360" y="6534000"/>
            <a:ext cx="2181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T   A   L   L   E   R       D   O   N   O   S   O     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0   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97440" y="545472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lumno     : Peter Zum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08360" y="5165640"/>
            <a:ext cx="19442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08360" y="6318360"/>
            <a:ext cx="19442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97440" y="4230720"/>
            <a:ext cx="221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ido: Lámina de idea / Planimetría / Croquis interi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458160" y="545472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NIO 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698160" y="4518000"/>
            <a:ext cx="2519640" cy="24480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0027200">
            <a:off x="25101360" y="4943160"/>
            <a:ext cx="1690560" cy="1758960"/>
          </a:xfrm>
          <a:prstGeom prst="rtTriangle">
            <a:avLst/>
          </a:prstGeom>
          <a:solidFill>
            <a:srgbClr val="808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5274160" y="4807080"/>
            <a:ext cx="1297080" cy="19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096720" y="545472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cala: 1/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593440" y="5165640"/>
            <a:ext cx="0" cy="1152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02520" y="5165640"/>
            <a:ext cx="0" cy="1152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55640" y="4662360"/>
            <a:ext cx="2159280" cy="2160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68600" y="4667400"/>
            <a:ext cx="2160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20:59:10Z</dcterms:created>
  <dc:creator>Oscar Reyes</dc:creator>
  <dc:description/>
  <dc:language>en-US</dc:language>
  <cp:lastModifiedBy>Oscar Reyes</cp:lastModifiedBy>
  <dcterms:modified xsi:type="dcterms:W3CDTF">2009-07-01T13:37:03Z</dcterms:modified>
  <cp:revision>17</cp:revision>
  <dc:subject/>
  <dc:title>Diapositiva 1</dc:title>
</cp:coreProperties>
</file>