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A1A-AEED-403D-A37E-6136FB32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167-A912-4CE6-BAEB-1664913F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10C-5B2E-4361-A8E0-A40E45F4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492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702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492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702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F17-5F68-47B4-9B3D-C335B448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598-296A-47AB-81CC-B2E4E832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B70-9F5A-4F83-8D8A-FCD48E0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E73-D6AC-4267-9B0D-F1C81EFB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1AB-39D6-4A92-B279-B53BF2E9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310680"/>
            <a:ext cx="25923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9E2-F244-4B45-9DD1-7882328E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D29-62E3-41AA-8F03-1D7754CA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A9E-61A4-40AC-9C04-7B15B045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CB2-07D3-43D8-94A8-7AA4F83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310680"/>
            <a:ext cx="25923600" cy="128916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 fontScale="53000"/>
          </a:bodyPr>
          <a:p>
            <a:pPr marL="412920" indent="-41292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894960" indent="-34488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2750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1927440" indent="-275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7048080"/>
            <a:ext cx="912168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fld id="{7CA440F3-7D02-4548-A99E-121118093675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3640" y="270000"/>
            <a:ext cx="26992080" cy="359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2720" y="48564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   E   M   A          F   I   N   A   L        S   E   M    E    S   T   R   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2720" y="1494000"/>
            <a:ext cx="218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BIBLIOTECA  DEL  REALISMO  MAGI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6075520" y="13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A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250200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   N   I   V   E   R   S   I   D   A   D       D   E       C   H   I   L   E       /       F   A   C   U   L   T   A   D        D   E     A   R   Q     U   I   T   E   C   T   U   R   A        Y       U   R   B   A   N   I   S   M   O</a:t>
            </a:r>
            <a:r>
              <a:rPr b="1" lang="en-US" sz="5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9240" y="390852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56240" y="3913200"/>
            <a:ext cx="19410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88680" y="391320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3640" y="3908520"/>
            <a:ext cx="26992080" cy="3598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6534000"/>
            <a:ext cx="21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   A   L   L   E   R       D   O   N   O   S   O  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0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744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umno     : Peter Zum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360" y="516564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8360" y="631836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97440" y="4230720"/>
            <a:ext cx="221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: Lámina de idea / Planimetría / Croqui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5816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O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8160" y="4518000"/>
            <a:ext cx="2519640" cy="2448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027200">
            <a:off x="25101360" y="4943160"/>
            <a:ext cx="1690560" cy="1758960"/>
          </a:xfrm>
          <a:prstGeom prst="rtTriangle">
            <a:avLst/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274160" y="4807080"/>
            <a:ext cx="129708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72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ala: 1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9344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0252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5640" y="4662360"/>
            <a:ext cx="21592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466740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0:59:10Z</dcterms:created>
  <dc:creator>Oscar Reyes</dc:creator>
  <dc:description/>
  <dc:language>en-US</dc:language>
  <cp:lastModifiedBy>Oscar Reyes</cp:lastModifiedBy>
  <dcterms:modified xsi:type="dcterms:W3CDTF">2009-07-01T13:37:03Z</dcterms:modified>
  <cp:revision>17</cp:revision>
  <dc:subject/>
  <dc:title>Diapositiva 1</dc:title>
</cp:coreProperties>
</file>