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8D6A9-3641-48E3-8165-7FFB5EA44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DF52C-29A8-4B7A-97B0-F92941B26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05275-EBD9-4E00-8AF7-51A7E8D67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50154-3392-456A-8F0C-4C5B184A9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4A17E-496F-4FAC-BA6E-2EC47C589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4F8D9-B88A-42A8-97AC-468C8FD1C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E41F1-46E9-4423-9F1A-95C878270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B8352-00F5-4966-B4EA-AE710B135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09804-BBBA-4687-993F-F89FD97CD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58288-7011-4F79-896A-056645714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FF75F-F367-49CE-825F-A1955E6F5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BBA2D-C034-48AA-923C-53B4843CB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85E4-9C67-48AE-8594-E2965219942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courbanism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1616"/>
                </a:solidFill>
                <a:latin typeface="Arial"/>
              </a:rPr>
              <a:t>PRINCIPIOS ESTRATÉGICOS</a:t>
            </a:r>
            <a:endParaRPr b="0" lang="en-US" sz="2400" spc="-1" strike="noStrike">
              <a:solidFill>
                <a:srgbClr val="000000"/>
              </a:solidFill>
              <a:latin typeface="Arial"/>
            </a:endParaRPr>
          </a:p>
        </p:txBody>
      </p:sp>
      <p:sp>
        <p:nvSpPr>
          <p:cNvPr id="57" name="PlaceHolder 2"/>
          <p:cNvSpPr>
            <a:spLocks noGrp="1"/>
          </p:cNvSpPr>
          <p:nvPr>
            <p:ph type="subTitle"/>
          </p:nvPr>
        </p:nvSpPr>
        <p:spPr>
          <a:xfrm>
            <a:off x="247680" y="533160"/>
            <a:ext cx="8648640" cy="5105160"/>
          </a:xfrm>
          <a:prstGeom prst="rect">
            <a:avLst/>
          </a:prstGeom>
          <a:noFill/>
          <a:ln w="0">
            <a:noFill/>
          </a:ln>
        </p:spPr>
        <p:txBody>
          <a:bodyPr anchor="t">
            <a:noAutofit/>
          </a:bodyPr>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Gestión del espacio urbano y de las redes que lo sostienen en la perspectiva de la sustentabilidad:</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Priorizar el espacio colectivo sobre el espacio privativo para permitir el acceso más equitativo a los servicios (sociales, sanitarios, transporte, etc.) y atenuar las condiciones adversas del hábitat individual</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Gestión multifuncional del espacio (mezcla de los lugares de habitación y trabajo), y concepción de los espacios de circulación, espacios verdes, jardines, costaneras, aumentando la presencia de polos de sociabilidad y ecomovilidad (a pié, bici.etc.) </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Restablecer la continuidad entre las rutas y los edificios y la continuidad de las redes de espacios públicos</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Crear las infraestructuras verdes dentro de la ciudad para establecer el vínculo entre la ciudad y los espacios ambientales; pensar la arquitectura del paisaje urbano en una perspectiva de reverdicimiento de la ciudad, de construcción de corredores verdes, de una red de espacios sensibles que puedan ser asumidos como los elementos estructurantes de la organización espacial del conjunto.</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Reflexionar sobre la ilumiiación nocturna de las ciudades</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Mejorar la calidad del mobiliario urbano y su inserción en el medio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31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1616"/>
                </a:solidFill>
                <a:latin typeface="Arial"/>
              </a:rPr>
              <a:t>Significado del Espacio Público</a:t>
            </a:r>
            <a:endParaRPr b="0" lang="en-US" sz="2200" spc="-1" strike="noStrike">
              <a:solidFill>
                <a:srgbClr val="000000"/>
              </a:solidFill>
              <a:latin typeface="Arial"/>
            </a:endParaRPr>
          </a:p>
        </p:txBody>
      </p:sp>
      <p:sp>
        <p:nvSpPr>
          <p:cNvPr id="59" name=""/>
          <p:cNvSpPr txBox="1"/>
          <p:nvPr/>
        </p:nvSpPr>
        <p:spPr>
          <a:xfrm>
            <a:off x="0" y="799920"/>
            <a:ext cx="9144000" cy="6057720"/>
          </a:xfrm>
          <a:prstGeom prst="rect">
            <a:avLst/>
          </a:prstGeom>
          <a:noFill/>
          <a:ln w="0">
            <a:noFill/>
          </a:ln>
        </p:spPr>
        <p:txBody>
          <a:bodyPr anchor="t">
            <a:normAutofit/>
          </a:bodyPr>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rPr>
              <a:t>“</a:t>
            </a:r>
            <a:r>
              <a:rPr b="1" lang="es-ES" sz="2000" spc="-1" strike="noStrike">
                <a:solidFill>
                  <a:srgbClr val="161616"/>
                </a:solidFill>
                <a:latin typeface="Arial"/>
              </a:rPr>
              <a:t>La calidad del espacio público (naturalidad, propiedad, estética, multifuncionalidad, etc.) es el primer servicio público de la ciudad. Contrariado por la razón técnica de circulación de los automóviles, el espacio público ha llegado a ser banalizado, muerto, restado de sentido. Para que vuelva a ser el espacio de relaciones que hacen `posible las sociabilidades urbanas, se debe librar de sus restricciones tecnocráticas.</a:t>
            </a:r>
            <a:endParaRPr b="0" lang="en-US" sz="2000" spc="-1" strike="noStrike">
              <a:solidFill>
                <a:srgbClr val="000000"/>
              </a:solidFill>
              <a:latin typeface="Arial"/>
            </a:endParaRPr>
          </a:p>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rPr>
              <a:t>La valorización del espacio público en todos los compartimentos de la ciudad y la organización de la accesibilidad a los equipamientos y servicios colectivos es la condición de solidaridad de las redes estructurantes de los tejidos y las formas urbanas. Ello es una de las razones de una política de densificación  eficaz que busca la “continuidad” de la “fabricación de la ciudad” en la mezcla de las funciones, la equidad de los usos y la economía de los recursos.  La creación de externalidades de red entre los espacios públicos nos reenvía al acceso con equidad a una ciudad vivible”</a:t>
            </a:r>
            <a:endParaRPr b="0" lang="en-US" sz="2000" spc="-1" strike="noStrike">
              <a:solidFill>
                <a:srgbClr val="000000"/>
              </a:solidFill>
              <a:latin typeface="Arial"/>
            </a:endParaRPr>
          </a:p>
          <a:p>
            <a:pPr marL="343080" indent="-343080" algn="just">
              <a:spcBef>
                <a:spcPts val="400"/>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61616"/>
                </a:solidFill>
                <a:latin typeface="Arial"/>
              </a:rPr>
              <a:t>Da Cunha (2005): 18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1616"/>
                </a:solidFill>
                <a:latin typeface="Arial"/>
              </a:rPr>
              <a:t>PRINCIPIOS ESTRATÉGICOS</a:t>
            </a:r>
            <a:endParaRPr b="0" lang="en-US" sz="2400" spc="-1" strike="noStrike">
              <a:solidFill>
                <a:srgbClr val="000000"/>
              </a:solidFill>
              <a:latin typeface="Arial"/>
            </a:endParaRPr>
          </a:p>
        </p:txBody>
      </p:sp>
      <p:sp>
        <p:nvSpPr>
          <p:cNvPr id="61" name="PlaceHolder 2"/>
          <p:cNvSpPr>
            <a:spLocks noGrp="1"/>
          </p:cNvSpPr>
          <p:nvPr>
            <p:ph type="subTitle"/>
          </p:nvPr>
        </p:nvSpPr>
        <p:spPr>
          <a:xfrm>
            <a:off x="0" y="685440"/>
            <a:ext cx="9144000" cy="592452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rPr>
              <a:t>Integrar las políticas de gestión y planificación del transporte: una ciudad accesible</a:t>
            </a:r>
            <a:endParaRPr b="0" lang="en-US" sz="2000" spc="-1" strike="noStrike">
              <a:solidFill>
                <a:srgbClr val="000000"/>
              </a:solidFill>
              <a:latin typeface="Arial"/>
            </a:endParaRPr>
          </a:p>
          <a:p>
            <a:pPr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Estados Unidos, Japón y la Unión Europea intentan regular la movilidad automovilística</a:t>
            </a:r>
            <a:endParaRPr b="0" lang="en-US" sz="2000" spc="-1" strike="noStrike">
              <a:solidFill>
                <a:srgbClr val="000000"/>
              </a:solidFill>
              <a:latin typeface="Arial"/>
            </a:endParaRPr>
          </a:p>
          <a:p>
            <a:pPr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Tanto en las renovaciones como en los nuevos desarrollos se asegura la viabilidad del transporte público</a:t>
            </a:r>
            <a:endParaRPr b="0" lang="en-US" sz="2000" spc="-1" strike="noStrike">
              <a:solidFill>
                <a:srgbClr val="000000"/>
              </a:solidFill>
              <a:latin typeface="Arial"/>
            </a:endParaRPr>
          </a:p>
          <a:p>
            <a:pPr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Las recetas son: construir a lo largo de ejes de comunicación, en la proximidad de las estaciones y paradas de transporte público, limitar las velocidades, etc.</a:t>
            </a:r>
            <a:endParaRPr b="0" lang="en-US" sz="2000" spc="-1" strike="noStrike">
              <a:solidFill>
                <a:srgbClr val="000000"/>
              </a:solidFill>
              <a:latin typeface="Arial"/>
            </a:endParaRPr>
          </a:p>
          <a:p>
            <a:pPr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La integración del transporte y de planificación espacial ofrece la posibilidad a los actores de la aglomeración de sacar ventajas al contactar y poner en red las centralidades, y el conjunto de las amenidades del espacio urbano.</a:t>
            </a:r>
            <a:endParaRPr b="0" lang="en-US" sz="2000" spc="-1" strike="noStrike">
              <a:solidFill>
                <a:srgbClr val="000000"/>
              </a:solidFill>
              <a:latin typeface="Arial"/>
            </a:endParaRPr>
          </a:p>
          <a:p>
            <a:pPr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Al planificar junto la afectación del suelo, la oferta inmobiliaria y los transportes, las autoridades pueden estabilizar o reducir el uso del automóvil y contribuir a la realización de los objetivos des desarrollo sustent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1616"/>
                </a:solidFill>
                <a:latin typeface="Arial"/>
              </a:rPr>
              <a:t>PRINCIPIOS ESTRATÉGICOS</a:t>
            </a:r>
            <a:endParaRPr b="0" lang="en-US" sz="2400" spc="-1" strike="noStrike">
              <a:solidFill>
                <a:srgbClr val="000000"/>
              </a:solidFill>
              <a:latin typeface="Arial"/>
            </a:endParaRPr>
          </a:p>
        </p:txBody>
      </p:sp>
      <p:sp>
        <p:nvSpPr>
          <p:cNvPr id="63" name=""/>
          <p:cNvSpPr txBox="1"/>
          <p:nvPr/>
        </p:nvSpPr>
        <p:spPr>
          <a:xfrm>
            <a:off x="0" y="685440"/>
            <a:ext cx="9144000" cy="6172200"/>
          </a:xfrm>
          <a:prstGeom prst="rect">
            <a:avLst/>
          </a:prstGeom>
          <a:noFill/>
          <a:ln w="0">
            <a:noFill/>
          </a:ln>
        </p:spPr>
        <p:txBody>
          <a:bodyPr anchor="t">
            <a:normAutofit/>
          </a:bodyPr>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rPr>
              <a:t>Integrar la ecogestión de los recursos y la planificación espacial: gerenciar mejor los recursos materiales</a:t>
            </a:r>
            <a:endParaRPr b="0" lang="en-US" sz="2000" spc="-1" strike="noStrike">
              <a:solidFill>
                <a:srgbClr val="000000"/>
              </a:solidFill>
              <a:latin typeface="Arial"/>
            </a:endParaRPr>
          </a:p>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Las problemáticas de la energía, del ciclo urbano de las aguas, del ciclo de la materia y de la producción de contaminantes y desechos urbanos están directamente ligados: mientras más elevado el consumo de energía, más recursos son necesarios y más desechos se producen y acumulan en el ecosistema</a:t>
            </a:r>
            <a:endParaRPr b="0" lang="en-US" sz="2000" spc="-1" strike="noStrike">
              <a:solidFill>
                <a:srgbClr val="000000"/>
              </a:solidFill>
              <a:latin typeface="Arial"/>
            </a:endParaRPr>
          </a:p>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a:t>
            </a:r>
            <a:r>
              <a:rPr b="0" lang="es-ES" sz="2000" spc="-1" strike="noStrike">
                <a:solidFill>
                  <a:srgbClr val="161616"/>
                </a:solidFill>
                <a:latin typeface="Arial"/>
              </a:rPr>
              <a:t>La eficacia del ecourbanismo supone la integración de varios instrumentos de intervención para responder al objetivo de la calidad urbana. Es difícil conseguir una política coherente y eficaz de densificación, de valoración de los espacios públicos, de creación de externalidades de las redes entre los equipamientos, de generación de centralidades, de ecogestión de recursos, ala escala de la aglomeración, sin tener en cuenta las aspiraciones de los diferentes actores y sin la puesta en obra de nuevos arreglos institucionales a diferentes escalas. El éxito de los principios estratégicos depende estrechamente de la puesta en funcionamiento de nuevas modalidades de elaboración y de adopción de decisiones”.</a:t>
            </a:r>
            <a:endParaRPr b="0" lang="en-US" sz="2000" spc="-1" strike="noStrike">
              <a:solidFill>
                <a:srgbClr val="000000"/>
              </a:solidFill>
              <a:latin typeface="Arial"/>
            </a:endParaRPr>
          </a:p>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1616"/>
                </a:solidFill>
                <a:latin typeface="Arial"/>
              </a:rPr>
              <a:t>Da Cunha (2005): 183</a:t>
            </a:r>
            <a:endParaRPr b="0" lang="en-US" sz="1800" spc="-1" strike="noStrike">
              <a:solidFill>
                <a:srgbClr val="000000"/>
              </a:solidFill>
              <a:latin typeface="Arial"/>
            </a:endParaRPr>
          </a:p>
          <a:p>
            <a:pPr marL="343080" indent="-343080" algn="just">
              <a:spcBef>
                <a:spcPts val="45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Imagen 3" descr=""/>
          <p:cNvPicPr/>
          <p:nvPr/>
        </p:nvPicPr>
        <p:blipFill>
          <a:blip r:embed="rId1"/>
          <a:stretch/>
        </p:blipFill>
        <p:spPr>
          <a:xfrm>
            <a:off x="843120" y="447840"/>
            <a:ext cx="7456320" cy="55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Object 2" descr=""/>
          <p:cNvPicPr/>
          <p:nvPr/>
        </p:nvPicPr>
        <p:blipFill>
          <a:blip r:embed="rId1"/>
          <a:stretch/>
        </p:blipFill>
        <p:spPr>
          <a:xfrm>
            <a:off x="1324080" y="0"/>
            <a:ext cx="6564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Object 2" descr=""/>
          <p:cNvPicPr/>
          <p:nvPr/>
        </p:nvPicPr>
        <p:blipFill>
          <a:blip r:embed="rId1"/>
          <a:stretch/>
        </p:blipFill>
        <p:spPr>
          <a:xfrm>
            <a:off x="1295280" y="0"/>
            <a:ext cx="65311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courbanismo y Proyecto Urbano</a:t>
            </a:r>
            <a:endParaRPr b="0" lang="en-US" sz="2400" spc="-1" strike="noStrike">
              <a:solidFill>
                <a:srgbClr val="000000"/>
              </a:solidFill>
              <a:latin typeface="Arial"/>
            </a:endParaRPr>
          </a:p>
        </p:txBody>
      </p:sp>
      <p:sp>
        <p:nvSpPr>
          <p:cNvPr id="45" name=""/>
          <p:cNvSpPr txBox="1"/>
          <p:nvPr/>
        </p:nvSpPr>
        <p:spPr>
          <a:xfrm>
            <a:off x="0" y="552240"/>
            <a:ext cx="9144000" cy="630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urbanismo es una práctica de gestión y de acompañamiento del desarrollo espacial de la ciud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see una indiscutible dimensión prospectiva: construir el hábitat de hoy y preparar la ciudad del futuro, dirigir y orientar las demandas sociales en materia de sociabilidad y de calidad del cuadro de vida, asegurar el empleo para mañana. Se trata de adaptar la ciudad al crecimiento urban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etrovilla industrial esta hecha de unidades de habitación autónomas, las vías de circulación reemplazan progresivamente las calles, los monumentos ceden el lugar a los equipamientos, la funcionalidad substituye a la urbanid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eríodo actual modifica profundamente los cuadros de pensar la ciudad y la concepción de la acción pública. El ecourbanismo es una respuesta nueva frente a la urbanización extensiva. Se trata de un camino nuevo para los objetos estratégicos y los instrumentos de acción  Substituye a la noción de plan y el proyecto urbano aparece como el instrumento que permitirá concretar la ambicion estratégica del ecourbanismo y de otorgarle un anclaje territorial en forma flexible y abierta  a los actores públicos y privados</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Cunha (2005): 176-1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incipios estratégicos para contener el crecimiento urbano, mejorar el balance ambiental y promover la calidad urbana</a:t>
            </a:r>
            <a:endParaRPr b="0" lang="en-US" sz="2400" spc="-1" strike="noStrike">
              <a:solidFill>
                <a:srgbClr val="000000"/>
              </a:solidFill>
              <a:latin typeface="Arial"/>
            </a:endParaRPr>
          </a:p>
        </p:txBody>
      </p:sp>
      <p:sp>
        <p:nvSpPr>
          <p:cNvPr id="47" name="PlaceHolder 2"/>
          <p:cNvSpPr>
            <a:spLocks noGrp="1"/>
          </p:cNvSpPr>
          <p:nvPr>
            <p:ph type="subTitle"/>
          </p:nvPr>
        </p:nvSpPr>
        <p:spPr>
          <a:xfrm>
            <a:off x="0" y="914400"/>
            <a:ext cx="9144000" cy="5943600"/>
          </a:xfrm>
          <a:prstGeom prst="rect">
            <a:avLst/>
          </a:prstGeom>
          <a:noFill/>
          <a:ln w="0">
            <a:noFill/>
          </a:ln>
        </p:spPr>
        <p:txBody>
          <a:bodyPr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urbanismo tradicional dispone de instrumentos directrices, esquemas de gestión, zonificación, planes de ocupación de suelos, planificación de la fluidez de la circulación a lo largo de los ejes de comunicación jerarquizados, etc.</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dea central del ecourbanismo es que no se puede direccionar la incidencia ambiental de la ciudad en función de parámetros de alejamiento o proximidad, de concentración o dispersión, de expansión o compacidad. La sustentabilidad exige adaptar las concepciones urbanísticas y los sistemas de planificación a los imperativos ecológicos: generar un hábitat ecológico, gestión integrada del sistema de centralidad urbana, de redes de transporte, de equipamientos y espacios públicos, etc., afectación de suelos y recursos naturales, renovación, etc., permitiendo responder a los desafíos de la huella ecológica de la ciudad y de la calidad urbana para todos</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 Cunha (2005): 1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s Estratégicos</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666360"/>
            <a:ext cx="9144000" cy="4971960"/>
          </a:xfrm>
          <a:prstGeom prst="rect">
            <a:avLst/>
          </a:prstGeom>
          <a:noFill/>
          <a:ln w="0">
            <a:noFill/>
          </a:ln>
        </p:spPr>
        <p:txBody>
          <a:bodyPr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nsificación cualificada </a:t>
            </a: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diante alojamientos que mejoran su calidad de construcción y consideran los costos económicos, sociales y ambientales (60 y 50% de recursos y energía del planet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cción, renovación y rehabilitación de alojamientos con alta calidad ambiental, tanto en la implantación, como en el uso de la energía, agua y materiales; captar, almacenar y repartir la energía sola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modalidad de densificación: Revalorizar los centros principales y secundarios de la aglomeración, favorecer la diversificación de hábitats, renovar, reconvertir  y rehabilitar los sitios construidos, densificar la oferta de viviendas y de servicios alrededor de las interfases de transporte, reutilización de lugares y reciclaje del tejido urbano. Rehabilitación ecológica y social de los barrios antiguos.</a:t>
            </a:r>
            <a:endParaRPr b="0" lang="en-US" sz="24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 Cunha: 179.</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61616"/>
                </a:solidFill>
                <a:latin typeface="Arial"/>
              </a:rPr>
              <a:t>Principios Estratégicos</a:t>
            </a:r>
            <a:endParaRPr b="0" lang="en-US" sz="4000" spc="-1" strike="noStrike">
              <a:solidFill>
                <a:srgbClr val="000000"/>
              </a:solidFill>
              <a:latin typeface="Arial"/>
            </a:endParaRPr>
          </a:p>
        </p:txBody>
      </p:sp>
      <p:sp>
        <p:nvSpPr>
          <p:cNvPr id="51" name="PlaceHolder 2"/>
          <p:cNvSpPr>
            <a:spLocks noGrp="1"/>
          </p:cNvSpPr>
          <p:nvPr>
            <p:ph type="subTitle"/>
          </p:nvPr>
        </p:nvSpPr>
        <p:spPr>
          <a:xfrm>
            <a:off x="0" y="666360"/>
            <a:ext cx="9144000" cy="4971960"/>
          </a:xfrm>
          <a:prstGeom prst="rect">
            <a:avLst/>
          </a:prstGeom>
          <a:noFill/>
          <a:ln w="0">
            <a:noFill/>
          </a:ln>
        </p:spPr>
        <p:txBody>
          <a:bodyPr anchor="t">
            <a:noAutofit/>
          </a:bodyPr>
          <a:p>
            <a:pPr algn="just">
              <a:lnSpc>
                <a:spcPct val="90000"/>
              </a:lnSpc>
              <a:spcBef>
                <a:spcPts val="75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161616"/>
                </a:solidFill>
                <a:latin typeface="Arial"/>
              </a:rPr>
              <a:t>Densificación cualificada </a:t>
            </a:r>
            <a:endParaRPr b="0" lang="en-US" sz="3000" spc="-1" strike="noStrike">
              <a:solidFill>
                <a:srgbClr val="000000"/>
              </a:solidFill>
              <a:latin typeface="Arial"/>
            </a:endParaRPr>
          </a:p>
          <a:p>
            <a:pPr algn="just">
              <a:lnSpc>
                <a:spcPct val="90000"/>
              </a:lnSpc>
              <a:spcBef>
                <a:spcPts val="550"/>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1616"/>
                </a:solidFill>
                <a:latin typeface="Arial"/>
              </a:rPr>
              <a:t>mediante alojamientos que mejoran su calidad de construcción y consideran los costos económicos, sociales y ambientales (60 y 50% de recursos y energía del planeta)</a:t>
            </a:r>
            <a:endParaRPr b="0" lang="en-US" sz="2200" spc="-1" strike="noStrike">
              <a:solidFill>
                <a:srgbClr val="000000"/>
              </a:solidFill>
              <a:latin typeface="Arial"/>
            </a:endParaRPr>
          </a:p>
          <a:p>
            <a:pPr algn="just">
              <a:lnSpc>
                <a:spcPct val="90000"/>
              </a:lnSpc>
              <a:spcBef>
                <a:spcPts val="550"/>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1616"/>
                </a:solidFill>
                <a:latin typeface="Arial"/>
              </a:rPr>
              <a:t>Construcción, renovación y rehabilitación de alojamientos con alta calidad ambiental, tanto en la implantación, como en el uso de la energía, agua y materiales; captar, almacenar y repartir la energía solar</a:t>
            </a:r>
            <a:endParaRPr b="0" lang="en-US" sz="2200" spc="-1" strike="noStrike">
              <a:solidFill>
                <a:srgbClr val="000000"/>
              </a:solidFill>
              <a:latin typeface="Arial"/>
            </a:endParaRPr>
          </a:p>
          <a:p>
            <a:pPr algn="just">
              <a:lnSpc>
                <a:spcPct val="90000"/>
              </a:lnSpc>
              <a:spcBef>
                <a:spcPts val="550"/>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1616"/>
                </a:solidFill>
                <a:latin typeface="Arial"/>
              </a:rPr>
              <a:t> </a:t>
            </a:r>
            <a:r>
              <a:rPr b="0" lang="es-ES" sz="2200" spc="-1" strike="noStrike">
                <a:solidFill>
                  <a:srgbClr val="161616"/>
                </a:solidFill>
                <a:latin typeface="Arial"/>
              </a:rPr>
              <a:t>La modalidad de densificación: Revalorizar los centros principales y secundarios de la aglomeración, favorecer la diversificación de hábitats, renovar, reconvertir  y rehabilitar los sitios construidos, densificar la oferta de viviendas y de servicios alrededor de las interfases de transporte, reutilización de lugares y reciclaje del tejido urbano. Rehabilitación ecológica y social de los barrios antiguos.</a:t>
            </a:r>
            <a:endParaRPr b="0" lang="en-US" sz="2200" spc="-1" strike="noStrike">
              <a:solidFill>
                <a:srgbClr val="000000"/>
              </a:solidFill>
              <a:latin typeface="Arial"/>
            </a:endParaRPr>
          </a:p>
          <a:p>
            <a:pPr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Da Cunha: 179.</a:t>
            </a:r>
            <a:endParaRPr b="0" lang="en-US" sz="1900" spc="-1" strike="noStrike">
              <a:solidFill>
                <a:srgbClr val="000000"/>
              </a:solidFill>
              <a:latin typeface="Arial"/>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61616"/>
                </a:solidFill>
                <a:latin typeface="Arial"/>
              </a:rPr>
              <a:t>PRINCIPIOS ESTRATÉGICOS</a:t>
            </a:r>
            <a:endParaRPr b="0" lang="en-US" sz="2800" spc="-1" strike="noStrike">
              <a:solidFill>
                <a:srgbClr val="000000"/>
              </a:solidFill>
              <a:latin typeface="Arial"/>
            </a:endParaRPr>
          </a:p>
        </p:txBody>
      </p:sp>
      <p:sp>
        <p:nvSpPr>
          <p:cNvPr id="53" name=""/>
          <p:cNvSpPr txBox="1"/>
          <p:nvPr/>
        </p:nvSpPr>
        <p:spPr>
          <a:xfrm>
            <a:off x="0" y="952200"/>
            <a:ext cx="9144000" cy="5173560"/>
          </a:xfrm>
          <a:prstGeom prst="rect">
            <a:avLst/>
          </a:prstGeom>
          <a:noFill/>
          <a:ln w="0">
            <a:noFill/>
          </a:ln>
        </p:spPr>
        <p:txBody>
          <a:bodyPr anchor="t">
            <a:normAutofit/>
          </a:bodyPr>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Gestionar las centralidades secundarias: reforzar la mezcla del conjunto</a:t>
            </a:r>
            <a:endParaRPr b="0" lang="en-US" sz="1900" spc="-1" strike="noStrike">
              <a:solidFill>
                <a:srgbClr val="000000"/>
              </a:solidFill>
              <a:latin typeface="Arial"/>
            </a:endParaRPr>
          </a:p>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Reemplazar los polos urbanos monofuncionales que generan desplazamientos motorizados múltiples.</a:t>
            </a:r>
            <a:endParaRPr b="0" lang="en-US" sz="1900" spc="-1" strike="noStrike">
              <a:solidFill>
                <a:srgbClr val="000000"/>
              </a:solidFill>
              <a:latin typeface="Arial"/>
            </a:endParaRPr>
          </a:p>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Proponer una configuración urbana que mezcle la funcionalidad que permita diversificar las afectaciones, transformar globalmente los desplazamientos y mejorar la calidad del espacio urbano</a:t>
            </a:r>
            <a:endParaRPr b="0" lang="en-US" sz="1900" spc="-1" strike="noStrike">
              <a:solidFill>
                <a:srgbClr val="000000"/>
              </a:solidFill>
              <a:latin typeface="Arial"/>
            </a:endParaRPr>
          </a:p>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Promover la concentración de funciones diversas en uno o varios puntos del espacio, generando centralidades y tornando legible las estructuras espaciales del espacio urbano</a:t>
            </a:r>
            <a:endParaRPr b="0" lang="en-US" sz="1900" spc="-1" strike="noStrike">
              <a:solidFill>
                <a:srgbClr val="000000"/>
              </a:solidFill>
              <a:latin typeface="Arial"/>
            </a:endParaRPr>
          </a:p>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Buscar equilibrio entre alojamientos, empleo y equipamiento urbano en cada compartimiento del espacio urbanizado. Es la calidad de estas asociaciones la que determina la calidad de los tipos urbanos centrales, suburbanos, periurbanos, etc.</a:t>
            </a:r>
            <a:endParaRPr b="0" lang="en-US" sz="1900" spc="-1" strike="noStrike">
              <a:solidFill>
                <a:srgbClr val="000000"/>
              </a:solidFill>
              <a:latin typeface="Arial"/>
            </a:endParaRPr>
          </a:p>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El espacio público y sus redes de equipamiento estructuran las formas urbanas policéntricas y la diversificación de la oferta inmobiliariaria</a:t>
            </a:r>
            <a:endParaRPr b="0" lang="en-US" sz="19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a Cunha (2005): 180</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4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1616"/>
                </a:solidFill>
                <a:latin typeface="Arial"/>
              </a:rPr>
              <a:t>PRINCIPIOS ESTRATÉGICOS</a:t>
            </a:r>
            <a:endParaRPr b="0" lang="en-US" sz="2400" spc="-1" strike="noStrike">
              <a:solidFill>
                <a:srgbClr val="000000"/>
              </a:solidFill>
              <a:latin typeface="Arial"/>
            </a:endParaRPr>
          </a:p>
        </p:txBody>
      </p:sp>
      <p:sp>
        <p:nvSpPr>
          <p:cNvPr id="55" name=""/>
          <p:cNvSpPr txBox="1"/>
          <p:nvPr/>
        </p:nvSpPr>
        <p:spPr>
          <a:xfrm>
            <a:off x="457200" y="857160"/>
            <a:ext cx="8229600" cy="5268960"/>
          </a:xfrm>
          <a:prstGeom prst="rect">
            <a:avLst/>
          </a:prstGeom>
          <a:noFill/>
          <a:ln w="0">
            <a:noFill/>
          </a:ln>
        </p:spPr>
        <p:txBody>
          <a:bodyPr anchor="t">
            <a:normAutofit/>
          </a:bodyPr>
          <a:p>
            <a:pPr marL="343080" indent="-343080" algn="just">
              <a:spcBef>
                <a:spcPts val="60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1616"/>
                </a:solidFill>
                <a:latin typeface="Arial"/>
              </a:rPr>
              <a:t>Valorizar los espacios públicos y mejorar los servicios urbanos: una ciudad de equidad.</a:t>
            </a:r>
            <a:endParaRPr b="0" lang="en-US" sz="2400" spc="-1" strike="noStrike">
              <a:solidFill>
                <a:srgbClr val="000000"/>
              </a:solidFill>
              <a:latin typeface="Arial"/>
            </a:endParaRPr>
          </a:p>
          <a:p>
            <a:pPr marL="343080" indent="-343080" algn="just">
              <a:spcBef>
                <a:spcPts val="60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1616"/>
                </a:solidFill>
                <a:latin typeface="Arial"/>
              </a:rPr>
              <a:t>Los espacios públicos son espacios visibles, regidos por el derecho de mirar y el derecho de visitar, accesibles a las prácticas de co-presencia. El espacio público está estructurado por una armadura de edificios que acogen los servicios colectivos y simbolizan el modo de integración de los barrios a la ciudad.</a:t>
            </a:r>
            <a:endParaRPr b="0" lang="en-US" sz="2400" spc="-1" strike="noStrike">
              <a:solidFill>
                <a:srgbClr val="000000"/>
              </a:solidFill>
              <a:latin typeface="Arial"/>
            </a:endParaRPr>
          </a:p>
          <a:p>
            <a:pPr marL="343080" indent="-343080" algn="just">
              <a:spcBef>
                <a:spcPts val="60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1616"/>
                </a:solidFill>
                <a:latin typeface="Arial"/>
              </a:rPr>
              <a:t>El desarrollo urbano sustentable consiste en construir los cuadros de acción operativos que permitan recualificar los edificios y los espacios públicos mejorando a la vez su estética, sus funcionamiento y su valor de u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5:57:09Z</dcterms:created>
  <dc:creator>hromero</dc:creator>
  <dc:description/>
  <dc:language>en-US</dc:language>
  <cp:lastModifiedBy>hromero</cp:lastModifiedBy>
  <dcterms:modified xsi:type="dcterms:W3CDTF">2008-11-13T15:59:22Z</dcterms:modified>
  <cp:revision>2</cp:revision>
  <dc:subject/>
  <dc:title>ecolurbanismo</dc:title>
</cp:coreProperties>
</file>