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6FFF5-EE60-4345-91EE-9DA738B21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602520"/>
            <a:ext cx="822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445B2-18DC-47A7-A721-4FA0402ED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0252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60252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99237-F0F0-4047-9DB0-51DE0E748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60252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60252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60252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6D2C3-B468-493C-8F27-BFF195F69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89EB5-9575-4BAE-8543-84139F87C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4AA6F-8FB9-41FE-A7CE-2CF0B7608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E3F95-F79D-4FF9-BD99-1C5E9E6F0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4A927-5206-42E8-9578-B79B60089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AC441-FD28-4460-B6E3-49C376D5E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CB4B3-51CE-40A5-9401-360D077AC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0252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E0312-020A-41B9-B144-3A762AE1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59203-2C79-4132-8173-155D9D53B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0252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E6E67-A78C-475D-8072-792E6BC8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02520"/>
            <a:ext cx="822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325AA-3887-49A9-8518-3A1DDDBE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02520"/>
            <a:ext cx="822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39F57-2384-44CA-AAB9-E51E3D597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0252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0252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65C63-4962-493A-95D8-42C56023C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0252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0252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0252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2B0B4-04C4-42C9-95D7-218ED9FF8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C5DE9-C777-4FD5-8905-C7D7E64F2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AB3AE-E3B8-45A2-80F2-80B679E10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15EC8-4C1B-41F3-A9C1-F0FD629E6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CEA66-DD1E-4050-9753-964B8BCB5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0252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16277-AF5F-4264-90A5-1748869C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60252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EDB27-6E07-4C1D-8DC5-333E1055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02520"/>
            <a:ext cx="822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88594-AE09-4151-AFA0-30198233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5D6C9-9EB9-405E-A928-A6280437DE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85840" cy="53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12920" y="135000"/>
            <a:ext cx="8731080" cy="274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7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ras Demi ITC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Demi IT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Demi IT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Demi IT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  <a:p>
            <a:pPr lvl="3" marL="1600200" indent="-228600"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Demi IT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  <a:p>
            <a:pPr lvl="4" marL="2057400" indent="-22860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Demi IT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Demi IT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Demi IT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250920" y="0"/>
            <a:ext cx="404640" cy="507960"/>
            <a:chOff x="250920" y="0"/>
            <a:chExt cx="404640" cy="507960"/>
          </a:xfrm>
        </p:grpSpPr>
        <p:sp>
          <p:nvSpPr>
            <p:cNvPr id="8" name=""/>
            <p:cNvSpPr/>
            <p:nvPr/>
          </p:nvSpPr>
          <p:spPr>
            <a:xfrm>
              <a:off x="335880" y="412560"/>
              <a:ext cx="59040" cy="73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91400" y="121680"/>
              <a:ext cx="85320" cy="95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80" y="68040"/>
              <a:ext cx="46080" cy="5328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20480" y="412560"/>
              <a:ext cx="86760" cy="9540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98680" y="143280"/>
              <a:ext cx="46080" cy="619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95280" y="218160"/>
              <a:ext cx="86760" cy="93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50920" y="225360"/>
              <a:ext cx="86400" cy="939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13000" y="239760"/>
              <a:ext cx="46080" cy="69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52440" y="336240"/>
              <a:ext cx="47880" cy="561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27320" y="325440"/>
              <a:ext cx="58320" cy="777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78440" y="6840"/>
              <a:ext cx="86760" cy="95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120" y="113400"/>
              <a:ext cx="85320" cy="93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45600" y="0"/>
              <a:ext cx="85320" cy="95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56320" y="97920"/>
              <a:ext cx="86760" cy="93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79A2C-1479-40FE-8E12-6252C410C0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ras Demi IT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Eras Demi ITC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585720" cy="642960"/>
          </a:xfrm>
          <a:prstGeom prst="rect">
            <a:avLst/>
          </a:prstGeom>
          <a:solidFill>
            <a:srgbClr val="99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0" y="809640"/>
            <a:ext cx="2722680" cy="3414600"/>
            <a:chOff x="0" y="809640"/>
            <a:chExt cx="2722680" cy="3414600"/>
          </a:xfrm>
        </p:grpSpPr>
        <p:sp>
          <p:nvSpPr>
            <p:cNvPr id="65" name=""/>
            <p:cNvSpPr/>
            <p:nvPr/>
          </p:nvSpPr>
          <p:spPr>
            <a:xfrm>
              <a:off x="573120" y="3583080"/>
              <a:ext cx="398520" cy="4935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619280" y="162864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411280" y="1268280"/>
              <a:ext cx="311400" cy="3603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340000" y="1773360"/>
              <a:ext cx="311040" cy="417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971640" y="2276640"/>
              <a:ext cx="58428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2324160"/>
              <a:ext cx="582480" cy="633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763640" y="2421000"/>
              <a:ext cx="311400" cy="465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84360" y="3068640"/>
              <a:ext cx="322200" cy="3794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87280" y="2997360"/>
              <a:ext cx="393840" cy="5238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530360" y="857160"/>
              <a:ext cx="585720" cy="642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35200" y="1573200"/>
              <a:ext cx="574560" cy="6336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38280" y="80964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8160" y="1468440"/>
              <a:ext cx="58428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ras Demi ITC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Eras Demi ITC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Demi IT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Eras Demi ITC"/>
            </a:endParaRPr>
          </a:p>
          <a:p>
            <a:pPr lvl="2" marL="914400" algn="ctr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ras Demi ITC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Eras Demi ITC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Demi IT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Demi IT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Demi IT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Demi IT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24080" y="184464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ffffff"/>
                </a:solidFill>
                <a:latin typeface="Eras Demi ITC"/>
              </a:rPr>
              <a:t>Calidad, Creatividad y Diseño (C2D)</a:t>
            </a:r>
            <a:endParaRPr b="0" lang="en-US" sz="4800" spc="-1" strike="noStrike">
              <a:solidFill>
                <a:srgbClr val="ffffff"/>
              </a:solidFill>
              <a:latin typeface="Eras Demi IT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5803920" y="4581360"/>
            <a:ext cx="3340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ras Bold ITC"/>
              </a:rPr>
              <a:t>Camila Soto R. </a:t>
            </a:r>
            <a:endParaRPr b="0" lang="en-US" sz="1600" spc="-1" strike="noStrike">
              <a:solidFill>
                <a:srgbClr val="000000"/>
              </a:solidFill>
              <a:latin typeface="Eras Demi ITC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ras Bold ITC"/>
              </a:rPr>
              <a:t>Diseñadora Industrial</a:t>
            </a:r>
            <a:endParaRPr b="0" lang="en-US" sz="16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18" name=""/>
          <p:cNvSpPr/>
          <p:nvPr/>
        </p:nvSpPr>
        <p:spPr>
          <a:xfrm>
            <a:off x="6659640" y="333360"/>
            <a:ext cx="2232000" cy="10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Eras Demi ITC"/>
              </a:rPr>
              <a:t>Clase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ras Demi ITC"/>
              </a:rPr>
              <a:t>Requisito 7.4. “Compras”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211" name=""/>
          <p:cNvSpPr/>
          <p:nvPr/>
        </p:nvSpPr>
        <p:spPr>
          <a:xfrm>
            <a:off x="6659640" y="2852640"/>
            <a:ext cx="2087640" cy="11912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Demi ITC"/>
              </a:rPr>
              <a:t>PROCESO DE PRODUCCIÓN O PRESTACIÓN DEL SERV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rot="16200000">
            <a:off x="-2385360" y="3617280"/>
            <a:ext cx="573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Eras Demi ITC"/>
              </a:rPr>
              <a:t>Compras 7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2349360"/>
            <a:ext cx="5329080" cy="19497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ras Medium ITC"/>
              </a:rPr>
              <a:t>Como Compra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Eras Medium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ras Medium ITC"/>
              </a:rPr>
              <a:t>El producto adquirido debe cumplir con los requisitos de comp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Eras Medium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ras Medium ITC"/>
              </a:rPr>
              <a:t>Debo saber la criticidad del material para el producto fi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Eras Medium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ras Medium ITC"/>
              </a:rPr>
              <a:t>Debo estar seguro de que mis proveedores me cumplirán en oportunidad, calidad y prec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4560" y="3176640"/>
            <a:ext cx="432000" cy="649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484360" y="1047600"/>
            <a:ext cx="2087640" cy="1140480"/>
          </a:xfrm>
          <a:prstGeom prst="flowChartDocumen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Especificaciones y criterios de acep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804000" y="4512240"/>
            <a:ext cx="1901880" cy="1098360"/>
          </a:xfrm>
          <a:prstGeom prst="cube">
            <a:avLst>
              <a:gd name="adj" fmla="val 25000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ras Medium ITC"/>
              </a:rPr>
              <a:t>MATERIALES COMPRADOS LIBER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55640" y="4508640"/>
            <a:ext cx="5329080" cy="1168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ras Medium ITC"/>
              </a:rPr>
              <a:t>Como controlar lo que compr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Eras Medium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ras Medium ITC"/>
              </a:rPr>
              <a:t>Estableciendo inspección, muestreo o lo que sea neces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Eras Medium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ras Medium ITC"/>
              </a:rPr>
              <a:t>Controlando “en terreno” al proveed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ras Demi ITC"/>
              </a:rPr>
              <a:t>7.5. Producción y Prestación del Servicio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219" name=""/>
          <p:cNvSpPr/>
          <p:nvPr/>
        </p:nvSpPr>
        <p:spPr>
          <a:xfrm>
            <a:off x="6659640" y="2852640"/>
            <a:ext cx="2087640" cy="11912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Medium ITC"/>
              </a:rPr>
              <a:t>PROCESO DE PRODUCCIÓN O PRESTACIÓN DEL SERV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16200000">
            <a:off x="-2312280" y="3761640"/>
            <a:ext cx="573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Eras Demi ITC"/>
              </a:rPr>
              <a:t>Producción. 7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154560" y="3176640"/>
            <a:ext cx="432000" cy="649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804000" y="4714920"/>
            <a:ext cx="1828800" cy="773640"/>
          </a:xfrm>
          <a:prstGeom prst="cube">
            <a:avLst>
              <a:gd name="adj" fmla="val 25000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ras Medium ITC"/>
              </a:rPr>
              <a:t>PRODUCTO TERMIN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55640" y="1052640"/>
            <a:ext cx="5329080" cy="180792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ras Medium ITC"/>
              </a:rPr>
              <a:t>CONTROL DE LA PRODU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Eras Medium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ras Medium ITC"/>
              </a:rPr>
              <a:t>Disponibilidad de especificaciones y pla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Eras Medium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ras Medium ITC"/>
              </a:rPr>
              <a:t>Disponibilidad de Instrucciones de tr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Eras Medium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ras Medium ITC"/>
              </a:rPr>
              <a:t>Uso del equipo apropiado e instrument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Eras Medium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ras Medium ITC"/>
              </a:rPr>
              <a:t>Realización de procesos de control y medi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Eras Medium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ras Medium ITC"/>
              </a:rPr>
              <a:t>Actividades de liberación entrega y posteri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55640" y="2997360"/>
            <a:ext cx="5329080" cy="87480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ras Medium ITC"/>
              </a:rPr>
              <a:t>IDENTIFICACIÓN Y TRAZABI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ras Medium ITC"/>
              </a:rPr>
              <a:t>Cuando sea necesario debo identificar el producto durante el desarrollo del proce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55640" y="4005360"/>
            <a:ext cx="5329080" cy="111816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ras Medium ITC"/>
              </a:rPr>
              <a:t>PROPIEDAD DEL 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ras Medium ITC"/>
              </a:rPr>
              <a:t>Debo identificar, verificar, proteger, y salvaguardar los bienes del cliente incluyendo los documentos y propiedad intelect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55640" y="5229360"/>
            <a:ext cx="5329080" cy="111816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ras Medium ITC"/>
              </a:rPr>
              <a:t>PRESERVACIÓN DEL PRODUC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ras Medium ITC"/>
              </a:rPr>
              <a:t>Debo preocuparme de mantener la conformidad del producto hasta su entrega final (almacenamiento, transporte, manipulación etc.)</a:t>
            </a:r>
            <a:r>
              <a:rPr b="1" lang="en-US" sz="1600" spc="-1" strike="noStrike">
                <a:solidFill>
                  <a:srgbClr val="000000"/>
                </a:solidFill>
                <a:latin typeface="Eras Medium IT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ras Demi ITC"/>
              </a:rPr>
              <a:t>7.6. Control de dispositivos de Seguimiento y Medición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228" name=""/>
          <p:cNvSpPr/>
          <p:nvPr/>
        </p:nvSpPr>
        <p:spPr>
          <a:xfrm>
            <a:off x="6659640" y="2852640"/>
            <a:ext cx="2087640" cy="11912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Medium ITC"/>
              </a:rPr>
              <a:t>PROCESO DE PRODUCCIÓN O PRESTACIÓN DEL SERV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54560" y="3176640"/>
            <a:ext cx="432000" cy="649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26920" y="1298520"/>
            <a:ext cx="2303640" cy="82404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ras Medium ITC"/>
              </a:rPr>
              <a:t>DISPOSITIVOS DE SEGUIMIENTO Y MEDI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95640" y="1197000"/>
            <a:ext cx="2160720" cy="106740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ras Medium ITC"/>
              </a:rPr>
              <a:t>Instrumentos de medición (Pie de Metro, Micrómetro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367080" y="1434960"/>
            <a:ext cx="431640" cy="649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124000" y="4581360"/>
            <a:ext cx="505080" cy="1873440"/>
          </a:xfrm>
          <a:prstGeom prst="can">
            <a:avLst>
              <a:gd name="adj" fmla="val 15296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ras Medium ITC"/>
              </a:rPr>
              <a:t>INSTRUMENTO DE MEDI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26920" y="2421000"/>
            <a:ext cx="1297080" cy="58068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ras Medium ITC"/>
              </a:rPr>
              <a:t>Definir la Medi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830680" y="2443320"/>
            <a:ext cx="2749320" cy="3373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ras Medium ITC"/>
              </a:rPr>
              <a:t>Que cota o Medid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30680" y="3032280"/>
            <a:ext cx="2749320" cy="3373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ras Medium ITC"/>
              </a:rPr>
              <a:t>Con que instrument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08360" y="3598920"/>
            <a:ext cx="2843280" cy="106740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ras Medium ITC"/>
              </a:rPr>
              <a:t>El instrumento debe ser </a:t>
            </a:r>
            <a:r>
              <a:rPr b="1" lang="en-US" sz="1600" spc="-1" strike="noStrike">
                <a:solidFill>
                  <a:srgbClr val="000000"/>
                </a:solidFill>
                <a:latin typeface="Eras Medium ITC"/>
              </a:rPr>
              <a:t>apropiado </a:t>
            </a:r>
            <a:r>
              <a:rPr b="0" lang="en-US" sz="1600" spc="-1" strike="noStrike">
                <a:solidFill>
                  <a:srgbClr val="000000"/>
                </a:solidFill>
                <a:latin typeface="Eras Medium ITC"/>
              </a:rPr>
              <a:t>y mantenerse </a:t>
            </a:r>
            <a:r>
              <a:rPr b="1" lang="en-US" sz="1600" spc="-1" strike="noStrike">
                <a:solidFill>
                  <a:srgbClr val="000000"/>
                </a:solidFill>
                <a:latin typeface="Eras Medium ITC"/>
              </a:rPr>
              <a:t>calibrado o verificado</a:t>
            </a:r>
            <a:r>
              <a:rPr b="0" lang="en-US" sz="1600" spc="-1" strike="noStrike">
                <a:solidFill>
                  <a:srgbClr val="000000"/>
                </a:solidFill>
                <a:latin typeface="Eras Medium ITC"/>
              </a:rPr>
              <a:t> según se def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771640" y="4869000"/>
            <a:ext cx="3368880" cy="16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ras Medium ITC"/>
              </a:rPr>
              <a:t>Apropiado:</a:t>
            </a:r>
            <a:r>
              <a:rPr b="0" lang="en-US" sz="1600" spc="-1" strike="noStrike">
                <a:solidFill>
                  <a:srgbClr val="000000"/>
                </a:solidFill>
                <a:latin typeface="Eras Medium ITC"/>
              </a:rPr>
              <a:t> Que se adapte a la medición realiz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ras Medium ITC"/>
              </a:rPr>
              <a:t>Calibración:</a:t>
            </a:r>
            <a:r>
              <a:rPr b="0" lang="en-US" sz="1600" spc="-1" strike="noStrike">
                <a:solidFill>
                  <a:srgbClr val="000000"/>
                </a:solidFill>
                <a:latin typeface="Eras Medium ITC"/>
              </a:rPr>
              <a:t> Proceso en el que se compara con un patrón de valor conocido para conocer su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4" idx="3"/>
            <a:endCxn id="236" idx="1"/>
          </p:cNvCxnSpPr>
          <p:nvPr/>
        </p:nvCxnSpPr>
        <p:spPr>
          <a:xfrm>
            <a:off x="2123640" y="2716200"/>
            <a:ext cx="707400" cy="489600"/>
          </a:xfrm>
          <a:prstGeom prst="bentConnector3">
            <a:avLst>
              <a:gd name="adj1" fmla="val 4984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4" idx="3"/>
            <a:endCxn id="235" idx="1"/>
          </p:cNvCxnSpPr>
          <p:nvPr/>
        </p:nvCxnSpPr>
        <p:spPr>
          <a:xfrm flipV="1">
            <a:off x="2123640" y="2615760"/>
            <a:ext cx="707400" cy="100800"/>
          </a:xfrm>
          <a:prstGeom prst="bentConnector3">
            <a:avLst>
              <a:gd name="adj1" fmla="val 4984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6588000" y="4581360"/>
            <a:ext cx="1871640" cy="1584360"/>
          </a:xfrm>
          <a:prstGeom prst="flowChartDocumen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Eras Medium ITC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Eras Medium ITC"/>
              </a:rPr>
              <a:t>Plan de Calibración</a:t>
            </a: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014480" y="3344760"/>
            <a:ext cx="1871640" cy="1584360"/>
          </a:xfrm>
          <a:prstGeom prst="flowChartDocumen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Eras Demi ITC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Eras Demi ITC"/>
              </a:rPr>
              <a:t>PLAN DE PRODUCCIÓN.DOC</a:t>
            </a:r>
            <a:r>
              <a:rPr b="0" lang="en-US" sz="1800" spc="-1" strike="noStrike">
                <a:solidFill>
                  <a:srgbClr val="000000"/>
                </a:solidFill>
                <a:latin typeface="Eras Demi ITC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014480" y="1069920"/>
            <a:ext cx="2266920" cy="1406880"/>
          </a:xfrm>
          <a:custGeom>
            <a:avLst/>
            <a:gdLst>
              <a:gd name="textAreaLeft" fmla="*/ 0 w 2266920"/>
              <a:gd name="textAreaRight" fmla="*/ 2267280 w 2266920"/>
              <a:gd name="textAreaTop" fmla="*/ 351720 h 1406880"/>
              <a:gd name="textAreaBottom" fmla="*/ 1055160 h 1406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Eras Demi ITC"/>
              </a:rPr>
              <a:t>Canales de Comun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270480" y="1184400"/>
            <a:ext cx="1440000" cy="1584360"/>
          </a:xfrm>
          <a:prstGeom prst="flowChartMultidocumen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Eras Demi ITC"/>
              </a:rPr>
              <a:t>Etapas del Dise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54840" y="3420000"/>
            <a:ext cx="1901880" cy="109836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ras Demi ITC"/>
              </a:rPr>
              <a:t>MATERIALES COMPRADOS LIBER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319560" y="2192400"/>
            <a:ext cx="2158920" cy="1523880"/>
          </a:xfrm>
          <a:prstGeom prst="cube">
            <a:avLst>
              <a:gd name="adj" fmla="val 13319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Demi ITC"/>
              </a:rPr>
              <a:t>PRODUCTO TERMIN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535200" y="4568760"/>
            <a:ext cx="1872000" cy="1584360"/>
          </a:xfrm>
          <a:prstGeom prst="flowChartDocumen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Eras Demi ITC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Eras Demi ITC"/>
              </a:rPr>
              <a:t>Plan de Calibración</a:t>
            </a:r>
            <a:r>
              <a:rPr b="0" lang="en-US" sz="1800" spc="-1" strike="noStrike">
                <a:solidFill>
                  <a:srgbClr val="000000"/>
                </a:solidFill>
                <a:latin typeface="Eras Demi ITC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74560" y="404280"/>
            <a:ext cx="8569440" cy="53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ras Demi ITC"/>
              </a:rPr>
              <a:t>Requisito 7: “Realización del Producto”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249" name=""/>
          <p:cNvSpPr/>
          <p:nvPr/>
        </p:nvSpPr>
        <p:spPr>
          <a:xfrm>
            <a:off x="2887560" y="2120760"/>
            <a:ext cx="3589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2887560" y="3344400"/>
            <a:ext cx="432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398840" y="37036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478480" y="3344760"/>
            <a:ext cx="64944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5478480" y="1903320"/>
            <a:ext cx="72072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6251400" y="2031840"/>
            <a:ext cx="1295640" cy="1295640"/>
          </a:xfrm>
          <a:prstGeom prst="ellipse">
            <a:avLst/>
          </a:prstGeom>
          <a:solidFill>
            <a:srgbClr val="c0c0c0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Eras Medium ITC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13120" y="5232240"/>
            <a:ext cx="1295280" cy="1295640"/>
          </a:xfrm>
          <a:prstGeom prst="ellipse">
            <a:avLst/>
          </a:prstGeom>
          <a:solidFill>
            <a:srgbClr val="c0c0c0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Eras Medium ITC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32000" y="1989000"/>
            <a:ext cx="1295280" cy="1295640"/>
          </a:xfrm>
          <a:prstGeom prst="ellipse">
            <a:avLst/>
          </a:prstGeom>
          <a:solidFill>
            <a:srgbClr val="c0c0c0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Eras Medium ITC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ras Demi ITC"/>
              </a:rPr>
              <a:t>Requisito 8: “Medición, Análisis y Mejora”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258" name=""/>
          <p:cNvSpPr/>
          <p:nvPr/>
        </p:nvSpPr>
        <p:spPr>
          <a:xfrm rot="6013800">
            <a:off x="5652000" y="4365000"/>
            <a:ext cx="3240000" cy="1079280"/>
          </a:xfrm>
          <a:custGeom>
            <a:avLst/>
            <a:gdLst>
              <a:gd name="textAreaLeft" fmla="*/ 567000 w 3240000"/>
              <a:gd name="textAreaRight" fmla="*/ 2349000 w 3240000"/>
              <a:gd name="textAreaTop" fmla="*/ 144360 h 1079280"/>
              <a:gd name="textAreaBottom" fmla="*/ 93492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rot="14847000">
            <a:off x="106920" y="4077360"/>
            <a:ext cx="3240000" cy="1079640"/>
          </a:xfrm>
          <a:custGeom>
            <a:avLst/>
            <a:gdLst>
              <a:gd name="textAreaLeft" fmla="*/ 567000 w 3240000"/>
              <a:gd name="textAreaRight" fmla="*/ 2349000 w 3240000"/>
              <a:gd name="textAreaTop" fmla="*/ 144360 h 1079640"/>
              <a:gd name="textAreaBottom" fmla="*/ 93528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rot="188400">
            <a:off x="2771640" y="1341360"/>
            <a:ext cx="3240360" cy="1079640"/>
          </a:xfrm>
          <a:custGeom>
            <a:avLst/>
            <a:gdLst>
              <a:gd name="textAreaLeft" fmla="*/ 567000 w 3240360"/>
              <a:gd name="textAreaRight" fmla="*/ 2349360 w 3240360"/>
              <a:gd name="textAreaTop" fmla="*/ 144360 h 1079640"/>
              <a:gd name="textAreaBottom" fmla="*/ 93528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55640" y="242100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Medium ITC"/>
              </a:rPr>
              <a:t>Medición:</a:t>
            </a: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 Como estoy hoy dí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508720" y="2276640"/>
            <a:ext cx="311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Medium ITC"/>
              </a:rPr>
              <a:t>Análisis</a:t>
            </a: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: Como me gustaría estar, cuanto soy capaz de mejor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059280" y="5516640"/>
            <a:ext cx="34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Medium ITC"/>
              </a:rPr>
              <a:t>Mejora:</a:t>
            </a: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 Que tengo que hacer y como lo hag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2700360" y="1125360"/>
            <a:ext cx="2951280" cy="1729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Eras Demi ITC"/>
              </a:rPr>
              <a:t>Datos de medición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Eras Demi ITC"/>
              <a:ea typeface="Eras Demi ITC"/>
            </a:endParaRPr>
          </a:p>
        </p:txBody>
      </p:sp>
      <p:sp>
        <p:nvSpPr>
          <p:cNvPr id="265" name=""/>
          <p:cNvSpPr txBox="1"/>
          <p:nvPr/>
        </p:nvSpPr>
        <p:spPr>
          <a:xfrm rot="6025800">
            <a:off x="5842440" y="3885480"/>
            <a:ext cx="2862000" cy="1666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Eras Demi ITC"/>
              </a:rPr>
              <a:t>Objetivos Calidad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Eras Demi ITC"/>
              <a:ea typeface="Eras Demi ITC"/>
            </a:endParaRPr>
          </a:p>
        </p:txBody>
      </p:sp>
      <p:sp>
        <p:nvSpPr>
          <p:cNvPr id="266" name=""/>
          <p:cNvSpPr txBox="1"/>
          <p:nvPr/>
        </p:nvSpPr>
        <p:spPr>
          <a:xfrm rot="14608200">
            <a:off x="554400" y="3629160"/>
            <a:ext cx="2992680" cy="2158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Eras Demi ITC"/>
              </a:rPr>
              <a:t>Plan y ejecución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Eras Demi ITC"/>
              <a:ea typeface="Eras Demi ITC"/>
            </a:endParaRPr>
          </a:p>
        </p:txBody>
      </p:sp>
      <p:sp>
        <p:nvSpPr>
          <p:cNvPr id="267" name=""/>
          <p:cNvSpPr/>
          <p:nvPr/>
        </p:nvSpPr>
        <p:spPr>
          <a:xfrm>
            <a:off x="2916360" y="3284640"/>
            <a:ext cx="2952720" cy="119124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Eras Medium ITC"/>
              </a:rPr>
              <a:t>MEJORA CONTINU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ras Demi ITC"/>
              </a:rPr>
              <a:t>Requisito 8: “Medición, Análisis y Mejora”</a:t>
            </a:r>
            <a:endParaRPr b="0" lang="en-US" sz="28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269" name=""/>
          <p:cNvSpPr/>
          <p:nvPr/>
        </p:nvSpPr>
        <p:spPr>
          <a:xfrm>
            <a:off x="828720" y="1627200"/>
            <a:ext cx="3024000" cy="825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ras Demi ITC"/>
              </a:rPr>
              <a:t>Mejora continua del 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292720" y="1700280"/>
            <a:ext cx="2665440" cy="703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</a:rPr>
              <a:t>8.2 Seguimiento y Med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292720" y="2685960"/>
            <a:ext cx="2665440" cy="1008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</a:rPr>
              <a:t>8.3 Control del producto No Confor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92720" y="4003560"/>
            <a:ext cx="2665440" cy="703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</a:rPr>
              <a:t>8.4. Análisis de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92720" y="5083200"/>
            <a:ext cx="2665440" cy="3988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</a:rPr>
              <a:t>8.5 Mej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4" name=""/>
          <p:cNvCxnSpPr>
            <a:stCxn id="269" idx="3"/>
            <a:endCxn id="270" idx="1"/>
          </p:cNvCxnSpPr>
          <p:nvPr/>
        </p:nvCxnSpPr>
        <p:spPr>
          <a:xfrm>
            <a:off x="3852720" y="2043000"/>
            <a:ext cx="1440360" cy="13680"/>
          </a:xfrm>
          <a:prstGeom prst="bentConnector3">
            <a:avLst>
              <a:gd name="adj1" fmla="val 499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"/>
          <p:cNvCxnSpPr>
            <a:stCxn id="269" idx="3"/>
            <a:endCxn id="271" idx="1"/>
          </p:cNvCxnSpPr>
          <p:nvPr/>
        </p:nvCxnSpPr>
        <p:spPr>
          <a:xfrm>
            <a:off x="3852720" y="2042640"/>
            <a:ext cx="1440360" cy="1151640"/>
          </a:xfrm>
          <a:prstGeom prst="bentConnector3">
            <a:avLst>
              <a:gd name="adj1" fmla="val 499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69" idx="3"/>
            <a:endCxn id="272" idx="1"/>
          </p:cNvCxnSpPr>
          <p:nvPr/>
        </p:nvCxnSpPr>
        <p:spPr>
          <a:xfrm>
            <a:off x="3852720" y="2042640"/>
            <a:ext cx="1440360" cy="2164680"/>
          </a:xfrm>
          <a:prstGeom prst="bentConnector3">
            <a:avLst>
              <a:gd name="adj1" fmla="val 499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69" idx="3"/>
            <a:endCxn id="273" idx="1"/>
          </p:cNvCxnSpPr>
          <p:nvPr/>
        </p:nvCxnSpPr>
        <p:spPr>
          <a:xfrm>
            <a:off x="3852720" y="2042640"/>
            <a:ext cx="1440360" cy="3243960"/>
          </a:xfrm>
          <a:prstGeom prst="bentConnector3">
            <a:avLst>
              <a:gd name="adj1" fmla="val 499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>
            <a:hlinkClick r:id="rId1" action="ppaction://hlinksldjump"/>
          </p:cNvPr>
          <p:cNvSpPr/>
          <p:nvPr/>
        </p:nvSpPr>
        <p:spPr>
          <a:xfrm>
            <a:off x="372960" y="1378080"/>
            <a:ext cx="2665440" cy="703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</a:rPr>
              <a:t>8.2 Seguimiento y Med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>
            <a:hlinkClick r:id="rId2" action="ppaction://hlinksldjump"/>
          </p:cNvPr>
          <p:cNvSpPr/>
          <p:nvPr/>
        </p:nvSpPr>
        <p:spPr>
          <a:xfrm>
            <a:off x="3708360" y="1378080"/>
            <a:ext cx="2158920" cy="70380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</a:rPr>
              <a:t>Satisfacción del cl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>
            <a:hlinkClick r:id="rId3" action="ppaction://hlinksldjump"/>
          </p:cNvPr>
          <p:cNvSpPr/>
          <p:nvPr/>
        </p:nvSpPr>
        <p:spPr>
          <a:xfrm>
            <a:off x="3708360" y="2492280"/>
            <a:ext cx="2158920" cy="70380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</a:rPr>
              <a:t>Auditoria Inte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>
            <a:hlinkClick r:id="rId4" action="ppaction://hlinksldjump"/>
          </p:cNvPr>
          <p:cNvSpPr/>
          <p:nvPr/>
        </p:nvSpPr>
        <p:spPr>
          <a:xfrm>
            <a:off x="3708360" y="3573360"/>
            <a:ext cx="2232000" cy="70380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</a:rPr>
              <a:t>Seg. y Medición de Proce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708360" y="4941720"/>
            <a:ext cx="2232000" cy="70380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</a:rPr>
              <a:t>Seg. y Medición del Produ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3" name=""/>
          <p:cNvCxnSpPr>
            <a:stCxn id="278" idx="3"/>
            <a:endCxn id="279" idx="1"/>
          </p:cNvCxnSpPr>
          <p:nvPr/>
        </p:nvCxnSpPr>
        <p:spPr>
          <a:xfrm>
            <a:off x="3038040" y="1733040"/>
            <a:ext cx="6706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4" name=""/>
          <p:cNvCxnSpPr>
            <a:stCxn id="278" idx="3"/>
            <a:endCxn id="280" idx="1"/>
          </p:cNvCxnSpPr>
          <p:nvPr/>
        </p:nvCxnSpPr>
        <p:spPr>
          <a:xfrm>
            <a:off x="3038040" y="1733040"/>
            <a:ext cx="670680" cy="963000"/>
          </a:xfrm>
          <a:prstGeom prst="bentConnector3">
            <a:avLst>
              <a:gd name="adj1" fmla="val 497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5" name=""/>
          <p:cNvCxnSpPr>
            <a:stCxn id="278" idx="3"/>
            <a:endCxn id="281" idx="1"/>
          </p:cNvCxnSpPr>
          <p:nvPr/>
        </p:nvCxnSpPr>
        <p:spPr>
          <a:xfrm>
            <a:off x="3038040" y="1733040"/>
            <a:ext cx="670680" cy="2196000"/>
          </a:xfrm>
          <a:prstGeom prst="bentConnector3">
            <a:avLst>
              <a:gd name="adj1" fmla="val 497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6" name=""/>
          <p:cNvCxnSpPr>
            <a:stCxn id="278" idx="3"/>
            <a:endCxn id="282" idx="1"/>
          </p:cNvCxnSpPr>
          <p:nvPr/>
        </p:nvCxnSpPr>
        <p:spPr>
          <a:xfrm>
            <a:off x="3038040" y="1733400"/>
            <a:ext cx="670680" cy="3564720"/>
          </a:xfrm>
          <a:prstGeom prst="bentConnector3">
            <a:avLst>
              <a:gd name="adj1" fmla="val 497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7" name=""/>
          <p:cNvSpPr/>
          <p:nvPr/>
        </p:nvSpPr>
        <p:spPr>
          <a:xfrm>
            <a:off x="539640" y="476280"/>
            <a:ext cx="731376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ras Demi ITC"/>
              </a:rPr>
              <a:t>Requisito 8.2: “Seguimiento y Medició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300720" y="1340280"/>
            <a:ext cx="2382840" cy="799200"/>
          </a:xfrm>
          <a:prstGeom prst="flowChartDocumen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Encuesta de Satisf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164360" y="2459520"/>
            <a:ext cx="1655640" cy="799200"/>
          </a:xfrm>
          <a:prstGeom prst="flowChartDocumen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Plan de Auditor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156360" y="2492280"/>
            <a:ext cx="719280" cy="72072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1" name=""/>
          <p:cNvCxnSpPr>
            <a:stCxn id="280" idx="3"/>
            <a:endCxn id="290" idx="2"/>
          </p:cNvCxnSpPr>
          <p:nvPr/>
        </p:nvCxnSpPr>
        <p:spPr>
          <a:xfrm>
            <a:off x="5866920" y="2695680"/>
            <a:ext cx="289440" cy="15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2" name=""/>
          <p:cNvCxnSpPr>
            <a:stCxn id="279" idx="3"/>
            <a:endCxn id="288" idx="1"/>
          </p:cNvCxnSpPr>
          <p:nvPr/>
        </p:nvCxnSpPr>
        <p:spPr>
          <a:xfrm>
            <a:off x="5867280" y="1733400"/>
            <a:ext cx="43416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"/>
          <p:cNvCxnSpPr>
            <a:stCxn id="290" idx="6"/>
            <a:endCxn id="289" idx="1"/>
          </p:cNvCxnSpPr>
          <p:nvPr/>
        </p:nvCxnSpPr>
        <p:spPr>
          <a:xfrm>
            <a:off x="6875640" y="2852640"/>
            <a:ext cx="28944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6659640" y="3284640"/>
            <a:ext cx="2160360" cy="1584360"/>
          </a:xfrm>
          <a:prstGeom prst="cloudCallout">
            <a:avLst>
              <a:gd name="adj1" fmla="val -78212"/>
              <a:gd name="adj2" fmla="val -2907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ras Medium ITC"/>
              </a:rPr>
              <a:t>¿Cual es la capacidad de alcanzar resultados planificado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443640" y="4941720"/>
            <a:ext cx="2376360" cy="1224000"/>
          </a:xfrm>
          <a:prstGeom prst="cloudCallout">
            <a:avLst>
              <a:gd name="adj1" fmla="val -67166"/>
              <a:gd name="adj2" fmla="val -324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ras Medium ITC"/>
              </a:rPr>
              <a:t>¿El producto cumple con los requisito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532720" y="2276640"/>
            <a:ext cx="360360" cy="431640"/>
          </a:xfrm>
          <a:custGeom>
            <a:avLst/>
            <a:gdLst>
              <a:gd name="textAreaLeft" fmla="*/ 148320 w 360360"/>
              <a:gd name="textAreaRight" fmla="*/ 212040 w 360360"/>
              <a:gd name="textAreaTop" fmla="*/ 177840 h 431640"/>
              <a:gd name="textAreaBottom" fmla="*/ 2538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900000" y="2844720"/>
            <a:ext cx="2665440" cy="100872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</a:rPr>
              <a:t>8.3 Control del producto No Confor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219640" y="1125360"/>
            <a:ext cx="3311640" cy="1413360"/>
          </a:xfrm>
          <a:prstGeom prst="cloudCallout">
            <a:avLst>
              <a:gd name="adj1" fmla="val -95583"/>
              <a:gd name="adj2" fmla="val 65481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Tomar acciones para eliminar la no conform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932360" y="2924280"/>
            <a:ext cx="3772080" cy="1413360"/>
          </a:xfrm>
          <a:prstGeom prst="cloudCallout">
            <a:avLst>
              <a:gd name="adj1" fmla="val -81175"/>
              <a:gd name="adj2" fmla="val -15902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Autorizando su uso, liberación y/o conce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003640" y="4797360"/>
            <a:ext cx="3427560" cy="1413360"/>
          </a:xfrm>
          <a:prstGeom prst="cloudCallout">
            <a:avLst>
              <a:gd name="adj1" fmla="val -86680"/>
              <a:gd name="adj2" fmla="val -110782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Tomar acciones para prevenir su uso previ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39640" y="404640"/>
            <a:ext cx="80647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ras Demi ITC"/>
              </a:rPr>
              <a:t>Requisito 8.3: “Control de producto no Conform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132000" y="2924280"/>
            <a:ext cx="360360" cy="431640"/>
          </a:xfrm>
          <a:custGeom>
            <a:avLst/>
            <a:gdLst>
              <a:gd name="textAreaLeft" fmla="*/ 148320 w 360360"/>
              <a:gd name="textAreaRight" fmla="*/ 212040 w 360360"/>
              <a:gd name="textAreaTop" fmla="*/ 177840 h 431640"/>
              <a:gd name="textAreaBottom" fmla="*/ 2538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468360" y="1557360"/>
            <a:ext cx="2665440" cy="703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</a:rPr>
              <a:t>8.4. Análisis de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476360" y="5734080"/>
            <a:ext cx="2232000" cy="574560"/>
          </a:xfrm>
          <a:prstGeom prst="wedgeRoundRectCallout">
            <a:avLst>
              <a:gd name="adj1" fmla="val -45875"/>
              <a:gd name="adj2" fmla="val -320995"/>
              <a:gd name="adj3" fmla="val 16667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Analizar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916360" y="4869000"/>
            <a:ext cx="2232000" cy="574560"/>
          </a:xfrm>
          <a:prstGeom prst="wedgeRoundRectCallout">
            <a:avLst>
              <a:gd name="adj1" fmla="val -80939"/>
              <a:gd name="adj2" fmla="val -225416"/>
              <a:gd name="adj3" fmla="val 16667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Recopilar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708360" y="4005360"/>
            <a:ext cx="2232000" cy="574560"/>
          </a:xfrm>
          <a:prstGeom prst="wedgeRoundRectCallout">
            <a:avLst>
              <a:gd name="adj1" fmla="val -89685"/>
              <a:gd name="adj2" fmla="val -112152"/>
              <a:gd name="adj3" fmla="val 16667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Determinar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780000" y="58770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Métodos estadís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219640" y="501336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En los Regis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084720" y="400536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En los 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68360" y="333360"/>
            <a:ext cx="806436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ras Demi ITC"/>
              </a:rPr>
              <a:t>Requisito 8.4: “Análisis de Dato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995640" y="1197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</a:rPr>
              <a:t>Qué Datos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516720" y="1119600"/>
            <a:ext cx="2305080" cy="799200"/>
          </a:xfrm>
          <a:prstGeom prst="flowChartDocumen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Satisfacción del 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012000" y="2127960"/>
            <a:ext cx="2293920" cy="799200"/>
          </a:xfrm>
          <a:prstGeom prst="flowChartDocumen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Conformidad con los requis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492360" y="2128680"/>
            <a:ext cx="2222640" cy="1140480"/>
          </a:xfrm>
          <a:prstGeom prst="flowChartDocumen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Tendencia de los procesos y Prove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900000" y="3141720"/>
            <a:ext cx="208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</a:rPr>
              <a:t>Qué Hacer con ellos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3276720" y="1483920"/>
            <a:ext cx="647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619280" y="2492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740720" y="3068640"/>
            <a:ext cx="863640" cy="2521080"/>
          </a:xfrm>
          <a:custGeom>
            <a:avLst/>
            <a:gdLst>
              <a:gd name="textAreaLeft" fmla="*/ 115560 w 863640"/>
              <a:gd name="textAreaRight" fmla="*/ 748080 w 863640"/>
              <a:gd name="textAreaTop" fmla="*/ 512280 h 2521080"/>
              <a:gd name="textAreaBottom" fmla="*/ 1710360 h 252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777" stAng="-5400000" swAng="5400000"/>
                <a:lnTo>
                  <a:pt x="21600" y="10264"/>
                </a:lnTo>
                <a:arcTo wR="21600" hR="8777" stAng="0" swAng="2249269"/>
                <a:lnTo>
                  <a:pt x="10112" y="20579"/>
                </a:lnTo>
                <a:lnTo>
                  <a:pt x="0" y="18298"/>
                </a:lnTo>
                <a:lnTo>
                  <a:pt x="10112" y="13974"/>
                </a:lnTo>
                <a:lnTo>
                  <a:pt x="10112" y="16533"/>
                </a:lnTo>
                <a:arcTo wR="21600" hR="8777" stAng="2249269" swAng="-2130558"/>
                <a:lnTo>
                  <a:pt x="21522" y="9521"/>
                </a:lnTo>
                <a:arcTo wR="21600" hR="8777" stAng="-118711" swAng="-5281289"/>
                <a:close/>
              </a:path>
              <a:path fill="darkenLess" w="21600" h="21600">
                <a:moveTo>
                  <a:pt x="0" y="0"/>
                </a:moveTo>
                <a:arcTo wR="21600" hR="8777" stAng="-5400000" swAng="5400000"/>
                <a:lnTo>
                  <a:pt x="21600" y="10264"/>
                </a:lnTo>
                <a:arcTo wR="21600" hR="8777" stAng="0" swAng="-118711"/>
                <a:lnTo>
                  <a:pt x="21522" y="9521"/>
                </a:lnTo>
                <a:arcTo wR="21600" hR="8777" stAng="-118711" swAng="-5281289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95280" y="1484280"/>
            <a:ext cx="2665440" cy="3988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</a:rPr>
              <a:t>8.5 Mej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140360" y="3502080"/>
            <a:ext cx="2303280" cy="70380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</a:rPr>
              <a:t>8.5.1. Mejora Contin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68360" y="404640"/>
            <a:ext cx="806436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ras Demi ITC"/>
              </a:rPr>
              <a:t>Requisito 8.5: “Mejor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908000" y="3710520"/>
            <a:ext cx="1471680" cy="799200"/>
          </a:xfrm>
          <a:prstGeom prst="flowChartDocumen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Política de C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500720" y="1910520"/>
            <a:ext cx="1471320" cy="799200"/>
          </a:xfrm>
          <a:prstGeom prst="flowChartDocumen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Objetivos de C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300720" y="2270880"/>
            <a:ext cx="1598760" cy="799200"/>
          </a:xfrm>
          <a:prstGeom prst="flowChartDocumen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Resultados de Audit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093080" y="3423240"/>
            <a:ext cx="1598400" cy="799200"/>
          </a:xfrm>
          <a:prstGeom prst="flowChartDocumen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Análisis de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796000" y="4937040"/>
            <a:ext cx="1846080" cy="1140480"/>
          </a:xfrm>
          <a:prstGeom prst="flowChartDocumen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Acciones correctivas y preven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059280" y="4756680"/>
            <a:ext cx="1846080" cy="1140480"/>
          </a:xfrm>
          <a:prstGeom prst="flowChartDocumen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Resultados Rev. por la Dir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203640" y="1989000"/>
            <a:ext cx="86364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5076720" y="2852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6227640" y="3141720"/>
            <a:ext cx="21600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443640" y="386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156360" y="4221000"/>
            <a:ext cx="21600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4500360" y="4221000"/>
            <a:ext cx="21564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3563640" y="3860640"/>
            <a:ext cx="57636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08720" y="4724280"/>
            <a:ext cx="360360" cy="432000"/>
          </a:xfrm>
          <a:custGeom>
            <a:avLst/>
            <a:gdLst>
              <a:gd name="textAreaLeft" fmla="*/ 148320 w 360360"/>
              <a:gd name="textAreaRight" fmla="*/ 212040 w 360360"/>
              <a:gd name="textAreaTop" fmla="*/ 177840 h 432000"/>
              <a:gd name="textAreaBottom" fmla="*/ 2541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524720" y="4940280"/>
            <a:ext cx="360360" cy="432000"/>
          </a:xfrm>
          <a:custGeom>
            <a:avLst/>
            <a:gdLst>
              <a:gd name="textAreaLeft" fmla="*/ 148320 w 360360"/>
              <a:gd name="textAreaRight" fmla="*/ 212040 w 360360"/>
              <a:gd name="textAreaTop" fmla="*/ 177840 h 432000"/>
              <a:gd name="textAreaBottom" fmla="*/ 2541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Eras Demi ITC"/>
              </a:rPr>
              <a:t>PROCESO DE DISEÑO</a:t>
            </a:r>
            <a:endParaRPr b="0" lang="en-US" sz="32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122364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Eras Demi ITC"/>
              </a:rPr>
              <a:t>Levantar la necesidad y el contexto de la necesidad</a:t>
            </a:r>
            <a:endParaRPr b="0" lang="en-US" sz="1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21" name=""/>
          <p:cNvSpPr/>
          <p:nvPr/>
        </p:nvSpPr>
        <p:spPr>
          <a:xfrm>
            <a:off x="755640" y="1197000"/>
            <a:ext cx="289080" cy="358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Eras Demi ITC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1628640"/>
            <a:ext cx="1368360" cy="100836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95640" y="1628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Eras Demi ITC"/>
              </a:rPr>
              <a:t>Definir la necesidad “el problema a resolver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27280" y="1197000"/>
            <a:ext cx="289080" cy="358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Eras Demi ITC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22560" y="1628640"/>
            <a:ext cx="1368360" cy="100836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22560" y="1844640"/>
            <a:ext cx="1295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Eras Demi ITC"/>
              </a:rPr>
              <a:t>Definir el concepto de solu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27640" y="1197000"/>
            <a:ext cx="288720" cy="358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Eras Demi ITC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22560" y="1628640"/>
            <a:ext cx="1368720" cy="100836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867280" y="1600200"/>
            <a:ext cx="122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Eras Demi ITC"/>
              </a:rPr>
              <a:t>Analizar y generar alternativas de solu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299280" y="1168560"/>
            <a:ext cx="288720" cy="3585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Eras Demi ITC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4200" y="1600200"/>
            <a:ext cx="1368720" cy="100800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67640" y="1773360"/>
            <a:ext cx="12240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Eras Demi ITC"/>
              </a:rPr>
              <a:t>Selección de la alternati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085240" y="1139760"/>
            <a:ext cx="288720" cy="358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Eras Demi ITC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580160" y="1571760"/>
            <a:ext cx="1368720" cy="100800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90560" y="1989000"/>
            <a:ext cx="36036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19360" y="1973160"/>
            <a:ext cx="36036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48160" y="1930320"/>
            <a:ext cx="36036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05760" y="1916280"/>
            <a:ext cx="36036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9840" y="3341520"/>
            <a:ext cx="122400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Eras Demi ITC"/>
              </a:rPr>
              <a:t>Evaluar factibilidad y solucionar los problemas técni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71480" y="2909880"/>
            <a:ext cx="289080" cy="358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Eras Demi ITC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11480" y="3568680"/>
            <a:ext cx="12240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Eras Demi ITC"/>
              </a:rPr>
              <a:t>Desarrollar un  Prototi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43120" y="2909880"/>
            <a:ext cx="289080" cy="358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Eras Demi ITC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138400" y="3341520"/>
            <a:ext cx="1368360" cy="100836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38760" y="3352680"/>
            <a:ext cx="129528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Eras Demi ITC"/>
              </a:rPr>
              <a:t>Someter a control y evaluar la capacidad de cumpl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443480" y="2909880"/>
            <a:ext cx="288720" cy="358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Eras Demi ITC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38760" y="3341520"/>
            <a:ext cx="1368360" cy="100836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83120" y="3568680"/>
            <a:ext cx="12240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Eras Demi ITC"/>
              </a:rPr>
              <a:t>Congelar el Dise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15120" y="2881440"/>
            <a:ext cx="288720" cy="3585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Eras Demi ITC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810400" y="3313080"/>
            <a:ext cx="1368360" cy="100800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683480" y="3568680"/>
            <a:ext cx="122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Eras Demi ITC"/>
              </a:rPr>
              <a:t>Entrega a Produ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101080" y="2852640"/>
            <a:ext cx="288720" cy="358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Eras Demi ITC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596360" y="3284640"/>
            <a:ext cx="1368360" cy="100800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06400" y="3701880"/>
            <a:ext cx="36036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35200" y="3686040"/>
            <a:ext cx="36036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64000" y="3643200"/>
            <a:ext cx="36036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221600" y="3629160"/>
            <a:ext cx="36036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3920" y="3314880"/>
            <a:ext cx="1368360" cy="111744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19280" y="5013360"/>
            <a:ext cx="648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Eras Demi ITC"/>
              </a:rPr>
              <a:t>¿Donde gastarías la plata de tu empresa de Diseñ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19280" y="5661000"/>
            <a:ext cx="648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Eras Medium ITC"/>
              </a:rPr>
              <a:t>Elegir una de las etapas del proceso y diseñar una herramienta para su control (tarea en parej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500"/>
                            </p:stCondLst>
                            <p:childTnLst>
                              <p:par>
                                <p:cTn id="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00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500"/>
                            </p:stCondLst>
                            <p:childTnLst>
                              <p:par>
                                <p:cTn id="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4500"/>
                            </p:stCondLst>
                            <p:childTnLst>
                              <p:par>
                                <p:cTn id="1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539640" y="333360"/>
            <a:ext cx="8064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ras Demi ITC"/>
              </a:rPr>
              <a:t>Requisito 8.5: “Mejor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63640" y="1197000"/>
            <a:ext cx="734544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ras Medium ITC"/>
              </a:rPr>
              <a:t>8.5.2 Acción correcti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ras Medium ITC"/>
              </a:rPr>
              <a:t>La organización debe tomar acciones para </a:t>
            </a:r>
            <a:r>
              <a:rPr b="0" i="1" lang="en-US" sz="1600" spc="-1" strike="noStrike">
                <a:solidFill>
                  <a:srgbClr val="000000"/>
                </a:solidFill>
                <a:latin typeface="Eras Medium ITC"/>
              </a:rPr>
              <a:t>eliminar la causa de no conformidades,</a:t>
            </a:r>
            <a:r>
              <a:rPr b="0" lang="en-US" sz="1600" spc="-1" strike="noStrike">
                <a:solidFill>
                  <a:srgbClr val="000000"/>
                </a:solidFill>
                <a:latin typeface="Eras Medium ITC"/>
              </a:rPr>
              <a:t> con objeto de prevenir que vuelva a presentarse dicha no conformidad. Las acciones correctivas deben ser apropiadas a los efectos de la no conformidad encontr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228840" y="4149720"/>
            <a:ext cx="22320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Medium ITC"/>
              </a:rPr>
              <a:t>NO CONFORM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44400" y="4292640"/>
            <a:ext cx="2089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CAU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012000" y="4276800"/>
            <a:ext cx="2089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EF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817720" y="4344840"/>
            <a:ext cx="358920" cy="287640"/>
          </a:xfrm>
          <a:prstGeom prst="rightArrow">
            <a:avLst>
              <a:gd name="adj1" fmla="val 50000"/>
              <a:gd name="adj2" fmla="val 31195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21320" y="4325760"/>
            <a:ext cx="358920" cy="287640"/>
          </a:xfrm>
          <a:prstGeom prst="rightArrow">
            <a:avLst>
              <a:gd name="adj1" fmla="val 50000"/>
              <a:gd name="adj2" fmla="val 31195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79400" y="4726080"/>
            <a:ext cx="1800360" cy="1224000"/>
          </a:xfrm>
          <a:prstGeom prst="upArrowCallout">
            <a:avLst>
              <a:gd name="adj1" fmla="val 36775"/>
              <a:gd name="adj2" fmla="val 36772"/>
              <a:gd name="adj3" fmla="val 16667"/>
              <a:gd name="adj4" fmla="val 6666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Acciones Correc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127920" y="4746600"/>
            <a:ext cx="1800000" cy="1274760"/>
          </a:xfrm>
          <a:prstGeom prst="upArrowCallout">
            <a:avLst>
              <a:gd name="adj1" fmla="val 35304"/>
              <a:gd name="adj2" fmla="val 35301"/>
              <a:gd name="adj3" fmla="val 16667"/>
              <a:gd name="adj4" fmla="val 6666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Acciones Inmedia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2363760" y="3213000"/>
            <a:ext cx="4897440" cy="1008000"/>
          </a:xfrm>
          <a:custGeom>
            <a:avLst/>
            <a:gdLst>
              <a:gd name="textAreaLeft" fmla="*/ 1035360 w 4897440"/>
              <a:gd name="textAreaRight" fmla="*/ 3371400 w 4897440"/>
              <a:gd name="textAreaTop" fmla="*/ 135000 h 1008000"/>
              <a:gd name="textAreaBottom" fmla="*/ 8730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134" hR="21600" stAng="10800000" swAng="-5400000"/>
                <a:lnTo>
                  <a:pt x="10303" y="21600"/>
                </a:lnTo>
                <a:arcTo wR="9134" hR="21600" stAng="5400000" swAng="-3094074"/>
                <a:lnTo>
                  <a:pt x="21126" y="6871"/>
                </a:lnTo>
                <a:lnTo>
                  <a:pt x="18852" y="0"/>
                </a:lnTo>
                <a:lnTo>
                  <a:pt x="15629" y="6871"/>
                </a:lnTo>
                <a:lnTo>
                  <a:pt x="17793" y="6871"/>
                </a:lnTo>
                <a:arcTo wR="9134" hR="21600" stAng="2305926" swAng="3000880"/>
                <a:lnTo>
                  <a:pt x="9718" y="21556"/>
                </a:lnTo>
                <a:arcTo wR="9134" hR="21600" stAng="5493194" swAng="5306806"/>
                <a:close/>
              </a:path>
              <a:path fill="darkenLess" w="21600" h="21600">
                <a:moveTo>
                  <a:pt x="0" y="0"/>
                </a:moveTo>
                <a:arcTo wR="9134" hR="21600" stAng="10800000" swAng="-5400000"/>
                <a:lnTo>
                  <a:pt x="10303" y="21600"/>
                </a:lnTo>
                <a:arcTo wR="9134" hR="21600" stAng="5400000" swAng="93194"/>
                <a:lnTo>
                  <a:pt x="9718" y="21556"/>
                </a:lnTo>
                <a:arcTo wR="9134" hR="21600" stAng="5493194" swAng="5306806"/>
                <a:close/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805200" y="32796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Apropi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720720" y="1268280"/>
            <a:ext cx="731376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ras Medium ITC"/>
              </a:rPr>
              <a:t>8.5.3 Acción Preventiv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La organización debe tomar acciones para eliminar las causas de no conformidades potenciales para prevenir su ocurrencia. Las acciones preventivas deben ser apropiadas a los efectos de los problemas poten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3760" y="4365720"/>
            <a:ext cx="2232000" cy="916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Medium ITC"/>
              </a:rPr>
              <a:t>NO CONFORMIDAD POTEN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219320" y="4508640"/>
            <a:ext cx="2089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CAU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586560" y="4492800"/>
            <a:ext cx="2089080" cy="6426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EFECTO POTEN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392640" y="4560840"/>
            <a:ext cx="358560" cy="287280"/>
          </a:xfrm>
          <a:prstGeom prst="rightArrow">
            <a:avLst>
              <a:gd name="adj1" fmla="val 50000"/>
              <a:gd name="adj2" fmla="val 31203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095880" y="4541760"/>
            <a:ext cx="358920" cy="287280"/>
          </a:xfrm>
          <a:prstGeom prst="rightArrow">
            <a:avLst>
              <a:gd name="adj1" fmla="val 50000"/>
              <a:gd name="adj2" fmla="val 31234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353960" y="4941720"/>
            <a:ext cx="1800360" cy="1224000"/>
          </a:xfrm>
          <a:prstGeom prst="upArrowCallout">
            <a:avLst>
              <a:gd name="adj1" fmla="val 36775"/>
              <a:gd name="adj2" fmla="val 36772"/>
              <a:gd name="adj3" fmla="val 16667"/>
              <a:gd name="adj4" fmla="val 6666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Acciones Preven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2938320" y="3429000"/>
            <a:ext cx="4897440" cy="1008000"/>
          </a:xfrm>
          <a:custGeom>
            <a:avLst/>
            <a:gdLst>
              <a:gd name="textAreaLeft" fmla="*/ 1035360 w 4897440"/>
              <a:gd name="textAreaRight" fmla="*/ 3371400 w 4897440"/>
              <a:gd name="textAreaTop" fmla="*/ 135000 h 1008000"/>
              <a:gd name="textAreaBottom" fmla="*/ 8730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134" hR="21600" stAng="10800000" swAng="-5400000"/>
                <a:lnTo>
                  <a:pt x="10303" y="21600"/>
                </a:lnTo>
                <a:arcTo wR="9134" hR="21600" stAng="5400000" swAng="-3094074"/>
                <a:lnTo>
                  <a:pt x="21126" y="6871"/>
                </a:lnTo>
                <a:lnTo>
                  <a:pt x="18852" y="0"/>
                </a:lnTo>
                <a:lnTo>
                  <a:pt x="15629" y="6871"/>
                </a:lnTo>
                <a:lnTo>
                  <a:pt x="17793" y="6871"/>
                </a:lnTo>
                <a:arcTo wR="9134" hR="21600" stAng="2305926" swAng="3000880"/>
                <a:lnTo>
                  <a:pt x="9718" y="21556"/>
                </a:lnTo>
                <a:arcTo wR="9134" hR="21600" stAng="5493194" swAng="5306806"/>
                <a:close/>
              </a:path>
              <a:path fill="darkenLess" w="21600" h="21600">
                <a:moveTo>
                  <a:pt x="0" y="0"/>
                </a:moveTo>
                <a:arcTo wR="9134" hR="21600" stAng="10800000" swAng="-5400000"/>
                <a:lnTo>
                  <a:pt x="10303" y="21600"/>
                </a:lnTo>
                <a:arcTo wR="9134" hR="21600" stAng="5400000" swAng="93194"/>
                <a:lnTo>
                  <a:pt x="9718" y="21556"/>
                </a:lnTo>
                <a:arcTo wR="9134" hR="21600" stAng="5493194" swAng="5306806"/>
                <a:close/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379760" y="34956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Apropi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68360" y="333360"/>
            <a:ext cx="694836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ras Demi ITC"/>
              </a:rPr>
              <a:t>Requisito 8.5: “Mejor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39640" y="5661000"/>
            <a:ext cx="576360" cy="5763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9640" y="285264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Eras Demi ITC"/>
              </a:rPr>
              <a:t>¿PREGUNTAS?</a:t>
            </a:r>
            <a:endParaRPr b="0" lang="en-US" sz="3200" spc="-1" strike="noStrike">
              <a:solidFill>
                <a:srgbClr val="000000"/>
              </a:solidFill>
              <a:latin typeface="Eras Demi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Eras Demi ITC"/>
              </a:rPr>
              <a:t>Gestión de calidad</a:t>
            </a:r>
            <a:endParaRPr b="0" lang="en-US" sz="32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Eras Medium ITC"/>
              </a:rPr>
              <a:t>Norma: Conjunto de requisitos cuyo cumplimiento se da por elección individual de la empresa con algún objetivo 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2492280"/>
            <a:ext cx="8207280" cy="16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Eras Medium ITC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Eras Medium ITC"/>
              </a:rPr>
              <a:t>ISO: International Standaring Organization (Fundada en 1946, 91 paises, 180 comité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Eras Medium ITC"/>
              </a:rPr>
              <a:t>Misión: Desarrollar y promocionar estandares comunes de manufactura, comercio y comunicaciónen forma mundial para favorecer el intercambio internacional de bienes y servici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32640" y="4221000"/>
            <a:ext cx="72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Eras Medium ITC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Eras Medium ITC"/>
              </a:rPr>
              <a:t>9001-2000: Serie 9000, primera parte, año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8360" y="498780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Eras Medium ITC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Eras Medium ITC"/>
              </a:rPr>
              <a:t>ISO 9001-2000: Conjunto de requisitos para asegurar los procesos de la empre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60156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Eras Demi ITC"/>
              </a:rPr>
              <a:t>1ra parte “Responsabilidad, documentos y recursos </a:t>
            </a:r>
            <a:endParaRPr b="0" lang="en-US" sz="28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149544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Demi ITC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Eras Demi ITC"/>
              </a:rPr>
              <a:t> Sistema de gestión de la calidad</a:t>
            </a: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ras Demi ITC"/>
              </a:rPr>
              <a:t>4.1 </a:t>
            </a:r>
            <a:r>
              <a:rPr b="0" lang="en-US" sz="1600" spc="-1" strike="noStrike">
                <a:solidFill>
                  <a:srgbClr val="000000"/>
                </a:solidFill>
                <a:latin typeface="Eras Demi ITC"/>
              </a:rPr>
              <a:t>Requisitos generales </a:t>
            </a:r>
            <a:endParaRPr b="0" lang="en-US" sz="1600" spc="-1" strike="noStrike">
              <a:solidFill>
                <a:srgbClr val="000000"/>
              </a:solidFill>
              <a:latin typeface="Eras Demi ITC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ras Demi ITC"/>
              </a:rPr>
              <a:t>4.2 </a:t>
            </a:r>
            <a:r>
              <a:rPr b="0" lang="en-US" sz="1600" spc="-1" strike="noStrike">
                <a:solidFill>
                  <a:srgbClr val="000000"/>
                </a:solidFill>
                <a:latin typeface="Eras Demi ITC"/>
              </a:rPr>
              <a:t>Requisitos de la documentación</a:t>
            </a:r>
            <a:endParaRPr b="0" lang="en-US" sz="1600" spc="-1" strike="noStrike">
              <a:solidFill>
                <a:srgbClr val="000000"/>
              </a:solidFill>
              <a:latin typeface="Eras Demi ITC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Demi ITC"/>
              </a:rPr>
              <a:t>5 </a:t>
            </a:r>
            <a:r>
              <a:rPr b="0" lang="en-US" sz="2000" spc="-1" strike="noStrike">
                <a:solidFill>
                  <a:srgbClr val="000000"/>
                </a:solidFill>
                <a:latin typeface="Eras Demi ITC"/>
              </a:rPr>
              <a:t>Responsabilidad de la dirección</a:t>
            </a: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ras Demi ITC"/>
              </a:rPr>
              <a:t>5.1 </a:t>
            </a:r>
            <a:r>
              <a:rPr b="0" lang="en-US" sz="1600" spc="-1" strike="noStrike">
                <a:solidFill>
                  <a:srgbClr val="000000"/>
                </a:solidFill>
                <a:latin typeface="Eras Demi ITC"/>
              </a:rPr>
              <a:t>Compromiso de la dirección</a:t>
            </a:r>
            <a:endParaRPr b="0" lang="en-US" sz="1600" spc="-1" strike="noStrike">
              <a:solidFill>
                <a:srgbClr val="000000"/>
              </a:solidFill>
              <a:latin typeface="Eras Demi ITC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ras Demi ITC"/>
              </a:rPr>
              <a:t>5.2 </a:t>
            </a:r>
            <a:r>
              <a:rPr b="0" lang="en-US" sz="1600" spc="-1" strike="noStrike">
                <a:solidFill>
                  <a:srgbClr val="000000"/>
                </a:solidFill>
                <a:latin typeface="Eras Demi ITC"/>
              </a:rPr>
              <a:t>Enfoque al cliente </a:t>
            </a:r>
            <a:endParaRPr b="0" lang="en-US" sz="1600" spc="-1" strike="noStrike">
              <a:solidFill>
                <a:srgbClr val="000000"/>
              </a:solidFill>
              <a:latin typeface="Eras Demi ITC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ras Demi ITC"/>
              </a:rPr>
              <a:t>5.3 </a:t>
            </a:r>
            <a:r>
              <a:rPr b="0" lang="en-US" sz="1600" spc="-1" strike="noStrike">
                <a:solidFill>
                  <a:srgbClr val="000000"/>
                </a:solidFill>
                <a:latin typeface="Eras Demi ITC"/>
              </a:rPr>
              <a:t>Política de la calidad</a:t>
            </a:r>
            <a:endParaRPr b="0" lang="en-US" sz="1600" spc="-1" strike="noStrike">
              <a:solidFill>
                <a:srgbClr val="000000"/>
              </a:solidFill>
              <a:latin typeface="Eras Demi ITC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ras Demi ITC"/>
              </a:rPr>
              <a:t>5.4 </a:t>
            </a:r>
            <a:r>
              <a:rPr b="0" lang="en-US" sz="1600" spc="-1" strike="noStrike">
                <a:solidFill>
                  <a:srgbClr val="000000"/>
                </a:solidFill>
                <a:latin typeface="Eras Demi ITC"/>
              </a:rPr>
              <a:t>Planificación</a:t>
            </a:r>
            <a:endParaRPr b="0" lang="en-US" sz="1600" spc="-1" strike="noStrike">
              <a:solidFill>
                <a:srgbClr val="000000"/>
              </a:solidFill>
              <a:latin typeface="Eras Demi ITC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ras Demi ITC"/>
              </a:rPr>
              <a:t>5.5 </a:t>
            </a:r>
            <a:r>
              <a:rPr b="0" lang="en-US" sz="1600" spc="-1" strike="noStrike">
                <a:solidFill>
                  <a:srgbClr val="000000"/>
                </a:solidFill>
                <a:latin typeface="Eras Demi ITC"/>
              </a:rPr>
              <a:t>Responsabilidad, autoridad y comunicación</a:t>
            </a:r>
            <a:endParaRPr b="0" lang="en-US" sz="1600" spc="-1" strike="noStrike">
              <a:solidFill>
                <a:srgbClr val="000000"/>
              </a:solidFill>
              <a:latin typeface="Eras Demi ITC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ras Demi ITC"/>
              </a:rPr>
              <a:t>5.6 </a:t>
            </a:r>
            <a:r>
              <a:rPr b="0" lang="en-US" sz="1600" spc="-1" strike="noStrike">
                <a:solidFill>
                  <a:srgbClr val="000000"/>
                </a:solidFill>
                <a:latin typeface="Eras Demi ITC"/>
              </a:rPr>
              <a:t>Revisión por la dirección</a:t>
            </a:r>
            <a:endParaRPr b="0" lang="en-US" sz="1600" spc="-1" strike="noStrike">
              <a:solidFill>
                <a:srgbClr val="000000"/>
              </a:solidFill>
              <a:latin typeface="Eras Demi ITC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Demi ITC"/>
              </a:rPr>
              <a:t>6 </a:t>
            </a:r>
            <a:r>
              <a:rPr b="0" lang="en-US" sz="2000" spc="-1" strike="noStrike">
                <a:solidFill>
                  <a:srgbClr val="000000"/>
                </a:solidFill>
                <a:latin typeface="Eras Demi ITC"/>
              </a:rPr>
              <a:t>Gestión de los recursos </a:t>
            </a: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ras Demi ITC"/>
              </a:rPr>
              <a:t>6.1 </a:t>
            </a:r>
            <a:r>
              <a:rPr b="0" lang="en-US" sz="1600" spc="-1" strike="noStrike">
                <a:solidFill>
                  <a:srgbClr val="000000"/>
                </a:solidFill>
                <a:latin typeface="Eras Demi ITC"/>
              </a:rPr>
              <a:t>Provisión de recursos </a:t>
            </a:r>
            <a:endParaRPr b="0" lang="en-US" sz="1600" spc="-1" strike="noStrike">
              <a:solidFill>
                <a:srgbClr val="000000"/>
              </a:solidFill>
              <a:latin typeface="Eras Demi ITC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ras Demi ITC"/>
              </a:rPr>
              <a:t>6.2 </a:t>
            </a:r>
            <a:r>
              <a:rPr b="0" lang="en-US" sz="1600" spc="-1" strike="noStrike">
                <a:solidFill>
                  <a:srgbClr val="000000"/>
                </a:solidFill>
                <a:latin typeface="Eras Demi ITC"/>
              </a:rPr>
              <a:t>Recursos humanos</a:t>
            </a:r>
            <a:endParaRPr b="0" lang="en-US" sz="1600" spc="-1" strike="noStrike">
              <a:solidFill>
                <a:srgbClr val="000000"/>
              </a:solidFill>
              <a:latin typeface="Eras Demi ITC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ras Demi ITC"/>
              </a:rPr>
              <a:t>6.3 </a:t>
            </a:r>
            <a:r>
              <a:rPr b="0" lang="en-US" sz="1600" spc="-1" strike="noStrike">
                <a:solidFill>
                  <a:srgbClr val="000000"/>
                </a:solidFill>
                <a:latin typeface="Eras Demi ITC"/>
              </a:rPr>
              <a:t>Infraestructura</a:t>
            </a:r>
            <a:endParaRPr b="0" lang="en-US" sz="1600" spc="-1" strike="noStrike">
              <a:solidFill>
                <a:srgbClr val="000000"/>
              </a:solidFill>
              <a:latin typeface="Eras Demi ITC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ras Demi ITC"/>
              </a:rPr>
              <a:t>6.4 </a:t>
            </a:r>
            <a:r>
              <a:rPr b="0" lang="en-US" sz="1600" spc="-1" strike="noStrike">
                <a:solidFill>
                  <a:srgbClr val="000000"/>
                </a:solidFill>
                <a:latin typeface="Eras Demi ITC"/>
              </a:rPr>
              <a:t>Ambiente de trabajo</a:t>
            </a:r>
            <a:endParaRPr b="0" lang="en-US" sz="16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67" name=""/>
          <p:cNvSpPr/>
          <p:nvPr/>
        </p:nvSpPr>
        <p:spPr>
          <a:xfrm>
            <a:off x="5508720" y="1557360"/>
            <a:ext cx="503280" cy="863640"/>
          </a:xfrm>
          <a:custGeom>
            <a:avLst/>
            <a:gdLst>
              <a:gd name="textAreaLeft" fmla="*/ 0 w 503280"/>
              <a:gd name="textAreaRight" fmla="*/ 181800 w 5032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084720" y="1628640"/>
            <a:ext cx="2737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Eras Medium ITC"/>
              </a:rPr>
              <a:t>Proced. Control de Documen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Eras Medium ITC"/>
              </a:rPr>
              <a:t>Proced. Control de Regist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140360" y="3357720"/>
            <a:ext cx="360360" cy="431640"/>
          </a:xfrm>
          <a:custGeom>
            <a:avLst/>
            <a:gdLst>
              <a:gd name="textAreaLeft" fmla="*/ 148320 w 360360"/>
              <a:gd name="textAreaRight" fmla="*/ 212040 w 360360"/>
              <a:gd name="textAreaTop" fmla="*/ 177840 h 431640"/>
              <a:gd name="textAreaBottom" fmla="*/ 2538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604360" y="1413000"/>
            <a:ext cx="360360" cy="431640"/>
          </a:xfrm>
          <a:custGeom>
            <a:avLst/>
            <a:gdLst>
              <a:gd name="textAreaLeft" fmla="*/ 148320 w 360360"/>
              <a:gd name="textAreaRight" fmla="*/ 212040 w 360360"/>
              <a:gd name="textAreaTop" fmla="*/ 177840 h 431640"/>
              <a:gd name="textAreaBottom" fmla="*/ 2538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459640" y="1916280"/>
            <a:ext cx="360360" cy="431640"/>
          </a:xfrm>
          <a:custGeom>
            <a:avLst/>
            <a:gdLst>
              <a:gd name="textAreaLeft" fmla="*/ 148320 w 360360"/>
              <a:gd name="textAreaRight" fmla="*/ 212040 w 360360"/>
              <a:gd name="textAreaTop" fmla="*/ 177840 h 431640"/>
              <a:gd name="textAreaBottom" fmla="*/ 2538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Eras Demi ITC"/>
              </a:rPr>
              <a:t>2da parte “Producción y Mejora”</a:t>
            </a:r>
            <a:endParaRPr b="0" lang="en-US" sz="32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ras Demi ITC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Eras Demi ITC"/>
              </a:rPr>
              <a:t> Realización del producto 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Demi ITC"/>
              </a:rPr>
              <a:t>7.1 </a:t>
            </a:r>
            <a:r>
              <a:rPr b="0" lang="en-US" sz="1800" spc="-1" strike="noStrike">
                <a:solidFill>
                  <a:srgbClr val="000000"/>
                </a:solidFill>
                <a:latin typeface="Eras Demi ITC"/>
              </a:rPr>
              <a:t>Planificación de la realización del producto</a:t>
            </a:r>
            <a:endParaRPr b="0" lang="en-US" sz="1800" spc="-1" strike="noStrike">
              <a:solidFill>
                <a:srgbClr val="000000"/>
              </a:solidFill>
              <a:latin typeface="Eras Demi ITC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Demi ITC"/>
              </a:rPr>
              <a:t>7.2 </a:t>
            </a:r>
            <a:r>
              <a:rPr b="0" lang="en-US" sz="1800" spc="-1" strike="noStrike">
                <a:solidFill>
                  <a:srgbClr val="000000"/>
                </a:solidFill>
                <a:latin typeface="Eras Demi ITC"/>
              </a:rPr>
              <a:t>Procesos relacionados con el cliente </a:t>
            </a:r>
            <a:endParaRPr b="0" lang="en-US" sz="1800" spc="-1" strike="noStrike">
              <a:solidFill>
                <a:srgbClr val="000000"/>
              </a:solidFill>
              <a:latin typeface="Eras Demi ITC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Demi ITC"/>
              </a:rPr>
              <a:t>7.3 </a:t>
            </a:r>
            <a:r>
              <a:rPr b="0" lang="en-US" sz="1800" spc="-1" strike="noStrike">
                <a:solidFill>
                  <a:srgbClr val="000000"/>
                </a:solidFill>
                <a:latin typeface="Eras Demi ITC"/>
              </a:rPr>
              <a:t>Diseño y desarrollo</a:t>
            </a:r>
            <a:endParaRPr b="0" lang="en-US" sz="1800" spc="-1" strike="noStrike">
              <a:solidFill>
                <a:srgbClr val="000000"/>
              </a:solidFill>
              <a:latin typeface="Eras Demi ITC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Demi ITC"/>
              </a:rPr>
              <a:t>7.4 </a:t>
            </a:r>
            <a:r>
              <a:rPr b="0" lang="en-US" sz="1800" spc="-1" strike="noStrike">
                <a:solidFill>
                  <a:srgbClr val="000000"/>
                </a:solidFill>
                <a:latin typeface="Eras Demi ITC"/>
              </a:rPr>
              <a:t>Compras </a:t>
            </a:r>
            <a:endParaRPr b="0" lang="en-US" sz="1800" spc="-1" strike="noStrike">
              <a:solidFill>
                <a:srgbClr val="000000"/>
              </a:solidFill>
              <a:latin typeface="Eras Demi ITC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Demi ITC"/>
              </a:rPr>
              <a:t>7.5 </a:t>
            </a:r>
            <a:r>
              <a:rPr b="0" lang="en-US" sz="1800" spc="-1" strike="noStrike">
                <a:solidFill>
                  <a:srgbClr val="000000"/>
                </a:solidFill>
                <a:latin typeface="Eras Demi ITC"/>
              </a:rPr>
              <a:t>Producción y prestación del servicio </a:t>
            </a:r>
            <a:endParaRPr b="0" lang="en-US" sz="1800" spc="-1" strike="noStrike">
              <a:solidFill>
                <a:srgbClr val="000000"/>
              </a:solidFill>
              <a:latin typeface="Eras Demi ITC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Demi ITC"/>
              </a:rPr>
              <a:t>7.6 </a:t>
            </a:r>
            <a:r>
              <a:rPr b="0" lang="en-US" sz="1800" spc="-1" strike="noStrike">
                <a:solidFill>
                  <a:srgbClr val="000000"/>
                </a:solidFill>
                <a:latin typeface="Eras Demi ITC"/>
              </a:rPr>
              <a:t>Control de los dispositivos de seguimiento y de medición</a:t>
            </a:r>
            <a:endParaRPr b="0" lang="en-US" sz="1800" spc="-1" strike="noStrike">
              <a:solidFill>
                <a:srgbClr val="000000"/>
              </a:solidFill>
              <a:latin typeface="Eras Demi ITC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ras Demi ITC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Eras Demi ITC"/>
              </a:rPr>
              <a:t>Medición, análisis y mejora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Demi ITC"/>
              </a:rPr>
              <a:t>8.1 </a:t>
            </a:r>
            <a:r>
              <a:rPr b="0" lang="en-US" sz="1800" spc="-1" strike="noStrike">
                <a:solidFill>
                  <a:srgbClr val="000000"/>
                </a:solidFill>
                <a:latin typeface="Eras Demi ITC"/>
              </a:rPr>
              <a:t>Generalidades</a:t>
            </a:r>
            <a:endParaRPr b="0" lang="en-US" sz="1800" spc="-1" strike="noStrike">
              <a:solidFill>
                <a:srgbClr val="000000"/>
              </a:solidFill>
              <a:latin typeface="Eras Demi ITC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Demi ITC"/>
              </a:rPr>
              <a:t>8.2 </a:t>
            </a:r>
            <a:r>
              <a:rPr b="0" lang="en-US" sz="1800" spc="-1" strike="noStrike">
                <a:solidFill>
                  <a:srgbClr val="000000"/>
                </a:solidFill>
                <a:latin typeface="Eras Demi ITC"/>
              </a:rPr>
              <a:t>Seguimiento y medición</a:t>
            </a:r>
            <a:endParaRPr b="0" lang="en-US" sz="1800" spc="-1" strike="noStrike">
              <a:solidFill>
                <a:srgbClr val="000000"/>
              </a:solidFill>
              <a:latin typeface="Eras Demi ITC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Demi ITC"/>
              </a:rPr>
              <a:t>8.3 </a:t>
            </a:r>
            <a:r>
              <a:rPr b="0" lang="en-US" sz="1800" spc="-1" strike="noStrike">
                <a:solidFill>
                  <a:srgbClr val="000000"/>
                </a:solidFill>
                <a:latin typeface="Eras Demi ITC"/>
              </a:rPr>
              <a:t>Control del producto no conforme </a:t>
            </a:r>
            <a:endParaRPr b="0" lang="en-US" sz="1800" spc="-1" strike="noStrike">
              <a:solidFill>
                <a:srgbClr val="000000"/>
              </a:solidFill>
              <a:latin typeface="Eras Demi ITC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Demi ITC"/>
              </a:rPr>
              <a:t>8.4 </a:t>
            </a:r>
            <a:r>
              <a:rPr b="0" lang="en-US" sz="1800" spc="-1" strike="noStrike">
                <a:solidFill>
                  <a:srgbClr val="000000"/>
                </a:solidFill>
                <a:latin typeface="Eras Demi ITC"/>
              </a:rPr>
              <a:t>Análisis de datos</a:t>
            </a:r>
            <a:endParaRPr b="0" lang="en-US" sz="1800" spc="-1" strike="noStrike">
              <a:solidFill>
                <a:srgbClr val="000000"/>
              </a:solidFill>
              <a:latin typeface="Eras Demi ITC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Demi ITC"/>
              </a:rPr>
              <a:t>8.5 </a:t>
            </a:r>
            <a:r>
              <a:rPr b="0" lang="en-US" sz="1800" spc="-1" strike="noStrike">
                <a:solidFill>
                  <a:srgbClr val="000000"/>
                </a:solidFill>
                <a:latin typeface="Eras Demi ITC"/>
              </a:rPr>
              <a:t>Mejora</a:t>
            </a:r>
            <a:endParaRPr b="0" lang="en-US" sz="1800" spc="-1" strike="noStrike">
              <a:solidFill>
                <a:srgbClr val="000000"/>
              </a:solidFill>
              <a:latin typeface="Eras Demi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95280" y="476280"/>
            <a:ext cx="731376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ras Demi ITC"/>
              </a:rPr>
              <a:t>Requisito 7: “Realización del Product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3124080" y="2341440"/>
            <a:ext cx="3181320" cy="1724760"/>
          </a:xfrm>
          <a:prstGeom prst="roundRect">
            <a:avLst>
              <a:gd name="adj" fmla="val 16667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ras Demi ITC"/>
              </a:rPr>
              <a:t>PROCESO DE PRODUCCIÓN O PRESTACIÓN DEL SERVICIO 7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2" action="ppaction://hlinksldjump"/>
          </p:cNvPr>
          <p:cNvSpPr/>
          <p:nvPr/>
        </p:nvSpPr>
        <p:spPr>
          <a:xfrm>
            <a:off x="365040" y="3111480"/>
            <a:ext cx="2465640" cy="711720"/>
          </a:xfrm>
          <a:prstGeom prst="roundRect">
            <a:avLst>
              <a:gd name="adj" fmla="val 16667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Demi ITC"/>
              </a:rPr>
              <a:t>Planificación de la realización 7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rId3" action="ppaction://hlinksldjump"/>
          </p:cNvPr>
          <p:cNvSpPr/>
          <p:nvPr/>
        </p:nvSpPr>
        <p:spPr>
          <a:xfrm>
            <a:off x="1228680" y="1311120"/>
            <a:ext cx="2363760" cy="711720"/>
          </a:xfrm>
          <a:prstGeom prst="roundRect">
            <a:avLst>
              <a:gd name="adj" fmla="val 16667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Demi ITC"/>
              </a:rPr>
              <a:t>Relación con el Cliente 7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rId4" action="ppaction://hlinksldjump"/>
          </p:cNvPr>
          <p:cNvSpPr/>
          <p:nvPr/>
        </p:nvSpPr>
        <p:spPr>
          <a:xfrm>
            <a:off x="5133960" y="1212840"/>
            <a:ext cx="2706840" cy="711720"/>
          </a:xfrm>
          <a:prstGeom prst="roundRect">
            <a:avLst>
              <a:gd name="adj" fmla="val 16667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Demi ITC"/>
              </a:rPr>
              <a:t>Diseño y Desarrollo 7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5" action="ppaction://hlinksldjump"/>
          </p:cNvPr>
          <p:cNvSpPr/>
          <p:nvPr/>
        </p:nvSpPr>
        <p:spPr>
          <a:xfrm>
            <a:off x="6788160" y="3341520"/>
            <a:ext cx="1968480" cy="407880"/>
          </a:xfrm>
          <a:prstGeom prst="roundRect">
            <a:avLst>
              <a:gd name="adj" fmla="val 16667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Demi ITC"/>
              </a:rPr>
              <a:t>Compras 7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rId6" action="ppaction://hlinksldjump"/>
          </p:cNvPr>
          <p:cNvSpPr/>
          <p:nvPr/>
        </p:nvSpPr>
        <p:spPr>
          <a:xfrm>
            <a:off x="3216240" y="4808520"/>
            <a:ext cx="3097080" cy="1319400"/>
          </a:xfrm>
          <a:prstGeom prst="roundRect">
            <a:avLst>
              <a:gd name="adj" fmla="val 16667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Demi ITC"/>
              </a:rPr>
              <a:t>Control de Dispositivos de Seguimiento y Medición (Instrumentos) 7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19640" y="2023920"/>
            <a:ext cx="21564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6156360" y="1916280"/>
            <a:ext cx="287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6300720" y="3573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788000" y="44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843280" y="3645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rId7" action="ppaction://hlinksldjump"/>
          </p:cNvPr>
          <p:cNvSpPr/>
          <p:nvPr/>
        </p:nvSpPr>
        <p:spPr>
          <a:xfrm>
            <a:off x="7308720" y="5445000"/>
            <a:ext cx="1511280" cy="863640"/>
          </a:xfrm>
          <a:prstGeom prst="rightArrow">
            <a:avLst>
              <a:gd name="adj1" fmla="val 50000"/>
              <a:gd name="adj2" fmla="val 43747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Demi ITC"/>
              </a:rPr>
              <a:t>ENTO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5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5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ras Demi ITC"/>
              </a:rPr>
              <a:t>Requisito 7.1: Planificación de la Realización del Producto”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88" name=""/>
          <p:cNvSpPr/>
          <p:nvPr/>
        </p:nvSpPr>
        <p:spPr>
          <a:xfrm>
            <a:off x="6659640" y="2781360"/>
            <a:ext cx="2087640" cy="119124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Medium ITC"/>
              </a:rPr>
              <a:t>PROCESO DE PRODUCCIÓN O PRESTACIÓN DEL SERV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16200000">
            <a:off x="-1643040" y="345132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Eras Demi ITC"/>
              </a:rPr>
              <a:t>Planificación</a:t>
            </a:r>
            <a:r>
              <a:rPr b="1" lang="en-US" sz="2400" spc="-1" strike="noStrike">
                <a:solidFill>
                  <a:srgbClr val="666699"/>
                </a:solidFill>
                <a:latin typeface="Eras Medium ITC"/>
              </a:rPr>
              <a:t> 7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42920" y="1917720"/>
            <a:ext cx="5102280" cy="35121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Medium ITC"/>
              </a:rPr>
              <a:t>Se deben defini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Eras Medium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Los requisitos del produ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Eras Medium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La necesidad de recursos o docu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Eras Medium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Las actividades de verificación, validación, seguimiento y ensay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Eras Medium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Los criterios de acep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Eras Medium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Los registros que dan evidencia del cumpl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Todo esto debe ser plasmado en 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Medium ITC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Eras Medium ITC"/>
              </a:rPr>
              <a:t>PLAN DE PRODUCCIÓN o PLAN DE CALIDA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56360" y="3213000"/>
            <a:ext cx="431640" cy="649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cc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04000" y="4653000"/>
            <a:ext cx="1871640" cy="1584360"/>
          </a:xfrm>
          <a:prstGeom prst="flowChartDocumen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Eras Medium ITC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Eras Medium ITC"/>
              </a:rPr>
              <a:t>PLAN DE PRODUCCIÓN.DOC</a:t>
            </a: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11280" y="301680"/>
            <a:ext cx="831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ras Demi ITC"/>
              </a:rPr>
              <a:t>Requisito 7.2: “Procesos relacionados con el Client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659640" y="2852640"/>
            <a:ext cx="2087640" cy="11912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OCESO DE PRODUCCIÓN O PRESTACIÓN DEL SERV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16200000">
            <a:off x="-2337480" y="3688560"/>
            <a:ext cx="57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Eras Demi ITC"/>
              </a:rPr>
              <a:t>Comunicación con el Cliente 7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55640" y="1052640"/>
            <a:ext cx="5329080" cy="196884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Medium ITC"/>
              </a:rPr>
              <a:t>Determinar los requisitos relacionados con el Produc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Eras Medium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Especificaciones y actividades de entre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Eras Medium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Requisitos no especificados pero neces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Eras Medium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Requisitos legales y reglament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Eras Medium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Otros requis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154560" y="3176640"/>
            <a:ext cx="432000" cy="649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55640" y="3143160"/>
            <a:ext cx="5329080" cy="163728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Medium ITC"/>
              </a:rPr>
              <a:t>Revisar los requisitos relacionados con el produc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Eras Medium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Que estén defin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Eras Medium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Que la organización tenga la capa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Eras Medium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Que están resueltas las difer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65000" y="4869000"/>
            <a:ext cx="5307120" cy="158004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Medium ITC"/>
              </a:rPr>
              <a:t>Velar por la eficacia de la comunicación con el clien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Eras Medium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Para las consultas, atención en general y ped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Eras Medium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Para sus reclamos o felicit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516720" y="4681440"/>
            <a:ext cx="2266920" cy="1406880"/>
          </a:xfrm>
          <a:custGeom>
            <a:avLst/>
            <a:gdLst>
              <a:gd name="textAreaLeft" fmla="*/ 0 w 2266920"/>
              <a:gd name="textAreaRight" fmla="*/ 2267280 w 2266920"/>
              <a:gd name="textAreaTop" fmla="*/ 351720 h 1406880"/>
              <a:gd name="textAreaBottom" fmla="*/ 1055160 h 1406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Canales de Comun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ras Demi ITC"/>
              </a:rPr>
              <a:t>Requisito 7.3.”Diseño y Desarrollo”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202" name=""/>
          <p:cNvSpPr/>
          <p:nvPr/>
        </p:nvSpPr>
        <p:spPr>
          <a:xfrm>
            <a:off x="6659640" y="2852640"/>
            <a:ext cx="2087640" cy="11912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OCESO DE PRODUCCIÓN O PRESTACIÓN DEL SERV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16200000">
            <a:off x="-2337480" y="3688560"/>
            <a:ext cx="57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Verdana"/>
              </a:rPr>
              <a:t>Diseño y Desarrollo 7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55640" y="1052640"/>
            <a:ext cx="5329080" cy="121968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ebo planificar el Diseño 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us etap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u revisión, verificación y valid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as autoridades para valid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154560" y="3176640"/>
            <a:ext cx="432000" cy="649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55640" y="2349360"/>
            <a:ext cx="5329080" cy="121968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ara empezar a diseñar debo ten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s requisitos del produc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s requisitos legales y reglamenta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formación de diseños simila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55640" y="3645000"/>
            <a:ext cx="5329080" cy="194976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uando termine el diseño debo tener seguridad y evidencia 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ue cumplo los requisi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ue tengo información para comprar, producir y prestar el servi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ue conozco como se tiene que usar para hacer un instruct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020000" y="4508640"/>
            <a:ext cx="1439640" cy="1584360"/>
          </a:xfrm>
          <a:prstGeom prst="flowChartMultidocumen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Etapas del Dise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55640" y="5689440"/>
            <a:ext cx="5329080" cy="58068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ADA VEZ QUE HAGA UN CAMBIO AL DISEÑO DEBO VALIDARLO, AUTORIZARLO Y FOMALIZAR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23:39:43Z</dcterms:created>
  <dc:creator>Chanchis</dc:creator>
  <dc:description/>
  <dc:language>en-US</dc:language>
  <cp:lastModifiedBy>chanchis</cp:lastModifiedBy>
  <dcterms:modified xsi:type="dcterms:W3CDTF">2008-09-21T17:17:45Z</dcterms:modified>
  <cp:revision>29</cp:revision>
  <dc:subject/>
  <dc:title>CALIDAD Y DISEÑO</dc:title>
</cp:coreProperties>
</file>