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FD43-4E37-4CA4-A457-D38527A2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A263-FD73-48CC-9995-95D9128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D59E-3FF9-4B14-BEBB-6C6159A6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C9A8-A410-4533-8D43-AADBA549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7550-45E9-48A2-990A-80160CC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3C8D-50F0-4F82-A079-DF3CFAC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EBD-DC7E-4165-ADBF-D945249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5661-6D91-4251-A4BB-6AF8A8C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99A-4BA0-4454-8AE2-0882F1A5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6F4-EA87-49BE-A8F5-D9F9E7D9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B3EF-47F2-4384-8ED9-35377B1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58EC-FA4A-4D2A-B850-656A683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E26-692F-42C0-8998-68F9246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C88-CA6A-402E-8BFA-3E7E546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5619-38A2-417F-ABDB-C020D810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28A9-A427-49B1-B555-62F435D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02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931-0F5E-45BB-BDCD-DD9C1859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4C85-965D-4F2A-8367-83FF433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F3A5-03C7-4187-A50A-84213788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B69B-B7BC-43AB-AA29-422FAD92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B9CE-332A-40B9-83FF-57FED28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FA63-1C73-489F-B2E1-0DC469A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02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D976-FD2F-48ED-89CC-D567C08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02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FF06-A5C0-434E-B894-087EDF9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10A-9120-45C1-A452-EEADE6732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0920" y="0"/>
            <a:ext cx="404640" cy="507960"/>
            <a:chOff x="250920" y="0"/>
            <a:chExt cx="404640" cy="507960"/>
          </a:xfrm>
        </p:grpSpPr>
        <p:sp>
          <p:nvSpPr>
            <p:cNvPr id="8" name=""/>
            <p:cNvSpPr/>
            <p:nvPr/>
          </p:nvSpPr>
          <p:spPr>
            <a:xfrm>
              <a:off x="335880" y="412560"/>
              <a:ext cx="59040" cy="73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1400" y="12168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8040"/>
              <a:ext cx="46080" cy="532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0480" y="412560"/>
              <a:ext cx="86760" cy="954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98680" y="143280"/>
              <a:ext cx="46080" cy="61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21816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50920" y="225360"/>
              <a:ext cx="86400" cy="93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3000" y="239760"/>
              <a:ext cx="46080" cy="69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36240"/>
              <a:ext cx="47880" cy="561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7320" y="325440"/>
              <a:ext cx="58320" cy="77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78440" y="6840"/>
              <a:ext cx="86760" cy="95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120" y="113400"/>
              <a:ext cx="85320" cy="93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45600" y="0"/>
              <a:ext cx="85320" cy="95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6320" y="97920"/>
              <a:ext cx="86760" cy="93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6E9-849A-4681-B9DB-FE856FB6C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Demi IT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585720" cy="642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809640"/>
            <a:ext cx="2722680" cy="3414600"/>
            <a:chOff x="0" y="809640"/>
            <a:chExt cx="2722680" cy="3414600"/>
          </a:xfrm>
        </p:grpSpPr>
        <p:sp>
          <p:nvSpPr>
            <p:cNvPr id="65" name=""/>
            <p:cNvSpPr/>
            <p:nvPr/>
          </p:nvSpPr>
          <p:spPr>
            <a:xfrm>
              <a:off x="573120" y="3583080"/>
              <a:ext cx="398520" cy="493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9280" y="1628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1280" y="1268280"/>
              <a:ext cx="311400" cy="360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1773360"/>
              <a:ext cx="311040" cy="417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1640" y="22766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2421000"/>
              <a:ext cx="311400" cy="465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3068640"/>
              <a:ext cx="322200" cy="379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2997360"/>
              <a:ext cx="393840" cy="523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0360" y="85716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1573200"/>
              <a:ext cx="574560" cy="6336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280" y="80964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60" y="1468440"/>
              <a:ext cx="58428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Eras Demi ITC"/>
              </a:rPr>
              <a:t>Calidad, Creatividad y Diseño (C2D)</a:t>
            </a:r>
            <a:endParaRPr b="0" lang="en-US" sz="4800" spc="-1" strike="noStrike">
              <a:solidFill>
                <a:srgbClr val="ffffff"/>
              </a:solidFill>
              <a:latin typeface="Eras Demi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803920" y="4581360"/>
            <a:ext cx="3340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Camila Soto R.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Diseñadora Industrial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33360"/>
            <a:ext cx="2232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Clas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4. “Compras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385360" y="361728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pras 7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349360"/>
            <a:ext cx="5329080" cy="1949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mp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producto adquirido debe cumplir con los requisito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saber la criticidad del material para el producto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estar seguro de que mis proveedores me cumplirán en oportunidad, calidad y pre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047600"/>
            <a:ext cx="2087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51224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08640"/>
            <a:ext cx="5329080" cy="116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mo controlar lo que com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stableciendo inspección, muestreo o lo que sea nece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ontrolando “en terreno” al provee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5. Producción y Prestación del Servicio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2312280" y="376164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roducción.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04000" y="4714920"/>
            <a:ext cx="1828800" cy="773640"/>
          </a:xfrm>
          <a:prstGeom prst="cube">
            <a:avLst>
              <a:gd name="adj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PRODUCTO 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052640"/>
            <a:ext cx="5329080" cy="1807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TROL DE LA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especificaciones y pl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isponibilidad de Instruccione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Uso del equipo apropiado e instru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Realización de procesos de control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Actividades de liberación entrega y post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7360"/>
            <a:ext cx="5329080" cy="8748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DENTIFICACIÓN Y 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Cuando sea necesario debo identificar el producto durante el desarrollo d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05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OPIEDAD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identificar, verificar, proteger, y salvaguardar los bienes del cliente incluyendo los documentos y propiedad intele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229360"/>
            <a:ext cx="5329080" cy="11181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PRESERVACIÓN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Debo preocuparme de mantener la conformidad del producto hasta su entrega final (almacenamiento, transporte, manipulación etc.)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.6. Control de dispositivos de Seguimiento y Medición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1298520"/>
            <a:ext cx="2303640" cy="824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ISPOSITIVOS DE SEGUIMIENTO Y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1197000"/>
            <a:ext cx="216072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Instrumentos de medición (Pie de Metro, Micrómetro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7080" y="143496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581360"/>
            <a:ext cx="505080" cy="1873440"/>
          </a:xfrm>
          <a:prstGeom prst="can">
            <a:avLst>
              <a:gd name="adj" fmla="val 1529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Medium ITC"/>
              </a:rPr>
              <a:t>INSTRUMENTO DE 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2421000"/>
            <a:ext cx="1297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Definir la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30680" y="244332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Que cota o Med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30680" y="3032280"/>
            <a:ext cx="27493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on que instrum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8360" y="3598920"/>
            <a:ext cx="2843280" cy="1067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El instrumento debe ser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 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y mantenerse </a:t>
            </a: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do o verificado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según se def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4869000"/>
            <a:ext cx="33688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Apropiado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Que se adapte a la medición re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Medium ITC"/>
              </a:rPr>
              <a:t>Calibración: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Proceso en el que se compara con un patrón de valor conocido para conocer su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4" idx="3"/>
            <a:endCxn id="236" idx="1"/>
          </p:cNvCxnSpPr>
          <p:nvPr/>
        </p:nvCxnSpPr>
        <p:spPr>
          <a:xfrm>
            <a:off x="2123640" y="2716200"/>
            <a:ext cx="707400" cy="4896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4" idx="3"/>
            <a:endCxn id="235" idx="1"/>
          </p:cNvCxnSpPr>
          <p:nvPr/>
        </p:nvCxnSpPr>
        <p:spPr>
          <a:xfrm flipV="1">
            <a:off x="2123640" y="2615760"/>
            <a:ext cx="707400" cy="100800"/>
          </a:xfrm>
          <a:prstGeom prst="bentConnector3">
            <a:avLst>
              <a:gd name="adj1" fmla="val 498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6588000" y="4581360"/>
            <a:ext cx="1871640" cy="158436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14480" y="3344760"/>
            <a:ext cx="187164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14480" y="106992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ras Demi ITC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0480" y="1184400"/>
            <a:ext cx="1440000" cy="1584360"/>
          </a:xfrm>
          <a:prstGeom prst="flowChartMulti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54840" y="3420000"/>
            <a:ext cx="1901880" cy="1098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MATERIALES COMPRADOS LIB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19560" y="2192400"/>
            <a:ext cx="2158920" cy="1523880"/>
          </a:xfrm>
          <a:prstGeom prst="cube">
            <a:avLst>
              <a:gd name="adj" fmla="val 133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PRODUCTO 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35200" y="4568760"/>
            <a:ext cx="1872000" cy="158436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Demi ITC"/>
              </a:rPr>
              <a:t>Plan de Calibración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5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9" name=""/>
          <p:cNvSpPr/>
          <p:nvPr/>
        </p:nvSpPr>
        <p:spPr>
          <a:xfrm>
            <a:off x="2887560" y="212076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87560" y="334440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98840" y="37036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8480" y="3344760"/>
            <a:ext cx="64944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78480" y="190332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251400" y="2031840"/>
            <a:ext cx="129564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3120" y="523224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32000" y="1989000"/>
            <a:ext cx="1295280" cy="1295640"/>
          </a:xfrm>
          <a:prstGeom prst="ellipse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Eras Medium IT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8" name=""/>
          <p:cNvSpPr/>
          <p:nvPr/>
        </p:nvSpPr>
        <p:spPr>
          <a:xfrm rot="6013800">
            <a:off x="5652000" y="4365000"/>
            <a:ext cx="3240000" cy="107928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280"/>
              <a:gd name="textAreaBottom" fmla="*/ 9349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847000">
            <a:off x="106920" y="4077360"/>
            <a:ext cx="3240000" cy="107964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8400">
            <a:off x="2771640" y="1341360"/>
            <a:ext cx="3240360" cy="1079640"/>
          </a:xfrm>
          <a:custGeom>
            <a:avLst/>
            <a:gdLst>
              <a:gd name="textAreaLeft" fmla="*/ 567000 w 3240360"/>
              <a:gd name="textAreaRight" fmla="*/ 2349360 w 324036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2421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dición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Como estoy hoy d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08720" y="227664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Análisis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: Como me gustaría estar, cuanto soy capaz de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55166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Mejora: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Que tengo que hacer y como lo h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00360" y="1125360"/>
            <a:ext cx="295128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Datos de medi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5" name=""/>
          <p:cNvSpPr txBox="1"/>
          <p:nvPr/>
        </p:nvSpPr>
        <p:spPr>
          <a:xfrm rot="6025800">
            <a:off x="5842440" y="3885480"/>
            <a:ext cx="2862000" cy="1666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Objetivos Calidad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6" name=""/>
          <p:cNvSpPr txBox="1"/>
          <p:nvPr/>
        </p:nvSpPr>
        <p:spPr>
          <a:xfrm rot="14608200">
            <a:off x="554400" y="3629160"/>
            <a:ext cx="2992680" cy="21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ras Demi ITC"/>
              </a:rPr>
              <a:t>Plan y ejecución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ras Demi ITC"/>
              <a:ea typeface="Eras Demi ITC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3284640"/>
            <a:ext cx="295272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Eras Medium ITC"/>
              </a:rPr>
              <a:t>MEJORA CONTIN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8: “Medición, Análisis y Mejora”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69" name=""/>
          <p:cNvSpPr/>
          <p:nvPr/>
        </p:nvSpPr>
        <p:spPr>
          <a:xfrm>
            <a:off x="828720" y="1627200"/>
            <a:ext cx="3024000" cy="82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Mejora continu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92720" y="17002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685960"/>
            <a:ext cx="2665440" cy="100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400356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5083200"/>
            <a:ext cx="2665440" cy="398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3"/>
            <a:endCxn id="270" idx="1"/>
          </p:cNvCxnSpPr>
          <p:nvPr/>
        </p:nvCxnSpPr>
        <p:spPr>
          <a:xfrm>
            <a:off x="3852720" y="2043000"/>
            <a:ext cx="1440360" cy="13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71" idx="1"/>
          </p:cNvCxnSpPr>
          <p:nvPr/>
        </p:nvCxnSpPr>
        <p:spPr>
          <a:xfrm>
            <a:off x="3852720" y="2042640"/>
            <a:ext cx="1440360" cy="11516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2" idx="1"/>
          </p:cNvCxnSpPr>
          <p:nvPr/>
        </p:nvCxnSpPr>
        <p:spPr>
          <a:xfrm>
            <a:off x="3852720" y="2042640"/>
            <a:ext cx="1440360" cy="216468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9" idx="3"/>
            <a:endCxn id="273" idx="1"/>
          </p:cNvCxnSpPr>
          <p:nvPr/>
        </p:nvCxnSpPr>
        <p:spPr>
          <a:xfrm>
            <a:off x="3852720" y="2042640"/>
            <a:ext cx="1440360" cy="32439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372960" y="1378080"/>
            <a:ext cx="2665440" cy="70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2 Seguimiento y Me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3708360" y="13780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3708360" y="2492280"/>
            <a:ext cx="215892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Auditori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3708360" y="357336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8360" y="4941720"/>
            <a:ext cx="223200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Seg. y Medición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78" idx="3"/>
            <a:endCxn id="279" idx="1"/>
          </p:cNvCxnSpPr>
          <p:nvPr/>
        </p:nvCxnSpPr>
        <p:spPr>
          <a:xfrm>
            <a:off x="3038040" y="1733040"/>
            <a:ext cx="670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38040" y="1733040"/>
            <a:ext cx="670680" cy="963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81" idx="1"/>
          </p:cNvCxnSpPr>
          <p:nvPr/>
        </p:nvCxnSpPr>
        <p:spPr>
          <a:xfrm>
            <a:off x="3038040" y="1733040"/>
            <a:ext cx="670680" cy="219600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82" idx="1"/>
          </p:cNvCxnSpPr>
          <p:nvPr/>
        </p:nvCxnSpPr>
        <p:spPr>
          <a:xfrm>
            <a:off x="3038040" y="1733400"/>
            <a:ext cx="670680" cy="3564720"/>
          </a:xfrm>
          <a:prstGeom prst="bentConnector3">
            <a:avLst>
              <a:gd name="adj1" fmla="val 497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53964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2: “Seguimiento y Medi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1340280"/>
            <a:ext cx="23828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cuesta de 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2459520"/>
            <a:ext cx="1655640" cy="79920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lan de Audi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2492280"/>
            <a:ext cx="719280" cy="72072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0" idx="3"/>
            <a:endCxn id="290" idx="2"/>
          </p:cNvCxnSpPr>
          <p:nvPr/>
        </p:nvCxnSpPr>
        <p:spPr>
          <a:xfrm>
            <a:off x="5866920" y="2695680"/>
            <a:ext cx="28944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9" idx="3"/>
            <a:endCxn id="288" idx="1"/>
          </p:cNvCxnSpPr>
          <p:nvPr/>
        </p:nvCxnSpPr>
        <p:spPr>
          <a:xfrm>
            <a:off x="5867280" y="1733400"/>
            <a:ext cx="4341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0" idx="6"/>
            <a:endCxn id="289" idx="1"/>
          </p:cNvCxnSpPr>
          <p:nvPr/>
        </p:nvCxnSpPr>
        <p:spPr>
          <a:xfrm>
            <a:off x="6875640" y="2852640"/>
            <a:ext cx="289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659640" y="3284640"/>
            <a:ext cx="2160360" cy="1584360"/>
          </a:xfrm>
          <a:prstGeom prst="cloudCallout">
            <a:avLst>
              <a:gd name="adj1" fmla="val -78212"/>
              <a:gd name="adj2" fmla="val -290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Cual es la capacidad de alcanzar resultados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4941720"/>
            <a:ext cx="2376360" cy="1224000"/>
          </a:xfrm>
          <a:prstGeom prst="cloudCallout">
            <a:avLst>
              <a:gd name="adj1" fmla="val -67166"/>
              <a:gd name="adj2" fmla="val -324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ras Medium ITC"/>
              </a:rPr>
              <a:t>¿El producto cumple con los requisi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32720" y="227664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0000" y="2844720"/>
            <a:ext cx="2665440" cy="10087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3 Control del producto No Con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125360"/>
            <a:ext cx="3311640" cy="1413360"/>
          </a:xfrm>
          <a:prstGeom prst="cloudCallout">
            <a:avLst>
              <a:gd name="adj1" fmla="val -95583"/>
              <a:gd name="adj2" fmla="val 6548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eliminar la 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2924280"/>
            <a:ext cx="3772080" cy="1413360"/>
          </a:xfrm>
          <a:prstGeom prst="cloudCallout">
            <a:avLst>
              <a:gd name="adj1" fmla="val -81175"/>
              <a:gd name="adj2" fmla="val -1590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utorizando su uso, liberación y/o con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4797360"/>
            <a:ext cx="3427560" cy="1413360"/>
          </a:xfrm>
          <a:prstGeom prst="cloudCallout">
            <a:avLst>
              <a:gd name="adj1" fmla="val -86680"/>
              <a:gd name="adj2" fmla="val -11078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mar acciones para prevenir su uso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404640"/>
            <a:ext cx="8064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3: “Control de producto no Confor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924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1557360"/>
            <a:ext cx="266544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4. Análisis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5734080"/>
            <a:ext cx="2232000" cy="574560"/>
          </a:xfrm>
          <a:prstGeom prst="wedgeRoundRectCallout">
            <a:avLst>
              <a:gd name="adj1" fmla="val -45875"/>
              <a:gd name="adj2" fmla="val -320995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aliz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4869000"/>
            <a:ext cx="2232000" cy="574560"/>
          </a:xfrm>
          <a:prstGeom prst="wedgeRoundRectCallout">
            <a:avLst>
              <a:gd name="adj1" fmla="val -80939"/>
              <a:gd name="adj2" fmla="val -22541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copil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4005360"/>
            <a:ext cx="2232000" cy="574560"/>
          </a:xfrm>
          <a:prstGeom prst="wedgeRoundRectCallout">
            <a:avLst>
              <a:gd name="adj1" fmla="val -89685"/>
              <a:gd name="adj2" fmla="val -11215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Determin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80000" y="587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Métodos estad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501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00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33360"/>
            <a:ext cx="8064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4: “Análisis de D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119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Dat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1119600"/>
            <a:ext cx="230508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Satisfac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2000" y="2127960"/>
            <a:ext cx="2293920" cy="79920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onformidad con l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128680"/>
            <a:ext cx="2222640" cy="1140480"/>
          </a:xfrm>
          <a:prstGeom prst="flowChart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endencia de los procesos y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141720"/>
            <a:ext cx="20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Qué Hacer con ello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276720" y="148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24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3068640"/>
            <a:ext cx="863640" cy="2521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512280 h 2521080"/>
              <a:gd name="textAreaBottom" fmla="*/ 17103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2249269"/>
                <a:lnTo>
                  <a:pt x="10112" y="20579"/>
                </a:lnTo>
                <a:lnTo>
                  <a:pt x="0" y="18298"/>
                </a:lnTo>
                <a:lnTo>
                  <a:pt x="10112" y="13974"/>
                </a:lnTo>
                <a:lnTo>
                  <a:pt x="10112" y="16533"/>
                </a:lnTo>
                <a:arcTo wR="21600" hR="8777" stAng="2249269" swAng="-2130558"/>
                <a:lnTo>
                  <a:pt x="21522" y="9521"/>
                </a:lnTo>
                <a:arcTo wR="21600" hR="8777" stAng="-118711" swAng="-5281289"/>
                <a:close/>
              </a:path>
              <a:path fill="darkenLess" w="21600" h="21600">
                <a:moveTo>
                  <a:pt x="0" y="0"/>
                </a:moveTo>
                <a:arcTo wR="21600" hR="8777" stAng="-5400000" swAng="5400000"/>
                <a:lnTo>
                  <a:pt x="21600" y="10264"/>
                </a:lnTo>
                <a:arcTo wR="21600" hR="8777" stAng="0" swAng="-118711"/>
                <a:lnTo>
                  <a:pt x="21522" y="9521"/>
                </a:lnTo>
                <a:arcTo wR="21600" hR="8777" stAng="-118711" swAng="-528128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484280"/>
            <a:ext cx="2665440" cy="398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 Mej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502080"/>
            <a:ext cx="2303280" cy="703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Medium ITC"/>
              </a:rPr>
              <a:t>8.5.1. Mejor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404640"/>
            <a:ext cx="806436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710520"/>
            <a:ext cx="147168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1910520"/>
            <a:ext cx="147132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bjetiv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2270880"/>
            <a:ext cx="159876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3423240"/>
            <a:ext cx="1598400" cy="79920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93704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 y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4756680"/>
            <a:ext cx="1846080" cy="1140480"/>
          </a:xfrm>
          <a:prstGeom prst="flowChartDocumen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sultados Rev. por l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3640" y="1989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7672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27640" y="3141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4221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00360" y="4221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63640" y="3860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4724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24720" y="4940280"/>
            <a:ext cx="360360" cy="432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PROCESO DE DISEÑO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1223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Levantar la necesidad y el contexto de la necesidad</a:t>
            </a:r>
            <a:endParaRPr b="0" lang="en-US" sz="1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162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la necesidad “el problema a resolv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119700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162864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2560" y="1844640"/>
            <a:ext cx="12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finir el concepto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19700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2560" y="1628640"/>
            <a:ext cx="136872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600200"/>
            <a:ext cx="122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Analizar y generar alternativas de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99280" y="116856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4200" y="160020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773360"/>
            <a:ext cx="1224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elección de la altern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5240" y="113976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80160" y="1571760"/>
            <a:ext cx="136872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1973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8160" y="19303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576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9840" y="3341520"/>
            <a:ext cx="12240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valuar factibilidad y solucionar los problemas téc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148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1480" y="3568680"/>
            <a:ext cx="122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Desarrollar un  Proto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3120" y="2909880"/>
            <a:ext cx="28908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840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38760" y="3352680"/>
            <a:ext cx="1295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Someter a control y evaluar la capacidad de cumpl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43480" y="290988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38760" y="3341520"/>
            <a:ext cx="1368360" cy="10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83120" y="3568680"/>
            <a:ext cx="122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Congelar 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5120" y="2881440"/>
            <a:ext cx="288720" cy="358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0" y="331308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3480" y="3568680"/>
            <a:ext cx="122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Demi ITC"/>
              </a:rPr>
              <a:t>Entrega a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852640"/>
            <a:ext cx="288720" cy="35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3284640"/>
            <a:ext cx="1368360" cy="10080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06400" y="37018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6860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6432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21600" y="36291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920" y="3314880"/>
            <a:ext cx="1368360" cy="1117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501336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Demi ITC"/>
              </a:rPr>
              <a:t>¿Donde gastarías la plata de tu empresa de Dise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661000"/>
            <a:ext cx="64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Eras Medium ITC"/>
              </a:rPr>
              <a:t>Elegir una de las etapas del proceso y diseñar una herramienta para su control (tarea en pare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9640" y="333360"/>
            <a:ext cx="806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1197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2 Acción corre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La organización debe tomar acciones para </a:t>
            </a:r>
            <a:r>
              <a:rPr b="0" i="1" lang="en-US" sz="1600" spc="-1" strike="noStrike">
                <a:solidFill>
                  <a:srgbClr val="000000"/>
                </a:solidFill>
                <a:latin typeface="Eras Medium ITC"/>
              </a:rPr>
              <a:t>eliminar la causa de no conformidades,</a:t>
            </a:r>
            <a:r>
              <a:rPr b="0" lang="en-US" sz="1600" spc="-1" strike="noStrike">
                <a:solidFill>
                  <a:srgbClr val="000000"/>
                </a:solidFill>
                <a:latin typeface="Eras Medium ITC"/>
              </a:rPr>
              <a:t> con objeto de prevenir que vuelva a presentarse dicha no conformidad. Las acciones correctivas deben ser apropiadas a los efectos de la no conformidad enco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8840" y="414972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4400" y="4292640"/>
            <a:ext cx="20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427680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7720" y="434484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21320" y="432576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9400" y="472608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746600"/>
            <a:ext cx="1800000" cy="1274760"/>
          </a:xfrm>
          <a:prstGeom prst="upArrowCallout">
            <a:avLst>
              <a:gd name="adj1" fmla="val 35304"/>
              <a:gd name="adj2" fmla="val 35301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Inmedi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63760" y="3213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5200" y="3279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20720" y="1268280"/>
            <a:ext cx="73137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Medium ITC"/>
              </a:rPr>
              <a:t>8.5.3 Acción Preventi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organización debe tomar acciones para eliminar las causas de no conformidades potenciales para prevenir su ocurrencia. Las acciones preventivas deben ser apropiadas a los efectos de los problema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3760" y="4365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NO CONFORMIDAD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4508640"/>
            <a:ext cx="208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6560" y="449280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FECTO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92640" y="45608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5417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53960" y="4941720"/>
            <a:ext cx="1800360" cy="1224000"/>
          </a:xfrm>
          <a:prstGeom prst="upArrowCallout">
            <a:avLst>
              <a:gd name="adj1" fmla="val 36775"/>
              <a:gd name="adj2" fmla="val 36772"/>
              <a:gd name="adj3" fmla="val 16667"/>
              <a:gd name="adj4" fmla="val 666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cciones Preven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38320" y="3429000"/>
            <a:ext cx="4897440" cy="1008000"/>
          </a:xfrm>
          <a:custGeom>
            <a:avLst/>
            <a:gdLst>
              <a:gd name="textAreaLeft" fmla="*/ 1035360 w 4897440"/>
              <a:gd name="textAreaRight" fmla="*/ 3371400 w 489744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-3094074"/>
                <a:lnTo>
                  <a:pt x="21126" y="6871"/>
                </a:lnTo>
                <a:lnTo>
                  <a:pt x="18852" y="0"/>
                </a:lnTo>
                <a:lnTo>
                  <a:pt x="15629" y="6871"/>
                </a:lnTo>
                <a:lnTo>
                  <a:pt x="17793" y="6871"/>
                </a:lnTo>
                <a:arcTo wR="9134" hR="21600" stAng="2305926" swAng="3000880"/>
                <a:lnTo>
                  <a:pt x="9718" y="21556"/>
                </a:lnTo>
                <a:arcTo wR="9134" hR="21600" stAng="5493194" swAng="5306806"/>
                <a:close/>
              </a:path>
              <a:path fill="darkenLess" w="21600" h="21600">
                <a:moveTo>
                  <a:pt x="0" y="0"/>
                </a:moveTo>
                <a:arcTo wR="9134" hR="21600" stAng="10800000" swAng="-5400000"/>
                <a:lnTo>
                  <a:pt x="10303" y="21600"/>
                </a:lnTo>
                <a:arcTo wR="9134" hR="21600" stAng="5400000" swAng="93194"/>
                <a:lnTo>
                  <a:pt x="9718" y="21556"/>
                </a:lnTo>
                <a:arcTo wR="9134" hR="21600" stAng="5493194" swAng="5306806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79760" y="3495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Aprop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3360"/>
            <a:ext cx="694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8.5: “Mej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Gestión de calidad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Norma: Conjunto de requisitos cuyo cumplimiento se da por elección individual de la empresa con algún objetiv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92280"/>
            <a:ext cx="820728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: International Standaring Organization (Fundada en 1946, 91 paises, 180 comi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Eras Medium ITC"/>
              </a:rPr>
              <a:t>Misión: Desarrollar y promocionar estandares comunes de manufactura, comercio y comunicaciónen forma mundial para favorecer el intercambio internacional de bienes y 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2640" y="422100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9001-2000: Serie 9000, primera parte, año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98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Eras Medium ITC"/>
              </a:rPr>
              <a:t>ISO 9001-2000: Conjunto de requisitos para asegurar los proceso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1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Eras Demi ITC"/>
              </a:rPr>
              <a:t>1ra parte “Responsabilidad, documentos y recursos </a:t>
            </a:r>
            <a:endParaRPr b="0" lang="en-US" sz="28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 Sistema de gestión de la calidad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generale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4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quisitos de la document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Responsabilidad de la dirección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Compromiso de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Enfoque al cliente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olítica de la calidad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5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sponsabilidad, autoridad y comunica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5.6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visión por la dirección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ras Demi ITC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Gestión de los recursos 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Provisión de recursos 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2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3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Demi ITC"/>
              </a:rPr>
              <a:t>6.4 </a:t>
            </a:r>
            <a:r>
              <a:rPr b="0" lang="en-US" sz="1600" spc="-1" strike="noStrike">
                <a:solidFill>
                  <a:srgbClr val="000000"/>
                </a:solidFill>
                <a:latin typeface="Eras Demi ITC"/>
              </a:rPr>
              <a:t>Ambiente de trabajo</a:t>
            </a:r>
            <a:endParaRPr b="0" lang="en-US" sz="16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1557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628640"/>
            <a:ext cx="2737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Docu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Eras Medium ITC"/>
              </a:rPr>
              <a:t>Proced. Control de Regi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35772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141300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1916280"/>
            <a:ext cx="360360" cy="431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Eras Demi ITC"/>
              </a:rPr>
              <a:t>2da parte “Producción y Mejora”</a:t>
            </a:r>
            <a:endParaRPr b="0" lang="en-US" sz="32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Realización del producto 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del product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cesos relacionados con el client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Diseño y desarrollo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Producción y prestación del servicio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7.6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 los dispositivos de seguimiento y de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edición, análisis y mejora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1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2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Seguimiento y medición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3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Control del producto no conforme 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4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Análisis de datos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8.5 </a:t>
            </a: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Mejora</a:t>
            </a:r>
            <a:endParaRPr b="0" lang="en-US" sz="18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476280"/>
            <a:ext cx="7313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Requisito 7: “Realización del Produ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3124080" y="2341440"/>
            <a:ext cx="3181320" cy="1724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PROCESO DE PRODUCCIÓN O PRESTACIÓN DEL SERVICI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65040" y="3111480"/>
            <a:ext cx="24656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Planificación de la realización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1228680" y="1311120"/>
            <a:ext cx="236376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Relación con el Cliente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5133960" y="1212840"/>
            <a:ext cx="2706840" cy="71172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Diseño y Desarrollo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6788160" y="3341520"/>
            <a:ext cx="1968480" cy="40788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mpras 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16240" y="4808520"/>
            <a:ext cx="3097080" cy="1319400"/>
          </a:xfrm>
          <a:prstGeom prst="roundRect">
            <a:avLst>
              <a:gd name="adj" fmla="val 1666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Demi ITC"/>
              </a:rPr>
              <a:t>Control de Dispositivos de Seguimiento y Medición (Instrumentos) 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02392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191628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00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8800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7" action="ppaction://hlinksldjump"/>
          </p:cNvPr>
          <p:cNvSpPr/>
          <p:nvPr/>
        </p:nvSpPr>
        <p:spPr>
          <a:xfrm>
            <a:off x="7308720" y="5445000"/>
            <a:ext cx="1511280" cy="863640"/>
          </a:xfrm>
          <a:prstGeom prst="rightArrow">
            <a:avLst>
              <a:gd name="adj1" fmla="val 50000"/>
              <a:gd name="adj2" fmla="val 4374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Demi ITC"/>
              </a:rPr>
              <a:t>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1: Planificación de la Realización del Product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781360"/>
            <a:ext cx="208764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643040" y="34513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Planificación</a:t>
            </a:r>
            <a:r>
              <a:rPr b="1" lang="en-US" sz="2400" spc="-1" strike="noStrike">
                <a:solidFill>
                  <a:srgbClr val="666699"/>
                </a:solidFill>
                <a:latin typeface="Eras Medium ITC"/>
              </a:rPr>
              <a:t>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917720"/>
            <a:ext cx="5102280" cy="3512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Se deben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quisitos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 necesidad de recursos o 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as actividades de verificación, validación, seguimiento y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criterios de ace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os registros que dan evidencia del cumpl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Todo esto debe ser plasmado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PLAN DE PRODUCCIÓN o PLAN DE CAL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213000"/>
            <a:ext cx="43164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871640" cy="1584360"/>
          </a:xfrm>
          <a:prstGeom prst="flowChartDocumen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Eras Medium ITC"/>
              </a:rPr>
              <a:t>PLAN DE PRODUCCIÓN.DOC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301680"/>
            <a:ext cx="831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2: “Procesos relacionados con el Cli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Eras Demi ITC"/>
              </a:rPr>
              <a:t>Comunicación con el Cliente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052640"/>
            <a:ext cx="5329080" cy="19688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Determin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Especificaciones y actividades de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no especificados pero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Otros requi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143160"/>
            <a:ext cx="5329080" cy="16372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Revisar los requisitos relacionados con el produ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én defi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la organización tenga la 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Que están resueltas las dif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000" y="4869000"/>
            <a:ext cx="5307120" cy="158004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Velar por la eficacia de la comunicación con el cl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las consultas, atención en general y pe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Medium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ara sus reclamos o felic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681440"/>
            <a:ext cx="2266920" cy="1406880"/>
          </a:xfrm>
          <a:custGeom>
            <a:avLst/>
            <a:gdLst>
              <a:gd name="textAreaLeft" fmla="*/ 0 w 2266920"/>
              <a:gd name="textAreaRight" fmla="*/ 2267280 w 2266920"/>
              <a:gd name="textAreaTop" fmla="*/ 351720 h 1406880"/>
              <a:gd name="textAreaBottom" fmla="*/ 1055160 h 140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ale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Requisito 7.3.”Diseño y Desarrollo”</a:t>
            </a:r>
            <a:endParaRPr b="0" lang="en-US" sz="24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852640"/>
            <a:ext cx="2087640" cy="11912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SO DE PRODUCCIÓN O PRESTACIÓ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-2337480" y="368856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Verdana"/>
              </a:rPr>
              <a:t>Diseño y Desarrollo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105264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bo planificar el Diseño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s 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 revisión, verificación y val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 autoridades para val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4560" y="3176640"/>
            <a:ext cx="43200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349360"/>
            <a:ext cx="5329080" cy="1219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 empezar a diseñar debo te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del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requisitos legales y reglament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ción de diseñ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645000"/>
            <a:ext cx="5329080" cy="194976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ando termine el diseño debo tener seguridad y evide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umplo los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tengo información para comprar, producir y prestar 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conozco como se tiene que usar para hacer un instr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508640"/>
            <a:ext cx="1439640" cy="1584360"/>
          </a:xfrm>
          <a:prstGeom prst="flowChartMultidocumen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5689440"/>
            <a:ext cx="5329080" cy="5806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DA VEZ QUE HAGA UN CAMBIO AL DISEÑO DEBO VALIDARLO, AUTORIZARLO Y FOMALIZ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39:43Z</dcterms:created>
  <dc:creator>Chanchis</dc:creator>
  <dc:description/>
  <dc:language>en-US</dc:language>
  <cp:lastModifiedBy>chanchis</cp:lastModifiedBy>
  <dcterms:modified xsi:type="dcterms:W3CDTF">2008-09-21T17:17:45Z</dcterms:modified>
  <cp:revision>29</cp:revision>
  <dc:subject/>
  <dc:title>CALIDAD Y DISEÑO</dc:title>
</cp:coreProperties>
</file>