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AC6B-0A07-4E0E-89A6-8200740E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E704-7695-4514-8237-DAFF59B2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FB6D-D462-44C9-87DD-6D98A0F4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9150-5442-47F5-BDD1-0647C4F8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FBAA-2FB1-44EE-9EA5-8B1E45AC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5AA9-461B-48A6-9411-A183E4D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BDF9-8854-42D9-B768-F1CB2798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415D-2B2F-4D3E-8DA1-87195F4F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796A-41AA-4359-9D36-F868190F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BD9D-D8D9-4682-AD24-B00706E9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6A87-4B95-4887-A23E-F2FA58D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366C-82BE-4E5F-A5ED-34ED7DD1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0547-26A3-4EBF-9FC1-56ED7BD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21DC-4CE8-4914-80D0-96B98E51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5A7D-627E-4241-954C-FC438955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E10F-C009-4271-B7C9-7948A67C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8C6E-762E-4038-A544-EE4F45E6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B548-F765-455F-AFF2-6F20470C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719D-47C4-410E-BEDC-7C183D75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16DE-885B-457F-A0B5-72C4C9E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7A98-C123-46F9-9496-4658E72B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B9A9-C157-43B3-9E5D-6187E9E8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1FFAA-4C46-431B-9B45-727067C5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F37B-32B6-415C-B14F-B60B6488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568-37E4-4804-AA22-EAEC6F359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Demi IT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0920" y="0"/>
            <a:ext cx="404640" cy="507960"/>
            <a:chOff x="250920" y="0"/>
            <a:chExt cx="404640" cy="507960"/>
          </a:xfrm>
        </p:grpSpPr>
        <p:sp>
          <p:nvSpPr>
            <p:cNvPr id="8" name=""/>
            <p:cNvSpPr/>
            <p:nvPr/>
          </p:nvSpPr>
          <p:spPr>
            <a:xfrm>
              <a:off x="335880" y="412560"/>
              <a:ext cx="59040" cy="73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1400" y="121680"/>
              <a:ext cx="85320" cy="95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68040"/>
              <a:ext cx="46080" cy="532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0480" y="412560"/>
              <a:ext cx="86760" cy="954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98680" y="143280"/>
              <a:ext cx="46080" cy="61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95280" y="218160"/>
              <a:ext cx="86760" cy="93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50920" y="225360"/>
              <a:ext cx="86400" cy="93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13000" y="239760"/>
              <a:ext cx="46080" cy="69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36240"/>
              <a:ext cx="47880" cy="56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7320" y="325440"/>
              <a:ext cx="58320" cy="77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78440" y="6840"/>
              <a:ext cx="86760" cy="95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120" y="113400"/>
              <a:ext cx="85320" cy="93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45600" y="0"/>
              <a:ext cx="85320" cy="95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56320" y="97920"/>
              <a:ext cx="86760" cy="93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13D9-679F-4554-91F1-5FF353A44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Demi IT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Eras Demi ITC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585720" cy="6429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809640"/>
            <a:ext cx="2722680" cy="3414600"/>
            <a:chOff x="0" y="809640"/>
            <a:chExt cx="2722680" cy="3414600"/>
          </a:xfrm>
        </p:grpSpPr>
        <p:sp>
          <p:nvSpPr>
            <p:cNvPr id="65" name=""/>
            <p:cNvSpPr/>
            <p:nvPr/>
          </p:nvSpPr>
          <p:spPr>
            <a:xfrm>
              <a:off x="573120" y="3583080"/>
              <a:ext cx="398520" cy="493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19280" y="162864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11280" y="1268280"/>
              <a:ext cx="311400" cy="360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1773360"/>
              <a:ext cx="311040" cy="417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71640" y="2276640"/>
              <a:ext cx="58428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3640" y="2421000"/>
              <a:ext cx="311400" cy="465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360" y="3068640"/>
              <a:ext cx="322200" cy="379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2997360"/>
              <a:ext cx="393840" cy="523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30360" y="8571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5200" y="1573200"/>
              <a:ext cx="574560" cy="633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280" y="80964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60" y="1468440"/>
              <a:ext cx="58428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Eras Demi ITC"/>
              </a:rPr>
              <a:t>Calidad, Creatividad y Diseño (C2D)</a:t>
            </a:r>
            <a:endParaRPr b="0" lang="en-US" sz="4800" spc="-1" strike="noStrike">
              <a:solidFill>
                <a:srgbClr val="ffffff"/>
              </a:solidFill>
              <a:latin typeface="Eras Demi IT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803920" y="4581360"/>
            <a:ext cx="3340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Camila Soto R.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Diseñadora Industrial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333360"/>
            <a:ext cx="2232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Eras Demi ITC"/>
              </a:rPr>
              <a:t>Clas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4. “Compras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385360" y="361728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Compras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2349360"/>
            <a:ext cx="5329080" cy="1949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mo Comp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l producto adquirido debe cumplir con los requisitos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saber la criticidad del material para el producto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estar seguro de que mis proveedores me cumplirán en oportunidad, calidad y pre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047600"/>
            <a:ext cx="2087640" cy="114048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specificaciones y criterios de ace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04000" y="4512240"/>
            <a:ext cx="1901880" cy="1098360"/>
          </a:xfrm>
          <a:prstGeom prst="cube">
            <a:avLst>
              <a:gd name="adj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MATERIALES COMPRADOS LIB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508640"/>
            <a:ext cx="5329080" cy="116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mo controlar lo que comp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stableciendo inspección, muestreo o lo que sea neces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Controlando “en terreno” al provee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.5. Producción y Prestación del Servicio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-2312280" y="376164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Producción.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04000" y="4714920"/>
            <a:ext cx="1828800" cy="773640"/>
          </a:xfrm>
          <a:prstGeom prst="cube">
            <a:avLst>
              <a:gd name="adj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PRODUCTO TERM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1052640"/>
            <a:ext cx="5329080" cy="1807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NTROL DE LA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isponibilidad de especificaciones y pl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isponibilidad de Instruccione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Uso del equipo apropiado e instrumen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Realización de procesos de control y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Actividades de liberación entrega y posteri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997360"/>
            <a:ext cx="5329080" cy="8748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IDENTIFICACIÓN Y 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Cuando sea necesario debo identificar el producto durante el desarrollo del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4005360"/>
            <a:ext cx="5329080" cy="11181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PROPIEDAD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identificar, verificar, proteger, y salvaguardar los bienes del cliente incluyendo los documentos y propiedad intele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5229360"/>
            <a:ext cx="5329080" cy="11181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PRESERVACIÓN DEL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preocuparme de mantener la conformidad del producto hasta su entrega final (almacenamiento, transporte, manipulación etc.)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.6. Control de dispositivos de Seguimiento y Medición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298520"/>
            <a:ext cx="2303640" cy="8240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DISPOSITIVOS DE SEGUIMIENTO Y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1197000"/>
            <a:ext cx="2160720" cy="1067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Instrumentos de medición (Pie de Metro, Micrómetro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67080" y="1434960"/>
            <a:ext cx="431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581360"/>
            <a:ext cx="505080" cy="1873440"/>
          </a:xfrm>
          <a:prstGeom prst="can">
            <a:avLst>
              <a:gd name="adj" fmla="val 1529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Medium ITC"/>
              </a:rPr>
              <a:t>INSTRUMENTO DE 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2421000"/>
            <a:ext cx="1297080" cy="580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Definir la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30680" y="2443320"/>
            <a:ext cx="2749320" cy="337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Que cota o Medi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30680" y="3032280"/>
            <a:ext cx="2749320" cy="337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n que instrume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8360" y="3598920"/>
            <a:ext cx="2843280" cy="1067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l instrumento debe ser 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apropiado 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y mantenerse 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alibrado o verificado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según se def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4869000"/>
            <a:ext cx="33688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Apropiado: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Que se adapte a la medición re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alibración: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Proceso en el que se compara con un patrón de valor conocido para conocer su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4" idx="3"/>
            <a:endCxn id="236" idx="1"/>
          </p:cNvCxnSpPr>
          <p:nvPr/>
        </p:nvCxnSpPr>
        <p:spPr>
          <a:xfrm>
            <a:off x="2123640" y="2716200"/>
            <a:ext cx="707400" cy="489600"/>
          </a:xfrm>
          <a:prstGeom prst="bentConnector3">
            <a:avLst>
              <a:gd name="adj1" fmla="val 49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4" idx="3"/>
            <a:endCxn id="235" idx="1"/>
          </p:cNvCxnSpPr>
          <p:nvPr/>
        </p:nvCxnSpPr>
        <p:spPr>
          <a:xfrm flipV="1">
            <a:off x="2123640" y="2615760"/>
            <a:ext cx="707400" cy="100800"/>
          </a:xfrm>
          <a:prstGeom prst="bentConnector3">
            <a:avLst>
              <a:gd name="adj1" fmla="val 49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6588000" y="4581360"/>
            <a:ext cx="1871640" cy="158436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Plan de Calibración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14480" y="3344760"/>
            <a:ext cx="1871640" cy="158436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PLAN DE PRODUCCIÓN.DOC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14480" y="1069920"/>
            <a:ext cx="2266920" cy="1406880"/>
          </a:xfrm>
          <a:custGeom>
            <a:avLst/>
            <a:gdLst>
              <a:gd name="textAreaLeft" fmla="*/ 0 w 2266920"/>
              <a:gd name="textAreaRight" fmla="*/ 2267280 w 2266920"/>
              <a:gd name="textAreaTop" fmla="*/ 351720 h 1406880"/>
              <a:gd name="textAreaBottom" fmla="*/ 1055160 h 140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Eras Demi ITC"/>
              </a:rPr>
              <a:t>Canale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70480" y="1184400"/>
            <a:ext cx="1440000" cy="1584360"/>
          </a:xfrm>
          <a:prstGeom prst="flowChartMulti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Etapas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4840" y="3420000"/>
            <a:ext cx="1901880" cy="1098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MATERIALES COMPRADOS LIB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19560" y="2192400"/>
            <a:ext cx="2158920" cy="1523880"/>
          </a:xfrm>
          <a:prstGeom prst="cube">
            <a:avLst>
              <a:gd name="adj" fmla="val 133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PRODUCTO TER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35200" y="4568760"/>
            <a:ext cx="1872000" cy="158436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Plan de Calibración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560" y="404280"/>
            <a:ext cx="8569440" cy="53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: “Realización del Product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49" name=""/>
          <p:cNvSpPr/>
          <p:nvPr/>
        </p:nvSpPr>
        <p:spPr>
          <a:xfrm>
            <a:off x="2887560" y="2120760"/>
            <a:ext cx="358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887560" y="334440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98840" y="37036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78480" y="3344760"/>
            <a:ext cx="64944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78480" y="1903320"/>
            <a:ext cx="72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251400" y="2031840"/>
            <a:ext cx="129564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13120" y="5232240"/>
            <a:ext cx="129528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1989000"/>
            <a:ext cx="129528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: “Medición, Análisis y Mejora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8" name=""/>
          <p:cNvSpPr/>
          <p:nvPr/>
        </p:nvSpPr>
        <p:spPr>
          <a:xfrm rot="6013800">
            <a:off x="5652000" y="4365000"/>
            <a:ext cx="3240000" cy="107928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144360 h 1079280"/>
              <a:gd name="textAreaBottom" fmla="*/ 93492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4847000">
            <a:off x="106920" y="4077360"/>
            <a:ext cx="3240000" cy="107964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8400">
            <a:off x="2771640" y="1341360"/>
            <a:ext cx="3240360" cy="1079640"/>
          </a:xfrm>
          <a:custGeom>
            <a:avLst/>
            <a:gdLst>
              <a:gd name="textAreaLeft" fmla="*/ 567000 w 3240360"/>
              <a:gd name="textAreaRight" fmla="*/ 2349360 w 324036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2421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Medición: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Como estoy hoy d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08720" y="227664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Análisis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: Como me gustaría estar, cuanto soy capaz de mejo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5516640"/>
            <a:ext cx="34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Mejora: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Que tengo que hacer y como lo h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00360" y="1125360"/>
            <a:ext cx="2951280" cy="17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Datos de medición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5" name=""/>
          <p:cNvSpPr txBox="1"/>
          <p:nvPr/>
        </p:nvSpPr>
        <p:spPr>
          <a:xfrm rot="6025800">
            <a:off x="5842440" y="3885480"/>
            <a:ext cx="2862000" cy="1666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Objetivos Calidad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6" name=""/>
          <p:cNvSpPr txBox="1"/>
          <p:nvPr/>
        </p:nvSpPr>
        <p:spPr>
          <a:xfrm rot="14608200">
            <a:off x="554400" y="3629160"/>
            <a:ext cx="2992680" cy="215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Plan y ejecución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3284640"/>
            <a:ext cx="295272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Eras Medium ITC"/>
              </a:rPr>
              <a:t>MEJORA CONTIN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Requisito 8: “Medición, Análisis y Mejora”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69" name=""/>
          <p:cNvSpPr/>
          <p:nvPr/>
        </p:nvSpPr>
        <p:spPr>
          <a:xfrm>
            <a:off x="828720" y="1627200"/>
            <a:ext cx="3024000" cy="825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Mejora continua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92720" y="170028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2 Seguimiento y Me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2685960"/>
            <a:ext cx="2665440" cy="1008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3 Control del producto No Con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400356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4. Análisis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5083200"/>
            <a:ext cx="2665440" cy="398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 Mej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9" idx="3"/>
            <a:endCxn id="270" idx="1"/>
          </p:cNvCxnSpPr>
          <p:nvPr/>
        </p:nvCxnSpPr>
        <p:spPr>
          <a:xfrm>
            <a:off x="3852720" y="2043000"/>
            <a:ext cx="1440360" cy="1368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9" idx="3"/>
            <a:endCxn id="271" idx="1"/>
          </p:cNvCxnSpPr>
          <p:nvPr/>
        </p:nvCxnSpPr>
        <p:spPr>
          <a:xfrm>
            <a:off x="3852720" y="2042640"/>
            <a:ext cx="1440360" cy="11516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2" idx="1"/>
          </p:cNvCxnSpPr>
          <p:nvPr/>
        </p:nvCxnSpPr>
        <p:spPr>
          <a:xfrm>
            <a:off x="3852720" y="2042640"/>
            <a:ext cx="1440360" cy="216468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9" idx="3"/>
            <a:endCxn id="273" idx="1"/>
          </p:cNvCxnSpPr>
          <p:nvPr/>
        </p:nvCxnSpPr>
        <p:spPr>
          <a:xfrm>
            <a:off x="3852720" y="2042640"/>
            <a:ext cx="1440360" cy="32439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372960" y="137808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2 Seguimiento y Me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3708360" y="1378080"/>
            <a:ext cx="215892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atisfacción d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3" action="ppaction://hlinksldjump"/>
          </p:cNvPr>
          <p:cNvSpPr/>
          <p:nvPr/>
        </p:nvSpPr>
        <p:spPr>
          <a:xfrm>
            <a:off x="3708360" y="2492280"/>
            <a:ext cx="215892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Auditori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3708360" y="3573360"/>
            <a:ext cx="223200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eg. y Medición de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08360" y="4941720"/>
            <a:ext cx="223200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eg. y Medición d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78" idx="3"/>
            <a:endCxn id="279" idx="1"/>
          </p:cNvCxnSpPr>
          <p:nvPr/>
        </p:nvCxnSpPr>
        <p:spPr>
          <a:xfrm>
            <a:off x="3038040" y="1733040"/>
            <a:ext cx="670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0" idx="1"/>
          </p:cNvCxnSpPr>
          <p:nvPr/>
        </p:nvCxnSpPr>
        <p:spPr>
          <a:xfrm>
            <a:off x="3038040" y="1733040"/>
            <a:ext cx="670680" cy="9630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81" idx="1"/>
          </p:cNvCxnSpPr>
          <p:nvPr/>
        </p:nvCxnSpPr>
        <p:spPr>
          <a:xfrm>
            <a:off x="3038040" y="1733040"/>
            <a:ext cx="670680" cy="21960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82" idx="1"/>
          </p:cNvCxnSpPr>
          <p:nvPr/>
        </p:nvCxnSpPr>
        <p:spPr>
          <a:xfrm>
            <a:off x="3038040" y="1733400"/>
            <a:ext cx="670680" cy="356472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539640" y="476280"/>
            <a:ext cx="7313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2: “Seguimiento y Medi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1340280"/>
            <a:ext cx="2382840" cy="79920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cuesta de Satisf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2459520"/>
            <a:ext cx="1655640" cy="79920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lan de Audi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56360" y="2492280"/>
            <a:ext cx="719280" cy="72072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0" idx="3"/>
            <a:endCxn id="290" idx="2"/>
          </p:cNvCxnSpPr>
          <p:nvPr/>
        </p:nvCxnSpPr>
        <p:spPr>
          <a:xfrm>
            <a:off x="5866920" y="2695680"/>
            <a:ext cx="28944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9" idx="3"/>
            <a:endCxn id="288" idx="1"/>
          </p:cNvCxnSpPr>
          <p:nvPr/>
        </p:nvCxnSpPr>
        <p:spPr>
          <a:xfrm>
            <a:off x="5867280" y="1733400"/>
            <a:ext cx="4341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0" idx="6"/>
            <a:endCxn id="289" idx="1"/>
          </p:cNvCxnSpPr>
          <p:nvPr/>
        </p:nvCxnSpPr>
        <p:spPr>
          <a:xfrm>
            <a:off x="6875640" y="2852640"/>
            <a:ext cx="289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6659640" y="3284640"/>
            <a:ext cx="2160360" cy="1584360"/>
          </a:xfrm>
          <a:prstGeom prst="cloudCallout">
            <a:avLst>
              <a:gd name="adj1" fmla="val -78212"/>
              <a:gd name="adj2" fmla="val -290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ras Medium ITC"/>
              </a:rPr>
              <a:t>¿Cual es la capacidad de alcanzar resultados planific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4941720"/>
            <a:ext cx="2376360" cy="1224000"/>
          </a:xfrm>
          <a:prstGeom prst="cloudCallout">
            <a:avLst>
              <a:gd name="adj1" fmla="val -67166"/>
              <a:gd name="adj2" fmla="val -324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ras Medium ITC"/>
              </a:rPr>
              <a:t>¿El producto cumple con los requisi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532720" y="227664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0000" y="2844720"/>
            <a:ext cx="2665440" cy="100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3 Control del producto No Con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125360"/>
            <a:ext cx="3311640" cy="1413360"/>
          </a:xfrm>
          <a:prstGeom prst="cloudCallout">
            <a:avLst>
              <a:gd name="adj1" fmla="val -95583"/>
              <a:gd name="adj2" fmla="val 65481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mar acciones para eliminar la no con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2924280"/>
            <a:ext cx="3772080" cy="1413360"/>
          </a:xfrm>
          <a:prstGeom prst="cloudCallout">
            <a:avLst>
              <a:gd name="adj1" fmla="val -81175"/>
              <a:gd name="adj2" fmla="val -1590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utorizando su uso, liberación y/o conc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4797360"/>
            <a:ext cx="3427560" cy="1413360"/>
          </a:xfrm>
          <a:prstGeom prst="cloudCallout">
            <a:avLst>
              <a:gd name="adj1" fmla="val -86680"/>
              <a:gd name="adj2" fmla="val -11078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mar acciones para prevenir su uso prev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404640"/>
            <a:ext cx="8064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3: “Control de producto no Confor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2924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1557360"/>
            <a:ext cx="2665440" cy="70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4. Análisis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76360" y="5734080"/>
            <a:ext cx="2232000" cy="574560"/>
          </a:xfrm>
          <a:prstGeom prst="wedgeRoundRectCallout">
            <a:avLst>
              <a:gd name="adj1" fmla="val -45875"/>
              <a:gd name="adj2" fmla="val -320995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naliz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4869000"/>
            <a:ext cx="2232000" cy="574560"/>
          </a:xfrm>
          <a:prstGeom prst="wedgeRoundRectCallout">
            <a:avLst>
              <a:gd name="adj1" fmla="val -80939"/>
              <a:gd name="adj2" fmla="val -225416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copil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4005360"/>
            <a:ext cx="2232000" cy="574560"/>
          </a:xfrm>
          <a:prstGeom prst="wedgeRoundRectCallout">
            <a:avLst>
              <a:gd name="adj1" fmla="val -89685"/>
              <a:gd name="adj2" fmla="val -112152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Determin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80000" y="587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Métodos estad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501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 los 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4005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333360"/>
            <a:ext cx="8064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4: “Análisis de Dat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95640" y="1197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Qué Datos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16720" y="1119600"/>
            <a:ext cx="2305080" cy="79920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Satisfacción 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2000" y="2127960"/>
            <a:ext cx="2293920" cy="79920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onformidad con l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2128680"/>
            <a:ext cx="2222640" cy="114048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endencia de los procesos y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314172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Qué Hacer con ellos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276720" y="148392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24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3068640"/>
            <a:ext cx="863640" cy="2521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512280 h 2521080"/>
              <a:gd name="textAreaBottom" fmla="*/ 171036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7" stAng="-5400000" swAng="5400000"/>
                <a:lnTo>
                  <a:pt x="21600" y="10264"/>
                </a:lnTo>
                <a:arcTo wR="21600" hR="8777" stAng="0" swAng="2249269"/>
                <a:lnTo>
                  <a:pt x="10112" y="20579"/>
                </a:lnTo>
                <a:lnTo>
                  <a:pt x="0" y="18298"/>
                </a:lnTo>
                <a:lnTo>
                  <a:pt x="10112" y="13974"/>
                </a:lnTo>
                <a:lnTo>
                  <a:pt x="10112" y="16533"/>
                </a:lnTo>
                <a:arcTo wR="21600" hR="8777" stAng="2249269" swAng="-2130558"/>
                <a:lnTo>
                  <a:pt x="21522" y="9521"/>
                </a:lnTo>
                <a:arcTo wR="21600" hR="8777" stAng="-118711" swAng="-5281289"/>
                <a:close/>
              </a:path>
              <a:path fill="darkenLess" w="21600" h="21600">
                <a:moveTo>
                  <a:pt x="0" y="0"/>
                </a:moveTo>
                <a:arcTo wR="21600" hR="8777" stAng="-5400000" swAng="5400000"/>
                <a:lnTo>
                  <a:pt x="21600" y="10264"/>
                </a:lnTo>
                <a:arcTo wR="21600" hR="8777" stAng="0" swAng="-118711"/>
                <a:lnTo>
                  <a:pt x="21522" y="9521"/>
                </a:lnTo>
                <a:arcTo wR="21600" hR="8777" stAng="-118711" swAng="-5281289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484280"/>
            <a:ext cx="2665440" cy="398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 Mej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3502080"/>
            <a:ext cx="230328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.1. Mejora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404640"/>
            <a:ext cx="806436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3710520"/>
            <a:ext cx="147168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olítica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1910520"/>
            <a:ext cx="147132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Objetiv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0720" y="2270880"/>
            <a:ext cx="159876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sultados de Audi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93080" y="3423240"/>
            <a:ext cx="159840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nálisi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4937040"/>
            <a:ext cx="1846080" cy="114048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correctivas y preven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4756680"/>
            <a:ext cx="1846080" cy="114048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sultados Rev. por l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3640" y="1989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7672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27640" y="3141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43640" y="38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56360" y="4221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500360" y="422100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63640" y="3860640"/>
            <a:ext cx="57636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4724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24720" y="4940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PROCESO DE DISEÑO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1223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Levantar la necesidad y el contexto de la necesidad</a:t>
            </a:r>
            <a:endParaRPr b="0" lang="en-US" sz="1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19700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62864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162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finir la necesidad “el problema a resolv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119700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2560" y="162864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2560" y="1844640"/>
            <a:ext cx="12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finir el concepto de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119700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2560" y="1628640"/>
            <a:ext cx="136872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1600200"/>
            <a:ext cx="122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Analizar y generar alternativas de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99280" y="1168560"/>
            <a:ext cx="288720" cy="358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4200" y="1600200"/>
            <a:ext cx="136872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1773360"/>
            <a:ext cx="1224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Selección de la altern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5240" y="113976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80160" y="1571760"/>
            <a:ext cx="136872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0560" y="198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19360" y="19731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8160" y="193032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5760" y="1916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9840" y="3341520"/>
            <a:ext cx="12240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Evaluar factibilidad y solucionar los problemas téc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1480" y="290988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3568680"/>
            <a:ext cx="122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sarrollar un  Proto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3120" y="290988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8400" y="334152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38760" y="3352680"/>
            <a:ext cx="1295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Someter a control y evaluar la capacidad de cumpl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43480" y="290988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38760" y="334152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83120" y="3568680"/>
            <a:ext cx="1224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Congelar el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5120" y="2881440"/>
            <a:ext cx="288720" cy="358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0" y="3313080"/>
            <a:ext cx="136836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83480" y="3568680"/>
            <a:ext cx="122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Entrega a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285264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3284640"/>
            <a:ext cx="136836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06400" y="37018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68604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36432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21600" y="36291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920" y="3314880"/>
            <a:ext cx="1368360" cy="11174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5013360"/>
            <a:ext cx="64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¿Donde gastarías la plata de tu empresa de Dise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5661000"/>
            <a:ext cx="64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Medium ITC"/>
              </a:rPr>
              <a:t>Elegir una de las etapas del proceso y diseñar una herramienta para su control (tarea en pare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9640" y="333360"/>
            <a:ext cx="806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63640" y="1197000"/>
            <a:ext cx="734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8.5.2 Acción corre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La organización debe tomar acciones para </a:t>
            </a:r>
            <a:r>
              <a:rPr b="0" i="1" lang="en-US" sz="1600" spc="-1" strike="noStrike">
                <a:solidFill>
                  <a:srgbClr val="000000"/>
                </a:solidFill>
                <a:latin typeface="Eras Medium ITC"/>
              </a:rPr>
              <a:t>eliminar la causa de no conformidades,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con objeto de prevenir que vuelva a presentarse dicha no conformidad. Las acciones correctivas deben ser apropiadas a los efectos de la no conformidad enco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28840" y="4149720"/>
            <a:ext cx="223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NO CON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4400" y="4292640"/>
            <a:ext cx="20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4276800"/>
            <a:ext cx="208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7720" y="4344840"/>
            <a:ext cx="358920" cy="287640"/>
          </a:xfrm>
          <a:prstGeom prst="rightArrow">
            <a:avLst>
              <a:gd name="adj1" fmla="val 50000"/>
              <a:gd name="adj2" fmla="val 3119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21320" y="4325760"/>
            <a:ext cx="358920" cy="287640"/>
          </a:xfrm>
          <a:prstGeom prst="rightArrow">
            <a:avLst>
              <a:gd name="adj1" fmla="val 50000"/>
              <a:gd name="adj2" fmla="val 3119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9400" y="4726080"/>
            <a:ext cx="1800360" cy="1224000"/>
          </a:xfrm>
          <a:prstGeom prst="upArrowCallout">
            <a:avLst>
              <a:gd name="adj1" fmla="val 36775"/>
              <a:gd name="adj2" fmla="val 36772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Corr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27920" y="4746600"/>
            <a:ext cx="1800000" cy="1274760"/>
          </a:xfrm>
          <a:prstGeom prst="upArrowCallout">
            <a:avLst>
              <a:gd name="adj1" fmla="val 35304"/>
              <a:gd name="adj2" fmla="val 35301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Inmedi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363760" y="3213000"/>
            <a:ext cx="4897440" cy="1008000"/>
          </a:xfrm>
          <a:custGeom>
            <a:avLst/>
            <a:gdLst>
              <a:gd name="textAreaLeft" fmla="*/ 1035360 w 4897440"/>
              <a:gd name="textAreaRight" fmla="*/ 3371400 w 489744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-3094074"/>
                <a:lnTo>
                  <a:pt x="21126" y="6871"/>
                </a:lnTo>
                <a:lnTo>
                  <a:pt x="18852" y="0"/>
                </a:lnTo>
                <a:lnTo>
                  <a:pt x="15629" y="6871"/>
                </a:lnTo>
                <a:lnTo>
                  <a:pt x="17793" y="6871"/>
                </a:lnTo>
                <a:arcTo wR="9134" hR="21600" stAng="2305926" swAng="3000880"/>
                <a:lnTo>
                  <a:pt x="9718" y="21556"/>
                </a:lnTo>
                <a:arcTo wR="9134" hR="21600" stAng="5493194" swAng="5306806"/>
                <a:close/>
              </a:path>
              <a:path fill="darkenLess"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93194"/>
                <a:lnTo>
                  <a:pt x="9718" y="21556"/>
                </a:lnTo>
                <a:arcTo wR="9134" hR="21600" stAng="5493194" swAng="5306806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5200" y="3279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prop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20720" y="1268280"/>
            <a:ext cx="73137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8.5.3 Acción Preventiv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 organización debe tomar acciones para eliminar las causas de no conformidades potenciales para prevenir su ocurrencia. Las acciones preventivas deben ser apropiadas a los efectos de los problemas 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3760" y="4365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NO CONFORMIDAD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4508640"/>
            <a:ext cx="208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6560" y="4492800"/>
            <a:ext cx="208908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FECTO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92640" y="45608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5880" y="454176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53960" y="4941720"/>
            <a:ext cx="1800360" cy="1224000"/>
          </a:xfrm>
          <a:prstGeom prst="upArrowCallout">
            <a:avLst>
              <a:gd name="adj1" fmla="val 36775"/>
              <a:gd name="adj2" fmla="val 36772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Preven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938320" y="3429000"/>
            <a:ext cx="4897440" cy="1008000"/>
          </a:xfrm>
          <a:custGeom>
            <a:avLst/>
            <a:gdLst>
              <a:gd name="textAreaLeft" fmla="*/ 1035360 w 4897440"/>
              <a:gd name="textAreaRight" fmla="*/ 3371400 w 489744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-3094074"/>
                <a:lnTo>
                  <a:pt x="21126" y="6871"/>
                </a:lnTo>
                <a:lnTo>
                  <a:pt x="18852" y="0"/>
                </a:lnTo>
                <a:lnTo>
                  <a:pt x="15629" y="6871"/>
                </a:lnTo>
                <a:lnTo>
                  <a:pt x="17793" y="6871"/>
                </a:lnTo>
                <a:arcTo wR="9134" hR="21600" stAng="2305926" swAng="3000880"/>
                <a:lnTo>
                  <a:pt x="9718" y="21556"/>
                </a:lnTo>
                <a:arcTo wR="9134" hR="21600" stAng="5493194" swAng="5306806"/>
                <a:close/>
              </a:path>
              <a:path fill="darkenLess"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93194"/>
                <a:lnTo>
                  <a:pt x="9718" y="21556"/>
                </a:lnTo>
                <a:arcTo wR="9134" hR="21600" stAng="5493194" swAng="5306806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79760" y="3495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prop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333360"/>
            <a:ext cx="694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2852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Gestión de calidad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Norma: Conjunto de requisitos cuyo cumplimiento se da por elección individual de la empresa con algún objetivo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92280"/>
            <a:ext cx="820728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ISO: International Standaring Organization (Fundada en 1946, 91 paises, 180 comit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Eras Medium ITC"/>
              </a:rPr>
              <a:t>Misión: Desarrollar y promocionar estandares comunes de manufactura, comercio y comunicaciónen forma mundial para favorecer el intercambio internacional de bienes y servi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2640" y="422100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9001-2000: Serie 9000, primera parte, año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987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ISO 9001-2000: Conjunto de requisitos para asegurar los proceso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15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Eras Demi ITC"/>
              </a:rPr>
              <a:t>1ra parte “Responsabilidad, documentos y recursos 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954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 Sistema de gestión de la calidad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4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quisitos generales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4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quisitos de la document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Responsabilidad de la dirección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Compromiso de la direc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Enfoque al cliente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3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olítica de la calidad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4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5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sponsabilidad, autoridad y comunic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6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visión por la direc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Gestión de los recursos 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rovisión de recursos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3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4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Ambiente de trabajo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7" name=""/>
          <p:cNvSpPr/>
          <p:nvPr/>
        </p:nvSpPr>
        <p:spPr>
          <a:xfrm>
            <a:off x="5508720" y="1557360"/>
            <a:ext cx="503280" cy="86364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1628640"/>
            <a:ext cx="2737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Medium ITC"/>
              </a:rPr>
              <a:t>Proced. Control de Docu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Medium ITC"/>
              </a:rPr>
              <a:t>Proced. Control de Regi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335772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141300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1916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2da parte “Producción y Mejora”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Realización del producto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1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lanificación de la realización del producto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2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rocesos relacionados con el cliente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3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Diseño y desarrollo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4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mpras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5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roducción y prestación del servicio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6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ntrol de los dispositivos de seguimiento y de medición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edición, análisis y mejora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1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Generalidades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2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Seguimiento y medición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3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ntrol del producto no conforme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4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Análisis de datos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5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Mejora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476280"/>
            <a:ext cx="7313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Requisito 7: “Realización del Produ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3124080" y="2341440"/>
            <a:ext cx="3181320" cy="17247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PROCESO DE PRODUCCIÓN O PRESTACIÓN DEL SERVICIO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365040" y="3111480"/>
            <a:ext cx="246564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Planificación de la realización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1228680" y="1311120"/>
            <a:ext cx="236376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Relación con el Cliente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4" action="ppaction://hlinksldjump"/>
          </p:cNvPr>
          <p:cNvSpPr/>
          <p:nvPr/>
        </p:nvSpPr>
        <p:spPr>
          <a:xfrm>
            <a:off x="5133960" y="1212840"/>
            <a:ext cx="270684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Diseño y Desarrollo 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5" action="ppaction://hlinksldjump"/>
          </p:cNvPr>
          <p:cNvSpPr/>
          <p:nvPr/>
        </p:nvSpPr>
        <p:spPr>
          <a:xfrm>
            <a:off x="6788160" y="3341520"/>
            <a:ext cx="1968480" cy="40788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Compras 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16240" y="4808520"/>
            <a:ext cx="3097080" cy="131940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Control de Dispositivos de Seguimiento y Medición (Instrumentos) 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02392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156360" y="1916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00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8800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36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7" action="ppaction://hlinksldjump"/>
          </p:cNvPr>
          <p:cNvSpPr/>
          <p:nvPr/>
        </p:nvSpPr>
        <p:spPr>
          <a:xfrm>
            <a:off x="7308720" y="5445000"/>
            <a:ext cx="1511280" cy="863640"/>
          </a:xfrm>
          <a:prstGeom prst="rightArrow">
            <a:avLst>
              <a:gd name="adj1" fmla="val 50000"/>
              <a:gd name="adj2" fmla="val 4374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1: Planificación de la Realización del Product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2781360"/>
            <a:ext cx="2087640" cy="11912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1643040" y="34513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Planificación</a:t>
            </a:r>
            <a:r>
              <a:rPr b="1" lang="en-US" sz="2400" spc="-1" strike="noStrike">
                <a:solidFill>
                  <a:srgbClr val="666699"/>
                </a:solidFill>
                <a:latin typeface="Eras Medium ITC"/>
              </a:rPr>
              <a:t> 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917720"/>
            <a:ext cx="5102280" cy="3512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Se deben defi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requisitos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 necesidad de recursos o 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s actividades de verificación, validación, seguimiento y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criterios de ace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registros que dan evidencia del cumpl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do esto debe ser plasmado e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LAN DE PRODUCCIÓN o PLAN DE CALID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213000"/>
            <a:ext cx="431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4653000"/>
            <a:ext cx="1871640" cy="158436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PLAN DE PRODUCCIÓN.DOC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11280" y="301680"/>
            <a:ext cx="831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2: “Procesos relacionados con el Clie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-2337480" y="368856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Comunicación con el Cliente 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1052640"/>
            <a:ext cx="5329080" cy="19688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Determinar los requisitos relacionados con el Produ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specificaciones y actividades de ent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quisitos no especificados pero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quisitos legales y regla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Otr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3143160"/>
            <a:ext cx="5329080" cy="16372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Revisar los requisitos relacionados con el produ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estén defi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la organización tenga la 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están resueltas las dife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5000" y="4869000"/>
            <a:ext cx="5307120" cy="15800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Velar por la eficacia de la comunicación con el cl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ara las consultas, atención en general y pe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ara sus reclamos o felic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4681440"/>
            <a:ext cx="2266920" cy="1406880"/>
          </a:xfrm>
          <a:custGeom>
            <a:avLst/>
            <a:gdLst>
              <a:gd name="textAreaLeft" fmla="*/ 0 w 2266920"/>
              <a:gd name="textAreaRight" fmla="*/ 2267280 w 2266920"/>
              <a:gd name="textAreaTop" fmla="*/ 351720 h 1406880"/>
              <a:gd name="textAreaBottom" fmla="*/ 1055160 h 140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nale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3.”Diseño y Desarroll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-2337480" y="368856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Verdana"/>
              </a:rPr>
              <a:t>Diseño y Desarrollo 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1052640"/>
            <a:ext cx="5329080" cy="1219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bo planificar el Diseño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s eta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 revisión, verificación y val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 autoridades para vali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349360"/>
            <a:ext cx="5329080" cy="1219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 empezar a diseñar debo te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 requisitos del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 requisitos legales y reglament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ción de diseños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3645000"/>
            <a:ext cx="5329080" cy="19497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uando termine el diseño debo tener seguridad y evidencia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cumplo los 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tengo información para comprar, producir y prestar 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conozco como se tiene que usar para hacer un instru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4508640"/>
            <a:ext cx="1439640" cy="1584360"/>
          </a:xfrm>
          <a:prstGeom prst="flowChartMulti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tapas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5689440"/>
            <a:ext cx="5329080" cy="580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DA VEZ QUE HAGA UN CAMBIO AL DISEÑO DEBO VALIDARLO, AUTORIZARLO Y FOMALIZ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39:43Z</dcterms:created>
  <dc:creator>Chanchis</dc:creator>
  <dc:description/>
  <dc:language>en-US</dc:language>
  <cp:lastModifiedBy>chanchis</cp:lastModifiedBy>
  <dcterms:modified xsi:type="dcterms:W3CDTF">2008-09-21T17:17:45Z</dcterms:modified>
  <cp:revision>29</cp:revision>
  <dc:subject/>
  <dc:title>CALIDAD Y DISEÑO</dc:title>
</cp:coreProperties>
</file>