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60B4-43CF-41E8-B49D-95196140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2A21-836C-46F9-9A0E-8B29FE1B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6A91-DC05-462F-8547-0AF1DDB4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2C72-6EFA-4E6B-A940-05AF6B4C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65B-828A-4025-8691-20F6971F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C29-7213-4119-BD1B-22AD725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45E6-529E-4B88-BDC7-05EB4509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EFA2-069B-42D3-8089-D7F84E5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3A01-8D4B-43DD-BAC0-A7F3E19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BCB-21CA-464F-9894-2000CD79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F0F-00F3-4FFD-B1B2-6D83957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443A-1EFF-4313-83DC-A6398731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3E5-17B4-4C08-A485-2675E77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3903-2B57-4860-A780-E4B0F3B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D85F-AAB4-42F4-B465-366116F9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7CC-4C70-4090-BEB0-2759A3C1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B2F2-E070-4B46-86C6-E31CD5BF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A969-2413-46C9-9E56-C5498F5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FF89-C55D-4668-9142-81E4385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A79C-8CE6-4E70-B141-C84BEFA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F65F-6726-460A-952D-0827913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927E-C9AA-4F6A-AA6A-6D8FDEEB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33F1-57E0-48DC-8619-2AD06496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3D8D-5AD2-423B-8547-9310792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6A38-5CC4-4BC4-8F84-17B1D21FD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0920" y="0"/>
            <a:ext cx="404640" cy="507960"/>
            <a:chOff x="250920" y="0"/>
            <a:chExt cx="404640" cy="507960"/>
          </a:xfrm>
        </p:grpSpPr>
        <p:sp>
          <p:nvSpPr>
            <p:cNvPr id="8" name=""/>
            <p:cNvSpPr/>
            <p:nvPr/>
          </p:nvSpPr>
          <p:spPr>
            <a:xfrm>
              <a:off x="335880" y="412560"/>
              <a:ext cx="59040" cy="73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1400" y="12168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8040"/>
              <a:ext cx="46080" cy="53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0480" y="412560"/>
              <a:ext cx="86760" cy="954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98680" y="143280"/>
              <a:ext cx="46080" cy="6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21816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50920" y="225360"/>
              <a:ext cx="86400" cy="93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3000" y="239760"/>
              <a:ext cx="46080" cy="69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36240"/>
              <a:ext cx="47880" cy="56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7320" y="325440"/>
              <a:ext cx="58320" cy="77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78440" y="6840"/>
              <a:ext cx="86760" cy="95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120" y="113400"/>
              <a:ext cx="85320" cy="93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45600" y="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6320" y="9792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43D-04C7-492E-8FE3-4773AD48D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Demi IT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85720" cy="642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809640"/>
            <a:ext cx="2722680" cy="3414600"/>
            <a:chOff x="0" y="809640"/>
            <a:chExt cx="2722680" cy="3414600"/>
          </a:xfrm>
        </p:grpSpPr>
        <p:sp>
          <p:nvSpPr>
            <p:cNvPr id="65" name=""/>
            <p:cNvSpPr/>
            <p:nvPr/>
          </p:nvSpPr>
          <p:spPr>
            <a:xfrm>
              <a:off x="573120" y="3583080"/>
              <a:ext cx="398520" cy="493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9280" y="1628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1268280"/>
              <a:ext cx="311400" cy="360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1773360"/>
              <a:ext cx="311040" cy="417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1640" y="22766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2421000"/>
              <a:ext cx="311400" cy="465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3068640"/>
              <a:ext cx="322200" cy="379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2997360"/>
              <a:ext cx="393840" cy="523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0360" y="8571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1573200"/>
              <a:ext cx="574560" cy="633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280" y="809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60" y="14684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Eras Demi ITC"/>
              </a:rPr>
              <a:t>Calidad, Creatividad y Diseño (C2D)</a:t>
            </a:r>
            <a:endParaRPr b="0" lang="en-US" sz="48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803920" y="4581360"/>
            <a:ext cx="3340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Camila Soto R.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Diseñadora Industria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33360"/>
            <a:ext cx="2232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Clas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4. “Compras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385360" y="361728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pras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349360"/>
            <a:ext cx="5329080" cy="1949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mp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producto adquirido debe cumplir con los requisito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saber la criticidad del material para el producto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estar seguro de que mis proveedores me cumplirán en oportunidad, calidad y pre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047600"/>
            <a:ext cx="2087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51224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08640"/>
            <a:ext cx="5329080" cy="116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ntrolar lo que com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stableciendo inspección, muestreo o lo que sea nece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ontrolando “en terreno” al provee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5. Producción y Prestación del Servicio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2312280" y="376164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roducción.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4714920"/>
            <a:ext cx="1828800" cy="77364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PRODUCTO 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052640"/>
            <a:ext cx="5329080" cy="1807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TROL DE LA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especificaciones y pl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Uso del equipo apropiado e instru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Realización de procesos de control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Actividades de liberación entrega y post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7360"/>
            <a:ext cx="5329080" cy="8748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DENTIFICACIÓN Y 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uando sea necesario debo identificar el producto durante el desarrollo d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05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OPIEDAD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identificar, verificar, proteger, y salvaguardar los bienes del cliente incluyendo los documentos y propiedad intele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229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ESERVACIÓN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preocuparme de mantener la conformidad del producto hasta su entrega final (almacenamiento, transporte, manipulación etc.)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6. Control de dispositivos de Seguimiento y Medición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298520"/>
            <a:ext cx="2303640" cy="824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ISPOSITIVOS DE SEGUIMIENTO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1197000"/>
            <a:ext cx="216072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nstrumentos de medición (Pie de Metro, Micrómetro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7080" y="143496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581360"/>
            <a:ext cx="505080" cy="1873440"/>
          </a:xfrm>
          <a:prstGeom prst="can">
            <a:avLst>
              <a:gd name="adj" fmla="val 1529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Medium ITC"/>
              </a:rPr>
              <a:t>INSTRUMENTO DE 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421000"/>
            <a:ext cx="1297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efinir la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30680" y="244332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Que cota o Med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30680" y="303228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 que instrum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8360" y="3598920"/>
            <a:ext cx="284328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instrumento debe ser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 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y mantenerse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do o verificado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según se def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4869000"/>
            <a:ext cx="33688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Que se adapte a la medición re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ción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Proceso en el que se compara con un patrón de valor conocido para conocer su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4" idx="3"/>
            <a:endCxn id="236" idx="1"/>
          </p:cNvCxnSpPr>
          <p:nvPr/>
        </p:nvCxnSpPr>
        <p:spPr>
          <a:xfrm>
            <a:off x="2123640" y="2716200"/>
            <a:ext cx="707400" cy="4896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4" idx="3"/>
            <a:endCxn id="235" idx="1"/>
          </p:cNvCxnSpPr>
          <p:nvPr/>
        </p:nvCxnSpPr>
        <p:spPr>
          <a:xfrm flipV="1">
            <a:off x="2123640" y="2615760"/>
            <a:ext cx="707400" cy="1008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6588000" y="4581360"/>
            <a:ext cx="1871640" cy="158436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14480" y="3344760"/>
            <a:ext cx="187164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14480" y="106992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ras Demi ITC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0480" y="1184400"/>
            <a:ext cx="1440000" cy="1584360"/>
          </a:xfrm>
          <a:prstGeom prst="flowChartMulti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4840" y="342000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19560" y="2192400"/>
            <a:ext cx="2158920" cy="1523880"/>
          </a:xfrm>
          <a:prstGeom prst="cube">
            <a:avLst>
              <a:gd name="adj" fmla="val 133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PRODUCTO 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35200" y="4568760"/>
            <a:ext cx="187200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5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9" name=""/>
          <p:cNvSpPr/>
          <p:nvPr/>
        </p:nvSpPr>
        <p:spPr>
          <a:xfrm>
            <a:off x="2887560" y="212076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87560" y="334440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98840" y="37036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8480" y="3344760"/>
            <a:ext cx="64944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8480" y="190332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51400" y="2031840"/>
            <a:ext cx="129564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3120" y="523224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98900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8" name=""/>
          <p:cNvSpPr/>
          <p:nvPr/>
        </p:nvSpPr>
        <p:spPr>
          <a:xfrm rot="6013800">
            <a:off x="5652000" y="4365000"/>
            <a:ext cx="3240000" cy="107928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280"/>
              <a:gd name="textAreaBottom" fmla="*/ 9349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847000">
            <a:off x="106920" y="4077360"/>
            <a:ext cx="3240000" cy="107964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8400">
            <a:off x="2771640" y="1341360"/>
            <a:ext cx="3240360" cy="107964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2421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dición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Como estoy hoy d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27664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Análisis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: Como me gustaría estar, cuanto soy capaz de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55166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jora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Que tengo que hacer y como lo h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00360" y="1125360"/>
            <a:ext cx="295128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Datos de medi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5" name=""/>
          <p:cNvSpPr txBox="1"/>
          <p:nvPr/>
        </p:nvSpPr>
        <p:spPr>
          <a:xfrm rot="6025800">
            <a:off x="5842440" y="3885480"/>
            <a:ext cx="2862000" cy="1666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Objetivos Calidad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6" name=""/>
          <p:cNvSpPr txBox="1"/>
          <p:nvPr/>
        </p:nvSpPr>
        <p:spPr>
          <a:xfrm rot="14608200">
            <a:off x="554400" y="3629160"/>
            <a:ext cx="2992680" cy="21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Plan y ejecu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3284640"/>
            <a:ext cx="295272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Eras Medium ITC"/>
              </a:rPr>
              <a:t>MEJORA CONTIN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69" name=""/>
          <p:cNvSpPr/>
          <p:nvPr/>
        </p:nvSpPr>
        <p:spPr>
          <a:xfrm>
            <a:off x="828720" y="1627200"/>
            <a:ext cx="3024000" cy="82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Mejora continu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17002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685960"/>
            <a:ext cx="2665440" cy="100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400356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5083200"/>
            <a:ext cx="2665440" cy="398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3"/>
            <a:endCxn id="270" idx="1"/>
          </p:cNvCxnSpPr>
          <p:nvPr/>
        </p:nvCxnSpPr>
        <p:spPr>
          <a:xfrm>
            <a:off x="3852720" y="2043000"/>
            <a:ext cx="1440360" cy="13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71" idx="1"/>
          </p:cNvCxnSpPr>
          <p:nvPr/>
        </p:nvCxnSpPr>
        <p:spPr>
          <a:xfrm>
            <a:off x="3852720" y="2042640"/>
            <a:ext cx="1440360" cy="11516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2" idx="1"/>
          </p:cNvCxnSpPr>
          <p:nvPr/>
        </p:nvCxnSpPr>
        <p:spPr>
          <a:xfrm>
            <a:off x="3852720" y="2042640"/>
            <a:ext cx="1440360" cy="2164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9" idx="3"/>
            <a:endCxn id="273" idx="1"/>
          </p:cNvCxnSpPr>
          <p:nvPr/>
        </p:nvCxnSpPr>
        <p:spPr>
          <a:xfrm>
            <a:off x="3852720" y="2042640"/>
            <a:ext cx="1440360" cy="32439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372960" y="13780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3708360" y="13780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3708360" y="24922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Auditori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3708360" y="357336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494172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78" idx="3"/>
            <a:endCxn id="279" idx="1"/>
          </p:cNvCxnSpPr>
          <p:nvPr/>
        </p:nvCxnSpPr>
        <p:spPr>
          <a:xfrm>
            <a:off x="3038040" y="1733040"/>
            <a:ext cx="670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38040" y="1733040"/>
            <a:ext cx="670680" cy="963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81" idx="1"/>
          </p:cNvCxnSpPr>
          <p:nvPr/>
        </p:nvCxnSpPr>
        <p:spPr>
          <a:xfrm>
            <a:off x="3038040" y="1733040"/>
            <a:ext cx="670680" cy="2196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82" idx="1"/>
          </p:cNvCxnSpPr>
          <p:nvPr/>
        </p:nvCxnSpPr>
        <p:spPr>
          <a:xfrm>
            <a:off x="3038040" y="1733400"/>
            <a:ext cx="670680" cy="356472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53964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2: “Seguimiento y Medi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1340280"/>
            <a:ext cx="23828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cuesta de 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2459520"/>
            <a:ext cx="16556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lan de Audi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2492280"/>
            <a:ext cx="719280" cy="72072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0" idx="3"/>
            <a:endCxn id="290" idx="2"/>
          </p:cNvCxnSpPr>
          <p:nvPr/>
        </p:nvCxnSpPr>
        <p:spPr>
          <a:xfrm>
            <a:off x="5866920" y="2695680"/>
            <a:ext cx="28944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9" idx="3"/>
            <a:endCxn id="288" idx="1"/>
          </p:cNvCxnSpPr>
          <p:nvPr/>
        </p:nvCxnSpPr>
        <p:spPr>
          <a:xfrm>
            <a:off x="5867280" y="1733400"/>
            <a:ext cx="434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0" idx="6"/>
            <a:endCxn id="289" idx="1"/>
          </p:cNvCxnSpPr>
          <p:nvPr/>
        </p:nvCxnSpPr>
        <p:spPr>
          <a:xfrm>
            <a:off x="6875640" y="2852640"/>
            <a:ext cx="289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659640" y="3284640"/>
            <a:ext cx="2160360" cy="1584360"/>
          </a:xfrm>
          <a:prstGeom prst="cloudCallout">
            <a:avLst>
              <a:gd name="adj1" fmla="val -78212"/>
              <a:gd name="adj2" fmla="val -290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Cual es la capacidad de alcanzar resultados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4941720"/>
            <a:ext cx="2376360" cy="1224000"/>
          </a:xfrm>
          <a:prstGeom prst="cloudCallout">
            <a:avLst>
              <a:gd name="adj1" fmla="val -67166"/>
              <a:gd name="adj2" fmla="val -324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El producto cumple con los requisi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32720" y="227664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0000" y="2844720"/>
            <a:ext cx="2665440" cy="100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125360"/>
            <a:ext cx="3311640" cy="1413360"/>
          </a:xfrm>
          <a:prstGeom prst="cloudCallout">
            <a:avLst>
              <a:gd name="adj1" fmla="val -95583"/>
              <a:gd name="adj2" fmla="val 6548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eliminar la 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2924280"/>
            <a:ext cx="3772080" cy="1413360"/>
          </a:xfrm>
          <a:prstGeom prst="cloudCallout">
            <a:avLst>
              <a:gd name="adj1" fmla="val -81175"/>
              <a:gd name="adj2" fmla="val -1590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utorizando su uso, liberación y/o con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4797360"/>
            <a:ext cx="3427560" cy="1413360"/>
          </a:xfrm>
          <a:prstGeom prst="cloudCallout">
            <a:avLst>
              <a:gd name="adj1" fmla="val -86680"/>
              <a:gd name="adj2" fmla="val -11078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prevenir su uso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404640"/>
            <a:ext cx="8064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3: “Control de producto no Confor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924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1557360"/>
            <a:ext cx="266544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5734080"/>
            <a:ext cx="2232000" cy="574560"/>
          </a:xfrm>
          <a:prstGeom prst="wedgeRoundRectCallout">
            <a:avLst>
              <a:gd name="adj1" fmla="val -45875"/>
              <a:gd name="adj2" fmla="val -320995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aliz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4869000"/>
            <a:ext cx="2232000" cy="574560"/>
          </a:xfrm>
          <a:prstGeom prst="wedgeRoundRectCallout">
            <a:avLst>
              <a:gd name="adj1" fmla="val -80939"/>
              <a:gd name="adj2" fmla="val -22541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copil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4005360"/>
            <a:ext cx="2232000" cy="574560"/>
          </a:xfrm>
          <a:prstGeom prst="wedgeRoundRectCallout">
            <a:avLst>
              <a:gd name="adj1" fmla="val -89685"/>
              <a:gd name="adj2" fmla="val -11215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Determin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80000" y="587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Métodos estad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501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33360"/>
            <a:ext cx="8064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4: “Análisis de D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119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Dat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1119600"/>
            <a:ext cx="230508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2127960"/>
            <a:ext cx="229392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onformidad con l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128680"/>
            <a:ext cx="2222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endencia de los procesos y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14172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Hacer con ell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276720" y="148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3068640"/>
            <a:ext cx="863640" cy="2521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512280 h 2521080"/>
              <a:gd name="textAreaBottom" fmla="*/ 17103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2249269"/>
                <a:lnTo>
                  <a:pt x="10112" y="20579"/>
                </a:lnTo>
                <a:lnTo>
                  <a:pt x="0" y="18298"/>
                </a:lnTo>
                <a:lnTo>
                  <a:pt x="10112" y="13974"/>
                </a:lnTo>
                <a:lnTo>
                  <a:pt x="10112" y="16533"/>
                </a:lnTo>
                <a:arcTo wR="21600" hR="8777" stAng="2249269" swAng="-2130558"/>
                <a:lnTo>
                  <a:pt x="21522" y="9521"/>
                </a:lnTo>
                <a:arcTo wR="21600" hR="8777" stAng="-118711" swAng="-5281289"/>
                <a:close/>
              </a:path>
              <a:path fill="darkenLess"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-118711"/>
                <a:lnTo>
                  <a:pt x="21522" y="9521"/>
                </a:lnTo>
                <a:arcTo wR="21600" hR="8777" stAng="-118711" swAng="-528128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484280"/>
            <a:ext cx="2665440" cy="398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502080"/>
            <a:ext cx="230328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.1. Mejor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404640"/>
            <a:ext cx="8064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710520"/>
            <a:ext cx="147168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1910520"/>
            <a:ext cx="147132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bjetiv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2270880"/>
            <a:ext cx="159876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3423240"/>
            <a:ext cx="159840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93704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 y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475668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Rev. por l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1989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7672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27640" y="3141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4221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00360" y="4221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63640" y="3860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4724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4940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PROCESO DE DISEÑO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1223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Levantar la necesidad y el contexto de la necesidad</a:t>
            </a:r>
            <a:endParaRPr b="0" lang="en-US" sz="1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62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la necesidad “el problema a resolv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2560" y="1844640"/>
            <a:ext cx="12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el concepto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19700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1628640"/>
            <a:ext cx="136872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600200"/>
            <a:ext cx="122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Analizar y generar alternativas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99280" y="116856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4200" y="160020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773360"/>
            <a:ext cx="1224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elección de la altern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5240" y="113976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80160" y="157176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1973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8160" y="19303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576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840" y="3341520"/>
            <a:ext cx="1224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valuar factibilidad y solucionar los problemas téc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148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3568680"/>
            <a:ext cx="122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sarrollar un  Proto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312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840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38760" y="3352680"/>
            <a:ext cx="12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ometer a control y evaluar la capacidad de cumpl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43480" y="290988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876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83120" y="3568680"/>
            <a:ext cx="122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Congelar 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5120" y="288144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0" y="331308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3480" y="3568680"/>
            <a:ext cx="122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ntrega a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85264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328464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06400" y="37018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6860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6432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21600" y="3629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920" y="3314880"/>
            <a:ext cx="1368360" cy="1117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501336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¿Donde gastarías la plata de tu empresa de Dise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66100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Medium ITC"/>
              </a:rPr>
              <a:t>Elegir una de las etapas del proceso y diseñar una herramienta para su control (tarea en pare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9640" y="333360"/>
            <a:ext cx="806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1197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2 Acción corre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La organización debe tomar acciones para </a:t>
            </a:r>
            <a:r>
              <a:rPr b="0" i="1" lang="en-US" sz="1600" spc="-1" strike="noStrike">
                <a:solidFill>
                  <a:srgbClr val="000000"/>
                </a:solidFill>
                <a:latin typeface="Eras Medium ITC"/>
              </a:rPr>
              <a:t>eliminar la causa de no conformidades,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con objeto de prevenir que vuelva a presentarse dicha no conformidad. Las acciones correctivas deben ser apropiadas a los efectos de la no conformidad enco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8840" y="414972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400" y="4292640"/>
            <a:ext cx="20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427680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7720" y="434484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21320" y="432576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9400" y="472608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746600"/>
            <a:ext cx="1800000" cy="1274760"/>
          </a:xfrm>
          <a:prstGeom prst="upArrowCallout">
            <a:avLst>
              <a:gd name="adj1" fmla="val 35304"/>
              <a:gd name="adj2" fmla="val 35301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Inmedi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63760" y="3213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5200" y="3279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20720" y="1268280"/>
            <a:ext cx="7313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3 Acción Preventi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organización debe tomar acciones para eliminar las causas de no conformidades potenciales para prevenir su ocurrencia. Las acciones preventivas deben ser apropiadas a los efectos de los problema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3760" y="4365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450864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6560" y="449280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2640" y="45608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5417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53960" y="494172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38320" y="3429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79760" y="3495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3360"/>
            <a:ext cx="694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Gestión de calidad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Norma: Conjunto de requisitos cuyo cumplimiento se da por elección individual de la empresa con algún objetiv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92280"/>
            <a:ext cx="820728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: International Standaring Organization (Fundada en 1946, 91 paises, 180 comi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Eras Medium ITC"/>
              </a:rPr>
              <a:t>Misión: Desarrollar y promocionar estandares comunes de manufactura, comercio y comunicaciónen forma mundial para favorecer el intercambio internacional de bienes y 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2640" y="422100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9001-2000: Serie 9000, primera parte, año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98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 9001-2000: Conjunto de requisitos para asegurar los proceso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1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1ra parte “Responsabilidad, documentos y recursos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 Sistema de gestión de la calidad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generale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de la document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Responsabilidad de la dirección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ompromiso de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Enfoque al cliente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olítica de la calidad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5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sponsabilidad, autoridad y comun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6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visión por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Gestión de los recursos 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rovisión de recurso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Ambiente de trabajo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1557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628640"/>
            <a:ext cx="2737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Docu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35772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141300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1916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2da parte “Producción y Mejora”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Realización del product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del product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cesos relacionados con el client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Diseño y desarroll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ducción y prestación del servicio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6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 los dispositivos de seguimiento y de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edición, análisis y mejora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guimiento y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l producto no conform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Mejora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3124080" y="2341440"/>
            <a:ext cx="3181320" cy="1724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65040" y="3111480"/>
            <a:ext cx="24656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1228680" y="1311120"/>
            <a:ext cx="236376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Relación con el Cliente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5133960" y="1212840"/>
            <a:ext cx="27068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Diseño y Desarrollo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6788160" y="3341520"/>
            <a:ext cx="1968480" cy="40788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mpras 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16240" y="4808520"/>
            <a:ext cx="3097080" cy="131940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ntrol de Dispositivos de Seguimiento y Medición (Instrumentos) 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02392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1916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00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8800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7" action="ppaction://hlinksldjump"/>
          </p:cNvPr>
          <p:cNvSpPr/>
          <p:nvPr/>
        </p:nvSpPr>
        <p:spPr>
          <a:xfrm>
            <a:off x="7308720" y="5445000"/>
            <a:ext cx="1511280" cy="863640"/>
          </a:xfrm>
          <a:prstGeom prst="rightArrow">
            <a:avLst>
              <a:gd name="adj1" fmla="val 50000"/>
              <a:gd name="adj2" fmla="val 4374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1: Planificación de la 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781360"/>
            <a:ext cx="208764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643040" y="34513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lanificación</a:t>
            </a:r>
            <a:r>
              <a:rPr b="1" lang="en-US" sz="2400" spc="-1" strike="noStrike">
                <a:solidFill>
                  <a:srgbClr val="666699"/>
                </a:solidFill>
                <a:latin typeface="Eras Medium ITC"/>
              </a:rPr>
              <a:t>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917720"/>
            <a:ext cx="5102280" cy="3512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Se deben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quisitos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necesidad de recursos o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s actividades de verificación, validación, seguimiento y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gistros que dan evidencia del cumpl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do esto debe ser plasmado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LAN DE PRODUCCIÓN o PLAN DE CAL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871640" cy="158436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301680"/>
            <a:ext cx="831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2: “Procesos relacionados con el Cli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unicación con el Cliente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052640"/>
            <a:ext cx="5329080" cy="19688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Determin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actividades de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no especificados pero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tr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143160"/>
            <a:ext cx="5329080" cy="1637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Revis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én defi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la organización tenga la 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án resueltas las dif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4869000"/>
            <a:ext cx="5307120" cy="1580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Velar por la eficacia de la comunicación con el cl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las consultas, atención en general y pe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sus reclamos o felic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68144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3.”Diseño y Desarroll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Diseño y Desarrollo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05264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bo planificar el Diseño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 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 revisión, verificación y va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 autoridades para val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34936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 empezar a diseñar debo te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legales y reglament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ción de diseñ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645000"/>
            <a:ext cx="5329080" cy="19497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ando termine el diseño debo tener seguridad y evide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umplo los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tengo información para comprar, producir y prestar 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onozco como se tiene que usar para hacer un instr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508640"/>
            <a:ext cx="1439640" cy="1584360"/>
          </a:xfrm>
          <a:prstGeom prst="flowChartMulti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5689440"/>
            <a:ext cx="5329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DA VEZ QUE HAGA UN CAMBIO AL DISEÑO DEBO VALIDARLO, AUTORIZARLO Y FOMALIZ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39:43Z</dcterms:created>
  <dc:creator>Chanchis</dc:creator>
  <dc:description/>
  <dc:language>en-US</dc:language>
  <cp:lastModifiedBy>chanchis</cp:lastModifiedBy>
  <dcterms:modified xsi:type="dcterms:W3CDTF">2008-09-21T17:17:45Z</dcterms:modified>
  <cp:revision>29</cp:revision>
  <dc:subject/>
  <dc:title>CALIDAD Y DISEÑO</dc:title>
</cp:coreProperties>
</file>