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379-DBC2-44C2-9705-FE792D0E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FD3-AF87-4794-9580-4EC68A61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8EC-A218-48D9-8B99-3E81A493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2BB-A95B-4DAF-95E1-1F9A1B32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980-373A-469B-8F35-3334069B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DBE-DA16-411E-9BEB-AA9C9267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DB5-B429-4DE4-9125-FFD63EB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0BD-7E86-4A58-BD6D-4CB340B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FE1-C140-41FA-85ED-84403EC1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566-6254-4C84-91A1-D996A49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8A5-CD26-40E0-A808-5B525DB8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0F3-88EE-4B65-9D8B-A07A79F4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7C0-C7B9-406B-858E-F35B9D2E34F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29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5831" t="14383" r="0" b="126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19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8763120" cy="0"/>
          </a:xfrm>
          <a:prstGeom prst="line">
            <a:avLst/>
          </a:prstGeom>
          <a:ln w="38160">
            <a:solidFill>
              <a:srgbClr val="ed3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657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3d11"/>
                </a:solidFill>
                <a:latin typeface="Times New Roman"/>
              </a:rPr>
              <a:t>nivel 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478200" y="4267080"/>
            <a:ext cx="13831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9880" y="4267080"/>
            <a:ext cx="297432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F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450864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4000" y="5791320"/>
            <a:ext cx="2006640" cy="45972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EÑ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572000" y="4965120"/>
            <a:ext cx="1143000" cy="3812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0800" y="3289320"/>
            <a:ext cx="1524960" cy="520200"/>
          </a:xfrm>
          <a:prstGeom prst="rect">
            <a:avLst/>
          </a:prstGeom>
          <a:solidFill>
            <a:srgbClr val="ed3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LA MEJ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876560" y="397476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962160" y="2285640"/>
            <a:ext cx="106668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1920" y="175248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5920" y="13716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8760" y="176544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05520" y="1752480"/>
            <a:ext cx="75960" cy="138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86400" y="222264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0920" y="228600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438280" y="2743200"/>
            <a:ext cx="1828800" cy="85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3040" y="457200"/>
            <a:ext cx="3129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a competi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00200" y="838080"/>
            <a:ext cx="1371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505320" y="9903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05160" y="9907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6324120" y="1066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34320" y="457200"/>
            <a:ext cx="2184840" cy="459720"/>
          </a:xfrm>
          <a:prstGeom prst="rect">
            <a:avLst/>
          </a:prstGeom>
          <a:solidFill>
            <a:srgbClr val="fde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3 PREG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2480"/>
            <a:ext cx="8153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en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 dirección va la mejor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¿por qu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¿qué dice el cliente?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(el mipyme, que opina de esta asesoría, que opina del diseño, e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4:49:14Z</dcterms:created>
  <dc:creator>felix maldonado</dc:creator>
  <dc:description/>
  <dc:language>en-US</dc:language>
  <cp:lastModifiedBy>Félix Maldonado</cp:lastModifiedBy>
  <dcterms:modified xsi:type="dcterms:W3CDTF">2008-12-05T01:08:05Z</dcterms:modified>
  <cp:revision>6</cp:revision>
  <dc:subject/>
  <dc:title>PowerPoint Presentation</dc:title>
</cp:coreProperties>
</file>