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365-7052-4EA0-9F9B-B9A0F540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906-31E1-41BA-9801-7B97DBBC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0B1-F4F1-4E84-AFA7-2994BE8D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A08-A445-4C8F-A74C-2CF2141E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E07-1E60-40B2-8625-D7B11D9F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DD3-3675-4B7B-B06F-80DF4053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592-9148-40BA-B0C1-121BA94E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6E4-870C-4327-90F0-085CB5E6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716-DAE1-4AF0-8C7F-CB74DA09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392-BA01-42DE-8A92-0E7E9E6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116-5D4F-4FC1-B486-91E340AC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2AA-67D4-49A5-B14C-DC5E597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F533-2DA2-481C-B288-FAF8E36706E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5831" t="14383" r="0" b="1268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ed3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3d11"/>
                </a:solidFill>
                <a:latin typeface="Times New Roman"/>
              </a:rPr>
              <a:t>nivel estu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91120"/>
            <a:ext cx="8763120" cy="0"/>
          </a:xfrm>
          <a:prstGeom prst="line">
            <a:avLst/>
          </a:prstGeom>
          <a:ln w="38160">
            <a:solidFill>
              <a:srgbClr val="ed3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657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3d11"/>
                </a:solidFill>
                <a:latin typeface="Times New Roman"/>
              </a:rPr>
              <a:t>niv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3d11"/>
                </a:solidFill>
                <a:latin typeface="Times New Roman"/>
              </a:rPr>
              <a:t>nivel diseñ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478200" y="4267080"/>
            <a:ext cx="1383120" cy="45972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P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9880" y="4267080"/>
            <a:ext cx="2974320" cy="45972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FORM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4508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4000" y="5791320"/>
            <a:ext cx="2006640" cy="45972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EÑ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572000" y="4965120"/>
            <a:ext cx="1143000" cy="3812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0800" y="3289320"/>
            <a:ext cx="1524960" cy="52020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LA MEJ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876560" y="397476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160" y="2285640"/>
            <a:ext cx="106668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71920" y="17524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5920" y="13716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8760" y="17654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05520" y="1752480"/>
            <a:ext cx="75960" cy="138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86400" y="2222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0920" y="22860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438280" y="2743200"/>
            <a:ext cx="182880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3040" y="457200"/>
            <a:ext cx="3129840" cy="459720"/>
          </a:xfrm>
          <a:prstGeom prst="rect">
            <a:avLst/>
          </a:prstGeom>
          <a:solidFill>
            <a:srgbClr val="fde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ra competi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00200" y="838080"/>
            <a:ext cx="1371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05320" y="9903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05160" y="9907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24120" y="10663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34320" y="457200"/>
            <a:ext cx="2184840" cy="459720"/>
          </a:xfrm>
          <a:prstGeom prst="rect">
            <a:avLst/>
          </a:prstGeom>
          <a:solidFill>
            <a:srgbClr val="fde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 PREGU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2480"/>
            <a:ext cx="8153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¿en qu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 dirección va la mej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¿por qu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¿qué dice el cliente?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el mipyme, que opina de esta asesoría, que opina del diseño, e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4:49:14Z</dcterms:created>
  <dc:creator>felix maldonado</dc:creator>
  <dc:description/>
  <dc:language>en-US</dc:language>
  <cp:lastModifiedBy>Félix Maldonado</cp:lastModifiedBy>
  <dcterms:modified xsi:type="dcterms:W3CDTF">2008-12-05T01:08:05Z</dcterms:modified>
  <cp:revision>6</cp:revision>
  <dc:subject/>
  <dc:title>PowerPoint Presentation</dc:title>
</cp:coreProperties>
</file>