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DBB-AB3E-4497-9470-B5AD1900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8CC-68AC-4C32-96A9-FE789E61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2A7-DFB8-4A79-AD8E-89ACC62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95B-F7E0-47D9-8AE6-C3B6124F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C48-3AA3-48CC-A6E8-2DF74C7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619-1C56-4A0C-B67E-5EACF9E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F99-0743-4691-AE91-50D56E8C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BCA-50B5-4FCA-BB66-47B0491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44B-F71A-4117-8F5A-2B44B74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3AC-A3D9-4B88-A70A-E3DD678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776-1ACF-4C0D-921B-6800857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698-D401-466E-A825-21C33B9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5D6D-0376-4354-9390-A768C5485B4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831" t="14383" r="0" b="126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78200" y="4267080"/>
            <a:ext cx="13831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9880" y="4267080"/>
            <a:ext cx="29743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50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4000" y="5791320"/>
            <a:ext cx="200664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572000" y="496512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800" y="3289320"/>
            <a:ext cx="1524960" cy="52020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 MEJ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876560" y="3974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160" y="2285640"/>
            <a:ext cx="106668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1920" y="1752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920" y="13716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8760" y="17654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05520" y="1752480"/>
            <a:ext cx="75960" cy="138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86400" y="2222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920" y="22860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438280" y="2743200"/>
            <a:ext cx="182880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3040" y="457200"/>
            <a:ext cx="3129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a competi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00200" y="83808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05320" y="9903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05160" y="990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24120" y="1066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34320" y="457200"/>
            <a:ext cx="2184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 PRE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24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en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 dirección va la mej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por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¿qué dice el cliente?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el mipyme, que opina de esta asesoría, que opina del diseño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4:49:14Z</dcterms:created>
  <dc:creator>felix maldonado</dc:creator>
  <dc:description/>
  <dc:language>en-US</dc:language>
  <cp:lastModifiedBy>Félix Maldonado</cp:lastModifiedBy>
  <dcterms:modified xsi:type="dcterms:W3CDTF">2008-12-05T01:08:05Z</dcterms:modified>
  <cp:revision>6</cp:revision>
  <dc:subject/>
  <dc:title>PowerPoint Presentation</dc:title>
</cp:coreProperties>
</file>