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D0C-F0D9-4CD9-8554-6C7C64B4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9E4-E05A-4FFB-B1FC-9DEAC8E3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E1E-0698-43F7-8089-8E176273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516-13E0-4D02-8622-4BC7CD5D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F3C-3F3E-4EA1-9BA4-EE33E61D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0EE-E87C-4151-9CC7-50DC064A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706-1DAB-4BA1-854B-0A881DCF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5D1-5C0D-4D25-B958-7D1BB7DD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5AC-71BF-4015-B4EC-0F2602B4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F28-CB0C-4370-B527-69E6D957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271-3981-445A-BA9D-6F6209B9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E61-4262-43DF-B59A-0C9A30C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2841-C0CC-4231-AF1A-BFC9106C577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EA POR GRU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NTREGA PROXIMA SE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NGA NOMBRE A SU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A SU MISION Y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BA LAS PRINCIPALES HABILIDADES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UMERE ROLES Y RESPONS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ador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derman / Render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os y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egado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dor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2:44:12Z</dcterms:created>
  <dc:creator>Félix Maldonado</dc:creator>
  <dc:description/>
  <dc:language>en-US</dc:language>
  <cp:lastModifiedBy>Félix Maldonado</cp:lastModifiedBy>
  <dcterms:modified xsi:type="dcterms:W3CDTF">2008-10-15T12:50:35Z</dcterms:modified>
  <cp:revision>1</cp:revision>
  <dc:subject/>
  <dc:title>TAREA POR GRUPO</dc:title>
</cp:coreProperties>
</file>