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F47-59A1-42B3-A1EE-6159E2DC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3D2-EE10-4C50-A9AF-3F1DF99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ED1-621C-4717-A99D-C632C07F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EE9-E6F3-4C95-9B97-B86E9FB2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88A-0362-43D9-AE0B-AD1D678F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40E-C891-4557-8A4C-89924AB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3B8-B7C5-4E4A-BF91-1A68700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D1F-C7BB-4215-BDB0-AC9990DF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093-6C98-4C0C-8576-3F3C0D5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C02-36FE-4047-AC75-BF4D368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7BB-1025-4F47-A0E2-CA41E41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E42-4E2B-4696-8EC2-43CE41D0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0B9-5371-4494-96D6-666805201E8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POR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NTREGA PROXIMA SE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GA NOMBRE A SU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A SU MISION Y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BA LAS PRINCIPALES HABILIDADES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UMERE ROLES Y RESPONS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dor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erman / Render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s y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egado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dor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44:12Z</dcterms:created>
  <dc:creator>Félix Maldonado</dc:creator>
  <dc:description/>
  <dc:language>en-US</dc:language>
  <cp:lastModifiedBy>Félix Maldonado</cp:lastModifiedBy>
  <dcterms:modified xsi:type="dcterms:W3CDTF">2008-10-15T12:50:35Z</dcterms:modified>
  <cp:revision>1</cp:revision>
  <dc:subject/>
  <dc:title>TAREA POR GRUPO</dc:title>
</cp:coreProperties>
</file>