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799763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370C-22BB-43EA-BE45-7C03B935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97218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3122280"/>
            <a:ext cx="97218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323-57A2-46F0-B293-9F099D18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312228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312228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86E-B986-4BA9-A506-A1FBFBA2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26036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26036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312228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312228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312228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C0DD-2880-4142-A806-08ABB7DC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260360"/>
            <a:ext cx="97218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892-C0D3-4CA2-AEDA-5350F9C4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972180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013-558D-48D1-B48D-0A1F7349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1BB-F5A0-4B00-BC1E-5D7059D4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B832-3FCD-4DE7-B7E2-3AFAB143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16000"/>
            <a:ext cx="97218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8C5F-B145-48CF-947E-10A1DBF8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312228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2D8-2AF3-4CC0-8DA4-C4F94ED9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312228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CD0-748B-445F-9348-D047C0AC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3122280"/>
            <a:ext cx="97218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1C15-E82F-4BD6-B3B8-46D7611E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260360"/>
            <a:ext cx="972180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83000"/>
          </a:bodyPr>
          <a:p>
            <a:pPr marL="286920" indent="-2869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62316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959040" indent="-1908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3" marL="1343880" indent="-1908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4" marL="1728720" indent="-191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5" marL="1728720" indent="-191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6" marL="1728720" indent="-191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5005440"/>
            <a:ext cx="2521080" cy="287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5005440"/>
            <a:ext cx="3419280" cy="287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5005440"/>
            <a:ext cx="2520720" cy="287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DEFCF2E-984D-4E6E-B895-196D8ACB3C8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Imagen" descr="medidas.jpg"/>
          <p:cNvPicPr/>
          <p:nvPr/>
        </p:nvPicPr>
        <p:blipFill>
          <a:blip r:embed="rId1"/>
          <a:srcRect l="9657" t="2427" r="8332" b="2427"/>
          <a:stretch/>
        </p:blipFill>
        <p:spPr>
          <a:xfrm>
            <a:off x="58680" y="1771560"/>
            <a:ext cx="10580760" cy="3071880"/>
          </a:xfrm>
          <a:prstGeom prst="rect">
            <a:avLst/>
          </a:prstGeom>
          <a:ln w="0">
            <a:noFill/>
          </a:ln>
        </p:spPr>
      </p:pic>
      <p:sp>
        <p:nvSpPr>
          <p:cNvPr id="42" name="4 CuadroTexto"/>
          <p:cNvSpPr/>
          <p:nvPr/>
        </p:nvSpPr>
        <p:spPr>
          <a:xfrm>
            <a:off x="328680" y="70020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IGDT"/>
                <a:ea typeface="AIGDT"/>
              </a:rPr>
              <a:t>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Jessica\Mis documentos\Universidad\Taller\puentes\076-03.jpg"/>
          <p:cNvPicPr/>
          <p:nvPr/>
        </p:nvPicPr>
        <p:blipFill>
          <a:blip r:embed="rId1"/>
          <a:stretch/>
        </p:blipFill>
        <p:spPr>
          <a:xfrm>
            <a:off x="8186760" y="4414680"/>
            <a:ext cx="1932120" cy="785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Jessica\Mis documentos\Universidad\Taller\puentes\076-06.jpg"/>
          <p:cNvPicPr/>
          <p:nvPr/>
        </p:nvPicPr>
        <p:blipFill>
          <a:blip r:embed="rId2"/>
          <a:stretch/>
        </p:blipFill>
        <p:spPr>
          <a:xfrm>
            <a:off x="0" y="3843360"/>
            <a:ext cx="1967040" cy="13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Documents and Settings\Jessica\Mis documentos\Universidad\Taller\puentes\076-09.jpg"/>
          <p:cNvPicPr/>
          <p:nvPr/>
        </p:nvPicPr>
        <p:blipFill>
          <a:blip r:embed="rId3"/>
          <a:stretch/>
        </p:blipFill>
        <p:spPr>
          <a:xfrm>
            <a:off x="4900680" y="4343400"/>
            <a:ext cx="2954160" cy="89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Documents and Settings\Jessica\Mis documentos\Universidad\Taller\puentes\076-15.jpg"/>
          <p:cNvPicPr/>
          <p:nvPr/>
        </p:nvPicPr>
        <p:blipFill>
          <a:blip r:embed="rId4"/>
          <a:stretch/>
        </p:blipFill>
        <p:spPr>
          <a:xfrm>
            <a:off x="114480" y="200160"/>
            <a:ext cx="2189160" cy="150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Documents and Settings\Jessica\Mis documentos\Universidad\Taller\puentes\076-08.jpg"/>
          <p:cNvPicPr/>
          <p:nvPr/>
        </p:nvPicPr>
        <p:blipFill>
          <a:blip r:embed="rId5"/>
          <a:stretch/>
        </p:blipFill>
        <p:spPr>
          <a:xfrm>
            <a:off x="114480" y="1852560"/>
            <a:ext cx="2143080" cy="1847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Documents and Settings\Jessica\Mis documentos\Universidad\Taller\puentes\68.jpg"/>
          <p:cNvPicPr/>
          <p:nvPr/>
        </p:nvPicPr>
        <p:blipFill>
          <a:blip r:embed="rId6"/>
          <a:stretch/>
        </p:blipFill>
        <p:spPr>
          <a:xfrm>
            <a:off x="6900840" y="0"/>
            <a:ext cx="3911760" cy="240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:\Documents and Settings\Jessica\Mis documentos\Universidad\Taller\puentes\076-07.jpg"/>
          <p:cNvPicPr/>
          <p:nvPr/>
        </p:nvPicPr>
        <p:blipFill>
          <a:blip r:embed="rId7"/>
          <a:stretch/>
        </p:blipFill>
        <p:spPr>
          <a:xfrm>
            <a:off x="2328840" y="485640"/>
            <a:ext cx="2535120" cy="158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C:\Documents and Settings\Jessica\Mis documentos\Universidad\Taller\puentes\076-010.jpg"/>
          <p:cNvPicPr/>
          <p:nvPr/>
        </p:nvPicPr>
        <p:blipFill>
          <a:blip r:embed="rId8"/>
          <a:stretch/>
        </p:blipFill>
        <p:spPr>
          <a:xfrm>
            <a:off x="3471840" y="2057400"/>
            <a:ext cx="2401920" cy="158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Documents and Settings\Jessica\Mis documentos\Universidad\Taller\puentes\076-11.jpg"/>
          <p:cNvPicPr/>
          <p:nvPr/>
        </p:nvPicPr>
        <p:blipFill>
          <a:blip r:embed="rId9"/>
          <a:stretch/>
        </p:blipFill>
        <p:spPr>
          <a:xfrm>
            <a:off x="6900840" y="2343240"/>
            <a:ext cx="3900600" cy="189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Documents and Settings\Jessica\Mis documentos\Universidad\Taller\puentes\076-02.jpg"/>
          <p:cNvPicPr/>
          <p:nvPr/>
        </p:nvPicPr>
        <p:blipFill>
          <a:blip r:embed="rId10"/>
          <a:stretch/>
        </p:blipFill>
        <p:spPr>
          <a:xfrm>
            <a:off x="2328840" y="3629160"/>
            <a:ext cx="2093760" cy="1546200"/>
          </a:xfrm>
          <a:prstGeom prst="rect">
            <a:avLst/>
          </a:prstGeom>
          <a:ln w="0">
            <a:noFill/>
          </a:ln>
        </p:spPr>
      </p:pic>
      <p:sp>
        <p:nvSpPr>
          <p:cNvPr id="53" name="13 CuadroTexto"/>
          <p:cNvSpPr/>
          <p:nvPr/>
        </p:nvSpPr>
        <p:spPr>
          <a:xfrm>
            <a:off x="4900680" y="557280"/>
            <a:ext cx="1928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Pasarela peatonal en Petrer (Españ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Carme Pinó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Jessica\Mis documentos\Universidad\Taller\puentes\71.jpg"/>
          <p:cNvPicPr/>
          <p:nvPr/>
        </p:nvPicPr>
        <p:blipFill>
          <a:blip r:embed="rId1"/>
          <a:stretch/>
        </p:blipFill>
        <p:spPr>
          <a:xfrm>
            <a:off x="0" y="2809800"/>
            <a:ext cx="4089240" cy="259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Jessica\Mis documentos\Universidad\Taller\puentes\Image30.jpg"/>
          <p:cNvPicPr/>
          <p:nvPr/>
        </p:nvPicPr>
        <p:blipFill>
          <a:blip r:embed="rId2"/>
          <a:stretch/>
        </p:blipFill>
        <p:spPr>
          <a:xfrm>
            <a:off x="5910120" y="2021040"/>
            <a:ext cx="4891320" cy="3379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Jessica\Mis documentos\Universidad\Taller\puentes\passerelle solferino.jpg"/>
          <p:cNvPicPr/>
          <p:nvPr/>
        </p:nvPicPr>
        <p:blipFill>
          <a:blip r:embed="rId3"/>
          <a:stretch/>
        </p:blipFill>
        <p:spPr>
          <a:xfrm>
            <a:off x="0" y="0"/>
            <a:ext cx="10801440" cy="2021040"/>
          </a:xfrm>
          <a:prstGeom prst="rect">
            <a:avLst/>
          </a:prstGeom>
          <a:ln w="0">
            <a:noFill/>
          </a:ln>
        </p:spPr>
      </p:pic>
      <p:sp>
        <p:nvSpPr>
          <p:cNvPr id="57" name="13 CuadroTexto"/>
          <p:cNvSpPr/>
          <p:nvPr/>
        </p:nvSpPr>
        <p:spPr>
          <a:xfrm>
            <a:off x="0" y="2052720"/>
            <a:ext cx="3887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Passerelle Solferino (París, Franci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Marc Mim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6000" y="179280"/>
            <a:ext cx="3379680" cy="5042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21640" y="108000"/>
            <a:ext cx="3835080" cy="5113440"/>
          </a:xfrm>
          <a:prstGeom prst="rect">
            <a:avLst/>
          </a:prstGeom>
          <a:ln w="0">
            <a:noFill/>
          </a:ln>
        </p:spPr>
      </p:pic>
      <p:sp>
        <p:nvSpPr>
          <p:cNvPr id="60" name="13 CuadroTexto"/>
          <p:cNvSpPr/>
          <p:nvPr/>
        </p:nvSpPr>
        <p:spPr>
          <a:xfrm>
            <a:off x="3529080" y="252360"/>
            <a:ext cx="194292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Rambla de Mar  Barcellon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Viaplana - Pi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13 CuadroTexto"/>
          <p:cNvSpPr/>
          <p:nvPr/>
        </p:nvSpPr>
        <p:spPr>
          <a:xfrm>
            <a:off x="5184720" y="3852720"/>
            <a:ext cx="38880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MilleniumBridg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Lond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Ove Arup &amp; Part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6000" y="179280"/>
            <a:ext cx="6192720" cy="5027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101000" y="0"/>
            <a:ext cx="3597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3938760" cy="504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832360" y="108000"/>
            <a:ext cx="4824360" cy="245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0" t="0" r="1492" b="0"/>
          <a:stretch/>
        </p:blipFill>
        <p:spPr>
          <a:xfrm>
            <a:off x="5829480" y="2844720"/>
            <a:ext cx="482724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6:35Z</dcterms:created>
  <dc:creator> </dc:creator>
  <dc:description/>
  <dc:language>en-US</dc:language>
  <cp:lastModifiedBy>C Saldaña</cp:lastModifiedBy>
  <dcterms:modified xsi:type="dcterms:W3CDTF">2007-05-08T21:09:43Z</dcterms:modified>
  <cp:revision>4</cp:revision>
  <dc:subject/>
  <dc:title>Diapositiva 1</dc:title>
</cp:coreProperties>
</file>