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799763" cy="5400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A482-C81A-4DBB-87A2-7E3FA9CDF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216000"/>
            <a:ext cx="9721800" cy="900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260360"/>
            <a:ext cx="9721800" cy="1699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280" y="3122280"/>
            <a:ext cx="9721800" cy="1699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AAF7-172F-4639-A598-413C3D0CF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216000"/>
            <a:ext cx="9721800" cy="900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1260360"/>
            <a:ext cx="4744080" cy="1699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20960" y="1260360"/>
            <a:ext cx="4744080" cy="1699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280" y="3122280"/>
            <a:ext cx="4744080" cy="1699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20960" y="3122280"/>
            <a:ext cx="4744080" cy="1699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F5D7-6A4D-4813-B16F-9A9B6264A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216000"/>
            <a:ext cx="9721800" cy="900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280" y="1260360"/>
            <a:ext cx="3130200" cy="1699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6440" y="1260360"/>
            <a:ext cx="3130200" cy="1699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13600" y="1260360"/>
            <a:ext cx="3130200" cy="1699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280" y="3122280"/>
            <a:ext cx="3130200" cy="1699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6440" y="3122280"/>
            <a:ext cx="3130200" cy="1699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13600" y="3122280"/>
            <a:ext cx="3130200" cy="1699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0856-4B50-448E-B080-9ACA30C35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216000"/>
            <a:ext cx="9721800" cy="900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280" y="1260360"/>
            <a:ext cx="972180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472E-C449-4942-872A-BE7B20101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216000"/>
            <a:ext cx="9721800" cy="900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280" y="1260360"/>
            <a:ext cx="9721800" cy="3564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D082-BDFE-4846-9608-46316A76D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216000"/>
            <a:ext cx="9721800" cy="900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280" y="1260360"/>
            <a:ext cx="4744080" cy="3564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20960" y="1260360"/>
            <a:ext cx="4744080" cy="3564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7CA5-16CB-4ACD-AF89-937A3470C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216000"/>
            <a:ext cx="9721800" cy="900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4801-885B-4457-972B-11801ABDF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216000"/>
            <a:ext cx="97218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75F1-0D94-4BB2-AC65-64717DB06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216000"/>
            <a:ext cx="9721800" cy="900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280" y="1260360"/>
            <a:ext cx="4744080" cy="1699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20960" y="1260360"/>
            <a:ext cx="4744080" cy="3564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280" y="3122280"/>
            <a:ext cx="4744080" cy="1699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9DC4-B2BF-484F-98E7-60800720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216000"/>
            <a:ext cx="9721800" cy="900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280" y="1260360"/>
            <a:ext cx="4744080" cy="3564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20960" y="1260360"/>
            <a:ext cx="4744080" cy="1699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20960" y="3122280"/>
            <a:ext cx="4744080" cy="1699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8C22-7A15-4B63-BF51-6BB7EBA5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216000"/>
            <a:ext cx="9721800" cy="900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280" y="1260360"/>
            <a:ext cx="4744080" cy="1699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20960" y="1260360"/>
            <a:ext cx="4744080" cy="1699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280" y="3122280"/>
            <a:ext cx="9721800" cy="1699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EB94-A9FA-4FF7-BC1F-F8507D0B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216000"/>
            <a:ext cx="9721800" cy="900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260360"/>
            <a:ext cx="9721800" cy="3564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83000"/>
          </a:bodyPr>
          <a:p>
            <a:pPr marL="286920" indent="-2869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623160" indent="-23976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2" marL="959040" indent="-1908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3" marL="1343880" indent="-19080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4" marL="1728720" indent="-19116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5" marL="1728720" indent="-19116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6" marL="1728720" indent="-19116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280" y="5005440"/>
            <a:ext cx="2521080" cy="287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ctr">
            <a:noAutofit/>
          </a:bodyPr>
          <a:lstStyle>
            <a:lvl1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91080" y="5005440"/>
            <a:ext cx="3419280" cy="287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ctr">
            <a:noAutofit/>
          </a:bodyPr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40720" y="5005440"/>
            <a:ext cx="2520720" cy="287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ctr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11E815A3-0884-4640-ADE8-B390BF59FFB9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 Imagen" descr="medidas.jpg"/>
          <p:cNvPicPr/>
          <p:nvPr/>
        </p:nvPicPr>
        <p:blipFill>
          <a:blip r:embed="rId1"/>
          <a:srcRect l="9657" t="2427" r="8332" b="2427"/>
          <a:stretch/>
        </p:blipFill>
        <p:spPr>
          <a:xfrm>
            <a:off x="58680" y="1771560"/>
            <a:ext cx="10580760" cy="3071880"/>
          </a:xfrm>
          <a:prstGeom prst="rect">
            <a:avLst/>
          </a:prstGeom>
          <a:ln w="0">
            <a:noFill/>
          </a:ln>
        </p:spPr>
      </p:pic>
      <p:sp>
        <p:nvSpPr>
          <p:cNvPr id="42" name="4 CuadroTexto"/>
          <p:cNvSpPr/>
          <p:nvPr/>
        </p:nvSpPr>
        <p:spPr>
          <a:xfrm>
            <a:off x="328680" y="700200"/>
            <a:ext cx="564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IGDT"/>
                <a:ea typeface="AIGDT"/>
              </a:rPr>
              <a:t>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Documents and Settings\Jessica\Mis documentos\Universidad\Taller\puentes\076-03.jpg"/>
          <p:cNvPicPr/>
          <p:nvPr/>
        </p:nvPicPr>
        <p:blipFill>
          <a:blip r:embed="rId1"/>
          <a:stretch/>
        </p:blipFill>
        <p:spPr>
          <a:xfrm>
            <a:off x="8186760" y="4414680"/>
            <a:ext cx="1932120" cy="785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C:\Documents and Settings\Jessica\Mis documentos\Universidad\Taller\puentes\076-06.jpg"/>
          <p:cNvPicPr/>
          <p:nvPr/>
        </p:nvPicPr>
        <p:blipFill>
          <a:blip r:embed="rId2"/>
          <a:stretch/>
        </p:blipFill>
        <p:spPr>
          <a:xfrm>
            <a:off x="0" y="3843360"/>
            <a:ext cx="1967040" cy="1357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C:\Documents and Settings\Jessica\Mis documentos\Universidad\Taller\puentes\076-09.jpg"/>
          <p:cNvPicPr/>
          <p:nvPr/>
        </p:nvPicPr>
        <p:blipFill>
          <a:blip r:embed="rId3"/>
          <a:stretch/>
        </p:blipFill>
        <p:spPr>
          <a:xfrm>
            <a:off x="4900680" y="4343400"/>
            <a:ext cx="2954160" cy="895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C:\Documents and Settings\Jessica\Mis documentos\Universidad\Taller\puentes\076-15.jpg"/>
          <p:cNvPicPr/>
          <p:nvPr/>
        </p:nvPicPr>
        <p:blipFill>
          <a:blip r:embed="rId4"/>
          <a:stretch/>
        </p:blipFill>
        <p:spPr>
          <a:xfrm>
            <a:off x="114480" y="200160"/>
            <a:ext cx="2189160" cy="1500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C:\Documents and Settings\Jessica\Mis documentos\Universidad\Taller\puentes\076-08.jpg"/>
          <p:cNvPicPr/>
          <p:nvPr/>
        </p:nvPicPr>
        <p:blipFill>
          <a:blip r:embed="rId5"/>
          <a:stretch/>
        </p:blipFill>
        <p:spPr>
          <a:xfrm>
            <a:off x="114480" y="1852560"/>
            <a:ext cx="2143080" cy="1847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C:\Documents and Settings\Jessica\Mis documentos\Universidad\Taller\puentes\68.jpg"/>
          <p:cNvPicPr/>
          <p:nvPr/>
        </p:nvPicPr>
        <p:blipFill>
          <a:blip r:embed="rId6"/>
          <a:stretch/>
        </p:blipFill>
        <p:spPr>
          <a:xfrm>
            <a:off x="6900840" y="0"/>
            <a:ext cx="3911760" cy="2400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C:\Documents and Settings\Jessica\Mis documentos\Universidad\Taller\puentes\076-07.jpg"/>
          <p:cNvPicPr/>
          <p:nvPr/>
        </p:nvPicPr>
        <p:blipFill>
          <a:blip r:embed="rId7"/>
          <a:stretch/>
        </p:blipFill>
        <p:spPr>
          <a:xfrm>
            <a:off x="2328840" y="485640"/>
            <a:ext cx="2535120" cy="1584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C:\Documents and Settings\Jessica\Mis documentos\Universidad\Taller\puentes\076-010.jpg"/>
          <p:cNvPicPr/>
          <p:nvPr/>
        </p:nvPicPr>
        <p:blipFill>
          <a:blip r:embed="rId8"/>
          <a:stretch/>
        </p:blipFill>
        <p:spPr>
          <a:xfrm>
            <a:off x="3471840" y="2057400"/>
            <a:ext cx="2401920" cy="1584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C:\Documents and Settings\Jessica\Mis documentos\Universidad\Taller\puentes\076-11.jpg"/>
          <p:cNvPicPr/>
          <p:nvPr/>
        </p:nvPicPr>
        <p:blipFill>
          <a:blip r:embed="rId9"/>
          <a:stretch/>
        </p:blipFill>
        <p:spPr>
          <a:xfrm>
            <a:off x="6900840" y="2343240"/>
            <a:ext cx="3900600" cy="1896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C:\Documents and Settings\Jessica\Mis documentos\Universidad\Taller\puentes\076-02.jpg"/>
          <p:cNvPicPr/>
          <p:nvPr/>
        </p:nvPicPr>
        <p:blipFill>
          <a:blip r:embed="rId10"/>
          <a:stretch/>
        </p:blipFill>
        <p:spPr>
          <a:xfrm>
            <a:off x="2328840" y="3629160"/>
            <a:ext cx="2093760" cy="1546200"/>
          </a:xfrm>
          <a:prstGeom prst="rect">
            <a:avLst/>
          </a:prstGeom>
          <a:ln w="0">
            <a:noFill/>
          </a:ln>
        </p:spPr>
      </p:pic>
      <p:sp>
        <p:nvSpPr>
          <p:cNvPr id="53" name="13 CuadroTexto"/>
          <p:cNvSpPr/>
          <p:nvPr/>
        </p:nvSpPr>
        <p:spPr>
          <a:xfrm>
            <a:off x="4900680" y="557280"/>
            <a:ext cx="1928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Pasarela peatonal en Petrer (Españ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Carme Pinó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Documents and Settings\Jessica\Mis documentos\Universidad\Taller\puentes\71.jpg"/>
          <p:cNvPicPr/>
          <p:nvPr/>
        </p:nvPicPr>
        <p:blipFill>
          <a:blip r:embed="rId1"/>
          <a:stretch/>
        </p:blipFill>
        <p:spPr>
          <a:xfrm>
            <a:off x="0" y="2809800"/>
            <a:ext cx="4089240" cy="2590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Documents and Settings\Jessica\Mis documentos\Universidad\Taller\puentes\Image30.jpg"/>
          <p:cNvPicPr/>
          <p:nvPr/>
        </p:nvPicPr>
        <p:blipFill>
          <a:blip r:embed="rId2"/>
          <a:stretch/>
        </p:blipFill>
        <p:spPr>
          <a:xfrm>
            <a:off x="5910120" y="2021040"/>
            <a:ext cx="4891320" cy="3379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C:\Documents and Settings\Jessica\Mis documentos\Universidad\Taller\puentes\passerelle solferino.jpg"/>
          <p:cNvPicPr/>
          <p:nvPr/>
        </p:nvPicPr>
        <p:blipFill>
          <a:blip r:embed="rId3"/>
          <a:stretch/>
        </p:blipFill>
        <p:spPr>
          <a:xfrm>
            <a:off x="0" y="0"/>
            <a:ext cx="10801440" cy="2021040"/>
          </a:xfrm>
          <a:prstGeom prst="rect">
            <a:avLst/>
          </a:prstGeom>
          <a:ln w="0">
            <a:noFill/>
          </a:ln>
        </p:spPr>
      </p:pic>
      <p:sp>
        <p:nvSpPr>
          <p:cNvPr id="57" name="13 CuadroTexto"/>
          <p:cNvSpPr/>
          <p:nvPr/>
        </p:nvSpPr>
        <p:spPr>
          <a:xfrm>
            <a:off x="0" y="2052720"/>
            <a:ext cx="388764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Passerelle Solferino (París, Franci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Marc Mim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16000" y="179280"/>
            <a:ext cx="3379680" cy="50421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821640" y="108000"/>
            <a:ext cx="3835080" cy="5113440"/>
          </a:xfrm>
          <a:prstGeom prst="rect">
            <a:avLst/>
          </a:prstGeom>
          <a:ln w="0">
            <a:noFill/>
          </a:ln>
        </p:spPr>
      </p:pic>
      <p:sp>
        <p:nvSpPr>
          <p:cNvPr id="60" name="13 CuadroTexto"/>
          <p:cNvSpPr/>
          <p:nvPr/>
        </p:nvSpPr>
        <p:spPr>
          <a:xfrm>
            <a:off x="3529080" y="252360"/>
            <a:ext cx="1942920" cy="7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Rambla de Mar  Barcellona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Viaplana - Pin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13 CuadroTexto"/>
          <p:cNvSpPr/>
          <p:nvPr/>
        </p:nvSpPr>
        <p:spPr>
          <a:xfrm>
            <a:off x="5184720" y="3852720"/>
            <a:ext cx="388800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MilleniumBridg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Londr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Ove Arup &amp; Partn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16000" y="179280"/>
            <a:ext cx="6192720" cy="50277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101000" y="0"/>
            <a:ext cx="35971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60360" y="179280"/>
            <a:ext cx="3938760" cy="5040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832360" y="108000"/>
            <a:ext cx="4824360" cy="2450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rcRect l="0" t="0" r="1492" b="0"/>
          <a:stretch/>
        </p:blipFill>
        <p:spPr>
          <a:xfrm>
            <a:off x="5829480" y="2844720"/>
            <a:ext cx="4827240" cy="24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15:16:35Z</dcterms:created>
  <dc:creator> </dc:creator>
  <dc:description/>
  <dc:language>en-US</dc:language>
  <cp:lastModifiedBy>C Saldaña</cp:lastModifiedBy>
  <dcterms:modified xsi:type="dcterms:W3CDTF">2007-05-08T21:09:43Z</dcterms:modified>
  <cp:revision>4</cp:revision>
  <dc:subject/>
  <dc:title>Diapositiva 1</dc:title>
</cp:coreProperties>
</file>