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799763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537-6193-49BF-8A94-D18FDC7B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12228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FB1-8382-485F-AC02-F8C331A5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8C8-FD19-4D8B-99AE-7B1C3AE4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1DC-8C3A-45B5-97EE-D098AF0F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3CF-3C3E-468D-B500-EC0F7C0B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291-5A05-4DAF-AE31-6AF4E47D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FFF-0B30-45AE-AB4D-E087745E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FDC-DE79-4B74-9B88-AF80F578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16000"/>
            <a:ext cx="97218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68C-98FA-49FA-9A9C-63A78F1A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46A-26A3-4500-A3E8-9D3AC48B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0C3-F3C2-45EF-AAA7-E673980F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FCD-2BF2-4DFC-BBB6-AAA5624E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83000"/>
          </a:bodyPr>
          <a:p>
            <a:pPr marL="286920" indent="-2869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2316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959040" indent="-1908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1343880" indent="-1908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4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5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6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5005440"/>
            <a:ext cx="252108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5005440"/>
            <a:ext cx="341928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5005440"/>
            <a:ext cx="252072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41498A1-8A57-4A08-98E5-5F6CB761AA2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medidas.jpg"/>
          <p:cNvPicPr/>
          <p:nvPr/>
        </p:nvPicPr>
        <p:blipFill>
          <a:blip r:embed="rId1"/>
          <a:srcRect l="9657" t="2427" r="8332" b="2427"/>
          <a:stretch/>
        </p:blipFill>
        <p:spPr>
          <a:xfrm>
            <a:off x="58680" y="1771560"/>
            <a:ext cx="10580760" cy="307188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328680" y="70020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IGDT"/>
                <a:ea typeface="AIGDT"/>
              </a:rPr>
              <a:t>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Jessica\Mis documentos\Universidad\Taller\puentes\076-03.jpg"/>
          <p:cNvPicPr/>
          <p:nvPr/>
        </p:nvPicPr>
        <p:blipFill>
          <a:blip r:embed="rId1"/>
          <a:stretch/>
        </p:blipFill>
        <p:spPr>
          <a:xfrm>
            <a:off x="8186760" y="4414680"/>
            <a:ext cx="1932120" cy="7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Jessica\Mis documentos\Universidad\Taller\puentes\076-06.jpg"/>
          <p:cNvPicPr/>
          <p:nvPr/>
        </p:nvPicPr>
        <p:blipFill>
          <a:blip r:embed="rId2"/>
          <a:stretch/>
        </p:blipFill>
        <p:spPr>
          <a:xfrm>
            <a:off x="0" y="3843360"/>
            <a:ext cx="1967040" cy="13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Jessica\Mis documentos\Universidad\Taller\puentes\076-09.jpg"/>
          <p:cNvPicPr/>
          <p:nvPr/>
        </p:nvPicPr>
        <p:blipFill>
          <a:blip r:embed="rId3"/>
          <a:stretch/>
        </p:blipFill>
        <p:spPr>
          <a:xfrm>
            <a:off x="4900680" y="4343400"/>
            <a:ext cx="295416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Jessica\Mis documentos\Universidad\Taller\puentes\076-15.jpg"/>
          <p:cNvPicPr/>
          <p:nvPr/>
        </p:nvPicPr>
        <p:blipFill>
          <a:blip r:embed="rId4"/>
          <a:stretch/>
        </p:blipFill>
        <p:spPr>
          <a:xfrm>
            <a:off x="114480" y="200160"/>
            <a:ext cx="2189160" cy="15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Jessica\Mis documentos\Universidad\Taller\puentes\076-08.jpg"/>
          <p:cNvPicPr/>
          <p:nvPr/>
        </p:nvPicPr>
        <p:blipFill>
          <a:blip r:embed="rId5"/>
          <a:stretch/>
        </p:blipFill>
        <p:spPr>
          <a:xfrm>
            <a:off x="114480" y="1852560"/>
            <a:ext cx="21430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Jessica\Mis documentos\Universidad\Taller\puentes\68.jpg"/>
          <p:cNvPicPr/>
          <p:nvPr/>
        </p:nvPicPr>
        <p:blipFill>
          <a:blip r:embed="rId6"/>
          <a:stretch/>
        </p:blipFill>
        <p:spPr>
          <a:xfrm>
            <a:off x="6900840" y="0"/>
            <a:ext cx="391176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Jessica\Mis documentos\Universidad\Taller\puentes\076-07.jpg"/>
          <p:cNvPicPr/>
          <p:nvPr/>
        </p:nvPicPr>
        <p:blipFill>
          <a:blip r:embed="rId7"/>
          <a:stretch/>
        </p:blipFill>
        <p:spPr>
          <a:xfrm>
            <a:off x="2328840" y="485640"/>
            <a:ext cx="253512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Documents and Settings\Jessica\Mis documentos\Universidad\Taller\puentes\076-010.jpg"/>
          <p:cNvPicPr/>
          <p:nvPr/>
        </p:nvPicPr>
        <p:blipFill>
          <a:blip r:embed="rId8"/>
          <a:stretch/>
        </p:blipFill>
        <p:spPr>
          <a:xfrm>
            <a:off x="3471840" y="2057400"/>
            <a:ext cx="240192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Jessica\Mis documentos\Universidad\Taller\puentes\076-11.jpg"/>
          <p:cNvPicPr/>
          <p:nvPr/>
        </p:nvPicPr>
        <p:blipFill>
          <a:blip r:embed="rId9"/>
          <a:stretch/>
        </p:blipFill>
        <p:spPr>
          <a:xfrm>
            <a:off x="6900840" y="2343240"/>
            <a:ext cx="3900600" cy="18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Documents and Settings\Jessica\Mis documentos\Universidad\Taller\puentes\076-02.jpg"/>
          <p:cNvPicPr/>
          <p:nvPr/>
        </p:nvPicPr>
        <p:blipFill>
          <a:blip r:embed="rId10"/>
          <a:stretch/>
        </p:blipFill>
        <p:spPr>
          <a:xfrm>
            <a:off x="2328840" y="3629160"/>
            <a:ext cx="2093760" cy="1546200"/>
          </a:xfrm>
          <a:prstGeom prst="rect">
            <a:avLst/>
          </a:prstGeom>
          <a:ln w="0">
            <a:noFill/>
          </a:ln>
        </p:spPr>
      </p:pic>
      <p:sp>
        <p:nvSpPr>
          <p:cNvPr id="53" name="13 CuadroTexto"/>
          <p:cNvSpPr/>
          <p:nvPr/>
        </p:nvSpPr>
        <p:spPr>
          <a:xfrm>
            <a:off x="4900680" y="557280"/>
            <a:ext cx="192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asarela peatonal en Petrer (Españ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arme Pinó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Jessica\Mis documentos\Universidad\Taller\puentes\71.jpg"/>
          <p:cNvPicPr/>
          <p:nvPr/>
        </p:nvPicPr>
        <p:blipFill>
          <a:blip r:embed="rId1"/>
          <a:stretch/>
        </p:blipFill>
        <p:spPr>
          <a:xfrm>
            <a:off x="0" y="2809800"/>
            <a:ext cx="408924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Jessica\Mis documentos\Universidad\Taller\puentes\Image30.jpg"/>
          <p:cNvPicPr/>
          <p:nvPr/>
        </p:nvPicPr>
        <p:blipFill>
          <a:blip r:embed="rId2"/>
          <a:stretch/>
        </p:blipFill>
        <p:spPr>
          <a:xfrm>
            <a:off x="5910120" y="2021040"/>
            <a:ext cx="4891320" cy="337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Jessica\Mis documentos\Universidad\Taller\puentes\passerelle solferino.jpg"/>
          <p:cNvPicPr/>
          <p:nvPr/>
        </p:nvPicPr>
        <p:blipFill>
          <a:blip r:embed="rId3"/>
          <a:stretch/>
        </p:blipFill>
        <p:spPr>
          <a:xfrm>
            <a:off x="0" y="0"/>
            <a:ext cx="10801440" cy="2021040"/>
          </a:xfrm>
          <a:prstGeom prst="rect">
            <a:avLst/>
          </a:prstGeom>
          <a:ln w="0">
            <a:noFill/>
          </a:ln>
        </p:spPr>
      </p:pic>
      <p:sp>
        <p:nvSpPr>
          <p:cNvPr id="57" name="13 CuadroTexto"/>
          <p:cNvSpPr/>
          <p:nvPr/>
        </p:nvSpPr>
        <p:spPr>
          <a:xfrm>
            <a:off x="0" y="2052720"/>
            <a:ext cx="3887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asserelle Solferino (París, Franc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Marc Mim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3379680" cy="5042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21640" y="108000"/>
            <a:ext cx="3835080" cy="5113440"/>
          </a:xfrm>
          <a:prstGeom prst="rect">
            <a:avLst/>
          </a:prstGeom>
          <a:ln w="0">
            <a:noFill/>
          </a:ln>
        </p:spPr>
      </p:pic>
      <p:sp>
        <p:nvSpPr>
          <p:cNvPr id="60" name="13 CuadroTexto"/>
          <p:cNvSpPr/>
          <p:nvPr/>
        </p:nvSpPr>
        <p:spPr>
          <a:xfrm>
            <a:off x="3529080" y="252360"/>
            <a:ext cx="194292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Rambla de Mar  Barcello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Viaplana - Pi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3 CuadroTexto"/>
          <p:cNvSpPr/>
          <p:nvPr/>
        </p:nvSpPr>
        <p:spPr>
          <a:xfrm>
            <a:off x="5184720" y="3852720"/>
            <a:ext cx="38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MilleniumBrid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ond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ve Arup &amp;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6192720" cy="502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101000" y="0"/>
            <a:ext cx="3597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3938760" cy="504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32360" y="108000"/>
            <a:ext cx="4824360" cy="245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0" r="1492" b="0"/>
          <a:stretch/>
        </p:blipFill>
        <p:spPr>
          <a:xfrm>
            <a:off x="5829480" y="2844720"/>
            <a:ext cx="48272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6:35Z</dcterms:created>
  <dc:creator> </dc:creator>
  <dc:description/>
  <dc:language>en-US</dc:language>
  <cp:lastModifiedBy>C Saldaña</cp:lastModifiedBy>
  <dcterms:modified xsi:type="dcterms:W3CDTF">2007-05-08T21:09:43Z</dcterms:modified>
  <cp:revision>4</cp:revision>
  <dc:subject/>
  <dc:title>Diapositiva 1</dc:title>
</cp:coreProperties>
</file>