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E4D5-1CEA-4A26-AF42-B7801D5B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579B-AC0A-4235-88B5-DA10A969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814-562D-4AA6-8F62-35A5C466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FCC2-3738-435A-8C2F-335BCB79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B355-6BDF-4CB8-8A26-2D7BF259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90F7-B1C4-476B-8288-5B06F108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377A-3CDB-435F-8A72-D6A65C4A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48CB-E012-4BB2-BDE1-893357CE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1B82-6018-479F-A43D-9ABBE41B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B049-3E4A-441E-9180-4FE3E82E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6A8C-0A0D-4166-951B-FA0E28BF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49CC-F732-4FF1-8F94-DA068712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7A5B-0F34-4A2E-9741-9199A9A1E72D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76280"/>
            <a:ext cx="80647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IO PROYECTOS DE INTEGRA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1468440"/>
            <a:ext cx="8064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.S. 40 / Proyecto Habitacional de Integración Social (P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yecto que cumpla con las disposiciones del D.S. 40 y D.S. 1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2421000"/>
            <a:ext cx="6408720" cy="342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diciones espe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ínimo un 30% de viviendas susceptibles de ser adquirida con la aplicación del título I del D.S. 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ínimo un 30% de viviendas susceptibles de ser adquiridas con aplicación del subsidio habitacional que regulan los capítulos I y/o II del D.S. 174 (Construcción Nuevos Terrenos y Adquisición de Vivienda Construid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ue incluya un número no mayor de 150 vivien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476280"/>
            <a:ext cx="80647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IO PROYECTOS DE INTEGRA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468440"/>
            <a:ext cx="80647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ítulo I D.S. 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dquisición de viviendas económicas, nuevas o usadas, o a la construcción de viviendas económicas (título I DFL 2 y Art. 162 LGU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ontos máximos de subsidio y ahorro (U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2637000"/>
            <a:ext cx="6408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187280" y="3213000"/>
          <a:ext cx="7056720" cy="909720"/>
        </p:xfrm>
        <a:graphic>
          <a:graphicData uri="http://schemas.openxmlformats.org/drawingml/2006/table">
            <a:tbl>
              <a:tblPr/>
              <a:tblGrid>
                <a:gridCol w="2376720"/>
                <a:gridCol w="1439640"/>
                <a:gridCol w="1584360"/>
                <a:gridCol w="1656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mo precio vivien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o subsi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o ahor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no integ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 – P x 0.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de 1.000 y hasta 2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476280"/>
            <a:ext cx="80647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IOS MINVU EXIST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319040"/>
            <a:ext cx="8064720" cy="53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.S. 174 / Fondo Solidario de Vivienda (F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9900"/>
                </a:solidFill>
                <a:latin typeface="Arial"/>
              </a:rPr>
              <a:t>Capítulo I – Fondo Solidario de Vivienda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hasta primer quin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NT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strucción Nuevos Terrenos (colec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Adquisición Vivienda Construida (individu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9900"/>
                </a:solidFill>
                <a:latin typeface="Arial"/>
              </a:rPr>
              <a:t>Capítulo II – Fondo Solidario de Vivienda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Hasta segundo quin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Adquisición Vivienda Construida (individu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9900"/>
                </a:solidFill>
                <a:latin typeface="Arial"/>
              </a:rPr>
              <a:t>Cumplir con cuadro normativo - Superficie total no inferior a 55 m</a:t>
            </a:r>
            <a:r>
              <a:rPr b="1" lang="es-MX" sz="1800" spc="-1" strike="noStrike" baseline="30000">
                <a:solidFill>
                  <a:srgbClr val="6699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Zona de estar – Comedor – Cocina / 2 dormitorios proyectados / 1 b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yecto de ampliación tercer dormito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476280"/>
            <a:ext cx="80647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DRO N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21208" t="14564" r="10141" b="10636"/>
          <a:stretch/>
        </p:blipFill>
        <p:spPr>
          <a:xfrm>
            <a:off x="1258920" y="981000"/>
            <a:ext cx="6696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476280"/>
            <a:ext cx="80647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DRO N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21208" t="18512" r="10141" b="15539"/>
          <a:stretch/>
        </p:blipFill>
        <p:spPr>
          <a:xfrm>
            <a:off x="1332000" y="1125360"/>
            <a:ext cx="6696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01:38:06Z</dcterms:created>
  <dc:creator>Angela Silva Santelices</dc:creator>
  <dc:description/>
  <dc:language>en-US</dc:language>
  <cp:lastModifiedBy>jdiaz</cp:lastModifiedBy>
  <dcterms:modified xsi:type="dcterms:W3CDTF">2008-05-05T21:19:09Z</dcterms:modified>
  <cp:revision>14</cp:revision>
  <dc:subject/>
  <dc:title>Diapositiva 1</dc:title>
</cp:coreProperties>
</file>