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A16-B977-4B9D-9A2C-A3983E45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4DF-AB71-4D09-9341-B426FB4D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2B8-0631-4325-BCF1-F346E7DA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D2C-6935-449A-8406-9FB0A727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352-9E19-4811-852E-B3917184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CB6-4D2B-4D25-BA64-689EC4B9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F0B-5983-40E6-881F-3907F372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5BB-3F62-466B-AF7C-84AF89CE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584-407B-420A-9682-4692C39D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67C-95CD-4FA5-95C9-FB884E2E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D95-C248-49E9-8D54-D8872A17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ABE-7F2D-4749-8931-EEF8674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D580-E669-416F-8CB4-ED90E9D67C1B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468440"/>
            <a:ext cx="806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40 / Proyecto Habitacional de Integración Social (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que cumpla con las disposiciones del D.S. 40 y D.S. 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421000"/>
            <a:ext cx="6408720" cy="342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dicione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 con la aplicación del título I del D.S.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s con aplicación del subsidio habitacional que regulan los capítulos I y/o II del D.S. 174 (Construcción Nuevos Terrenos y Adquisición de Vivienda Constru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ue incluya un número no mayor de 150 vivi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468440"/>
            <a:ext cx="8064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ítulo I D.S. 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dquisición de viviendas económicas, nuevas o usadas, o a la construcción de viviendas económicas (título I DFL 2 y Art. 162 LGU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tos máximos de subsidio y ahorro (U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2637000"/>
            <a:ext cx="640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3213000"/>
          <a:ext cx="7056720" cy="909720"/>
        </p:xfrm>
        <a:graphic>
          <a:graphicData uri="http://schemas.openxmlformats.org/drawingml/2006/table">
            <a:tbl>
              <a:tblPr/>
              <a:tblGrid>
                <a:gridCol w="2376720"/>
                <a:gridCol w="1439640"/>
                <a:gridCol w="1584360"/>
                <a:gridCol w="165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mo precio vivie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subsi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ahor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o integ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– P x 0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de 1.000 y hasta 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S MINVU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319040"/>
            <a:ext cx="80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174 / Fondo Solidario de Vivienda (F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 – Fondo Solidario de Viviend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primer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NT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trucción Nuevos Terrenos (col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I – Fondo Solidario de Vivienda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segundo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00"/>
                </a:solidFill>
                <a:latin typeface="Arial"/>
              </a:rPr>
              <a:t>Cumplir con cuadro normativo - Superficie total no inferior a 55 m</a:t>
            </a:r>
            <a:r>
              <a:rPr b="1" lang="es-MX" sz="1800" spc="-1" strike="noStrike" baseline="30000">
                <a:solidFill>
                  <a:srgbClr val="66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Zona de estar – Comedor – Cocina / 2 dormitorios proyectados / 1 b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de ampliación tercer dormi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1208" t="14564" r="10141" b="10636"/>
          <a:stretch/>
        </p:blipFill>
        <p:spPr>
          <a:xfrm>
            <a:off x="1258920" y="981000"/>
            <a:ext cx="669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208" t="18512" r="10141" b="15539"/>
          <a:stretch/>
        </p:blipFill>
        <p:spPr>
          <a:xfrm>
            <a:off x="1332000" y="1125360"/>
            <a:ext cx="6696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1:38:06Z</dcterms:created>
  <dc:creator>Angela Silva Santelices</dc:creator>
  <dc:description/>
  <dc:language>en-US</dc:language>
  <cp:lastModifiedBy>jdiaz</cp:lastModifiedBy>
  <dcterms:modified xsi:type="dcterms:W3CDTF">2008-05-05T21:19:09Z</dcterms:modified>
  <cp:revision>14</cp:revision>
  <dc:subject/>
  <dc:title>Diapositiva 1</dc:title>
</cp:coreProperties>
</file>