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842-DC86-4BEA-98FA-C16DBA45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E68-532B-4B0E-9B9C-16D134F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A67-DA45-4739-A677-778AB88D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E37-6305-49AF-B110-CF9AF295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6AF-0903-4435-A814-670D1FB4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224-C67B-4174-82A1-3A73B1B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C29-E5AD-4809-95E1-DAE90F33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811-7A6F-4C02-AD5D-15BF03C5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A80-8B39-450D-8FBF-C8B6E124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65D-D165-405E-A57F-245177E2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2E6-28E2-4AC9-B295-88CFDAB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FD6-215D-4F9A-B750-3C1EB9C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05F-DB8E-4CAB-8E2E-654E6368AB1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68440"/>
            <a:ext cx="806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40 / Proyecto Habitacional de Integración Social (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que cumpla con las disposiciones del D.S. 40 y D.S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421000"/>
            <a:ext cx="6408720" cy="342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dicione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 con la aplicación del título I del D.S.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s con aplicación del subsidio habitacional que regulan los capítulos I y/o II del D.S. 174 (Construcción Nuevos Terrenos y Adquisición de Vivienda Constru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incluya un número no mayor de 150 viv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68440"/>
            <a:ext cx="8064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ítulo I D.S. 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quisición de viviendas económicas, nuevas o usadas, o a la construcción de viviendas económicas (título I DFL 2 y Art. 162 LGU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tos máximos de subsidio y ahorro (U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637000"/>
            <a:ext cx="640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3213000"/>
          <a:ext cx="7056720" cy="909720"/>
        </p:xfrm>
        <a:graphic>
          <a:graphicData uri="http://schemas.openxmlformats.org/drawingml/2006/table">
            <a:tbl>
              <a:tblPr/>
              <a:tblGrid>
                <a:gridCol w="2376720"/>
                <a:gridCol w="1439640"/>
                <a:gridCol w="1584360"/>
                <a:gridCol w="165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o precio vivi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subsi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ahor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o integ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– P x 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e 1.000 y hasta 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S MINVU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319040"/>
            <a:ext cx="80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174 / Fondo Solidario de Vivienda (F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 – Fondo Solidario de Viviend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primer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NT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trucción Nuevos Terrenos (col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I – Fondo Solidario de Vivienda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segundo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00"/>
                </a:solidFill>
                <a:latin typeface="Arial"/>
              </a:rPr>
              <a:t>Cumplir con cuadro normativo - Superficie total no inferior a 55 m</a:t>
            </a:r>
            <a:r>
              <a:rPr b="1" lang="es-MX" sz="1800" spc="-1" strike="noStrike" baseline="30000">
                <a:solidFill>
                  <a:srgbClr val="66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Zona de estar – Comedor – Cocina / 2 dormitorios proyectados / 1 b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de ampliación tercer dorm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1208" t="14564" r="10141" b="10636"/>
          <a:stretch/>
        </p:blipFill>
        <p:spPr>
          <a:xfrm>
            <a:off x="1258920" y="981000"/>
            <a:ext cx="66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208" t="18512" r="10141" b="15539"/>
          <a:stretch/>
        </p:blipFill>
        <p:spPr>
          <a:xfrm>
            <a:off x="1332000" y="1125360"/>
            <a:ext cx="669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1:38:06Z</dcterms:created>
  <dc:creator>Angela Silva Santelices</dc:creator>
  <dc:description/>
  <dc:language>en-US</dc:language>
  <cp:lastModifiedBy>jdiaz</cp:lastModifiedBy>
  <dcterms:modified xsi:type="dcterms:W3CDTF">2008-05-05T21:19:09Z</dcterms:modified>
  <cp:revision>14</cp:revision>
  <dc:subject/>
  <dc:title>Diapositiva 1</dc:title>
</cp:coreProperties>
</file>