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4B1-4253-4DFD-9574-5F9D3E48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4EF-ABCD-48FB-8E0B-EAB64843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C9C-4748-4EB6-A662-DE863D32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441-4293-4FF1-976E-B18135BA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354-DCF4-4A7E-8A96-245A8C0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484-9E67-4E70-9F53-C56CFE5A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BE3-9827-433C-937E-A2CB8370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C2F-81B3-41BC-A811-A1CAAE98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364-C05D-4896-8F42-81B94C77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3C5-B183-46C0-8230-97BC9F4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7F6-60C3-4500-9AF8-43A129D5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793-D392-45FC-9F35-9B06025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E5B1-ED79-4BB3-8C18-8057248B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squema recta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squema%20recta%20límite01" descr=""/>
          <p:cNvPicPr/>
          <p:nvPr/>
        </p:nvPicPr>
        <p:blipFill>
          <a:blip r:embed="rId1"/>
          <a:srcRect l="0" t="0" r="17394" b="0"/>
          <a:stretch/>
        </p:blipFill>
        <p:spPr>
          <a:xfrm>
            <a:off x="457200" y="0"/>
            <a:ext cx="86868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squema recta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Esquema%20recta%20límite02" descr=""/>
          <p:cNvPicPr/>
          <p:nvPr/>
        </p:nvPicPr>
        <p:blipFill>
          <a:blip r:embed="rId1"/>
          <a:srcRect l="0" t="0" r="15554" b="0"/>
          <a:stretch/>
        </p:blipFill>
        <p:spPr>
          <a:xfrm>
            <a:off x="457200" y="0"/>
            <a:ext cx="86868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squema recta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Esquema%20recta%20límite03" descr=""/>
          <p:cNvPicPr/>
          <p:nvPr/>
        </p:nvPicPr>
        <p:blipFill>
          <a:blip r:embed="rId1"/>
          <a:srcRect l="0" t="0" r="16176" b="0"/>
          <a:stretch/>
        </p:blipFill>
        <p:spPr>
          <a:xfrm>
            <a:off x="457200" y="0"/>
            <a:ext cx="86868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9T20:21:26Z</dcterms:modified>
  <cp:revision>12</cp:revision>
  <dc:subject/>
  <dc:title>Diapositiva 1</dc:title>
</cp:coreProperties>
</file>