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C2D-4BFE-4FC0-8ED8-65AB3F71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A3C-41DE-4B03-93AB-FB870AE9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B4C-2508-49EC-9A25-C9FDCF0E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5C1-6724-4334-8B0C-BD53F95D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B84-6BE6-4E28-95AA-8B02ADCC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75B-A72D-443A-A9DA-1C2CB3C7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816-928A-44D3-BF61-E5BD6B8D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53B-6295-4491-B819-2CE94299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6E5-D692-41BE-806B-8E081E3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E05-9C3C-46F1-81CD-016B07EF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18A-1022-4994-9BC2-C5D11586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20C-DEAE-4A88-A2CE-8C9F090F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10E7-E026-4A1B-8801-983614411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jercicio%202_1" descr=""/>
          <p:cNvPicPr/>
          <p:nvPr/>
        </p:nvPicPr>
        <p:blipFill>
          <a:blip r:embed="rId1"/>
          <a:srcRect l="0" t="16598" r="34201" b="0"/>
          <a:stretch/>
        </p:blipFill>
        <p:spPr>
          <a:xfrm>
            <a:off x="457200" y="0"/>
            <a:ext cx="8686800" cy="574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380880"/>
            <a:ext cx="2057400" cy="205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da la siguiente figura : espiral, generada por una serie de arcos basados en una trama de cuadriláteros, determinar su figura homóloga si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 recta homóloga de NA está a 45º con respecto a EE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CD cuadrado. Sus vértices son centros de arcos FGH; HIJ; JKL; CEF y LMN respectivam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Ejercicio%202_2" descr=""/>
          <p:cNvPicPr/>
          <p:nvPr/>
        </p:nvPicPr>
        <p:blipFill>
          <a:blip r:embed="rId1"/>
          <a:srcRect l="0" t="6316" r="18710" b="0"/>
          <a:stretch/>
        </p:blipFill>
        <p:spPr>
          <a:xfrm>
            <a:off x="457200" y="0"/>
            <a:ext cx="8686800" cy="548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380880"/>
            <a:ext cx="1676160" cy="64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mero se determinan los puntos homólogos de la trama que encierra a la espir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jercicio%202_3" descr=""/>
          <p:cNvPicPr/>
          <p:nvPr/>
        </p:nvPicPr>
        <p:blipFill>
          <a:blip r:embed="rId1"/>
          <a:srcRect l="0" t="8420" r="19770" b="0"/>
          <a:stretch/>
        </p:blipFill>
        <p:spPr>
          <a:xfrm>
            <a:off x="457200" y="0"/>
            <a:ext cx="8686800" cy="5437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533520"/>
            <a:ext cx="2286000" cy="64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ego se unen sus puntos homólogos y se generan los puntos de la espiral que coinciden con las diagonales de los cuadrad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jercicio%202_4" descr=""/>
          <p:cNvPicPr/>
          <p:nvPr/>
        </p:nvPicPr>
        <p:blipFill>
          <a:blip r:embed="rId1"/>
          <a:srcRect l="1732" t="9474" r="20924" b="0"/>
          <a:stretch/>
        </p:blipFill>
        <p:spPr>
          <a:xfrm>
            <a:off x="457200" y="0"/>
            <a:ext cx="8686800" cy="5575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609480"/>
            <a:ext cx="228600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determinan puntos 1,2,3,4,5 pertenecientes a cada uno de los arcos y se homologan tomando como referencia los puntos ABC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homologan rectas A1, C2, B3, D4 y D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Ejercicio%202_5" descr=""/>
          <p:cNvPicPr/>
          <p:nvPr/>
        </p:nvPicPr>
        <p:blipFill>
          <a:blip r:embed="rId1"/>
          <a:srcRect l="5195" t="0" r="17300" b="0"/>
          <a:stretch/>
        </p:blipFill>
        <p:spPr>
          <a:xfrm>
            <a:off x="609480" y="228600"/>
            <a:ext cx="8534520" cy="5060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09480"/>
            <a:ext cx="228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n Sketchpad muevan el punto V para apreciar la deformación de la figura homólog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7T07:04:42Z</dcterms:modified>
  <cp:revision>11</cp:revision>
  <dc:subject/>
  <dc:title>Diapositiva 1</dc:title>
</cp:coreProperties>
</file>