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67F-FFB7-4482-87B8-E370F256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EF9-4671-4F77-8E0F-DC3D3B48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42F-D2FE-4571-8CB9-C8F9B259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319-6414-4F85-9818-5ABA8E9E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73D-A5E7-4F00-8146-69E3ECE7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292-3360-4604-9DBC-F0FC839F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F80-67B2-4D71-A237-1C479AFE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DD1-009D-4A27-93A0-F095C315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16A-17BA-450F-9F60-EC72EF77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4E6-4F93-4EBC-A1D7-19756FB0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EC8-5C50-44AC-BAE0-CB54F0E3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321-1D7E-4323-97D9-146C3B97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5F17-A3D7-4B5A-A0AA-9BE70A137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jercicio%201_1" descr=""/>
          <p:cNvPicPr/>
          <p:nvPr/>
        </p:nvPicPr>
        <p:blipFill>
          <a:blip r:embed="rId1"/>
          <a:srcRect l="0" t="0" r="35355" b="0"/>
          <a:stretch/>
        </p:blipFill>
        <p:spPr>
          <a:xfrm>
            <a:off x="609480" y="228600"/>
            <a:ext cx="8534520" cy="550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762120"/>
            <a:ext cx="1676520" cy="78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da recta homóloga de CA, con punto doble mm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ar rectas lím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Es directa o inver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Ejercicio%201_2" descr=""/>
          <p:cNvPicPr/>
          <p:nvPr/>
        </p:nvPicPr>
        <p:blipFill>
          <a:blip r:embed="rId1"/>
          <a:srcRect l="0" t="0" r="16787" b="0"/>
          <a:stretch/>
        </p:blipFill>
        <p:spPr>
          <a:xfrm>
            <a:off x="457200" y="152280"/>
            <a:ext cx="8686800" cy="572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685800"/>
            <a:ext cx="1676520" cy="7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ación de puntos ho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jercicio%201_3" descr=""/>
          <p:cNvPicPr/>
          <p:nvPr/>
        </p:nvPicPr>
        <p:blipFill>
          <a:blip r:embed="rId1"/>
          <a:srcRect l="0" t="0" r="15555" b="0"/>
          <a:stretch/>
        </p:blipFill>
        <p:spPr>
          <a:xfrm>
            <a:off x="457200" y="0"/>
            <a:ext cx="8686800" cy="5640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609480"/>
            <a:ext cx="167652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ón de puntos ho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jercicio%201_4" descr=""/>
          <p:cNvPicPr/>
          <p:nvPr/>
        </p:nvPicPr>
        <p:blipFill>
          <a:blip r:embed="rId1"/>
          <a:srcRect l="0" t="0" r="19719" b="0"/>
          <a:stretch/>
        </p:blipFill>
        <p:spPr>
          <a:xfrm>
            <a:off x="457200" y="0"/>
            <a:ext cx="8686800" cy="593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80880"/>
            <a:ext cx="1676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arrollo de la có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7T04:51:20Z</dcterms:modified>
  <cp:revision>9</cp:revision>
  <dc:subject/>
  <dc:title>Diapositiva 1</dc:title>
</cp:coreProperties>
</file>