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A5C-A69D-4FF3-9C7E-6989F5C8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562-0C97-4B56-A37E-4E025EB0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D25-92CC-4949-84C6-50BAA537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511-1B78-45A2-BFCC-F0B85736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45F-4D66-488C-96F4-26BD1FCD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1A9-F6FE-4602-947A-66C217A9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504-2E2A-4EA6-96CE-6A84515B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9C1-D4FF-4D94-8CF6-E38393C5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485-435E-44E7-8319-A9E340D8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3DB-6922-4F2C-927F-28BB7080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C5B-E08C-47F7-A7DB-352C488E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CB1-6853-45A7-83AF-B09EA4C2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CBA0-CC62-4143-ABEB-75113E1A7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squema recta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Esquema%20recta%20límite01" descr=""/>
          <p:cNvPicPr/>
          <p:nvPr/>
        </p:nvPicPr>
        <p:blipFill>
          <a:blip r:embed="rId1"/>
          <a:srcRect l="0" t="0" r="17394" b="0"/>
          <a:stretch/>
        </p:blipFill>
        <p:spPr>
          <a:xfrm>
            <a:off x="457200" y="0"/>
            <a:ext cx="868680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squema recta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Esquema%20recta%20límite02" descr=""/>
          <p:cNvPicPr/>
          <p:nvPr/>
        </p:nvPicPr>
        <p:blipFill>
          <a:blip r:embed="rId1"/>
          <a:srcRect l="0" t="0" r="15554" b="0"/>
          <a:stretch/>
        </p:blipFill>
        <p:spPr>
          <a:xfrm>
            <a:off x="457200" y="0"/>
            <a:ext cx="86868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squema recta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Esquema%20recta%20límite03" descr=""/>
          <p:cNvPicPr/>
          <p:nvPr/>
        </p:nvPicPr>
        <p:blipFill>
          <a:blip r:embed="rId1"/>
          <a:srcRect l="0" t="0" r="16176" b="0"/>
          <a:stretch/>
        </p:blipFill>
        <p:spPr>
          <a:xfrm>
            <a:off x="457200" y="0"/>
            <a:ext cx="86868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min</cp:lastModifiedBy>
  <dcterms:modified xsi:type="dcterms:W3CDTF">2008-07-19T20:21:26Z</dcterms:modified>
  <cp:revision>12</cp:revision>
  <dc:subject/>
  <dc:title>Diapositiva 1</dc:title>
</cp:coreProperties>
</file>