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1E6-367D-4527-AD55-A27C650A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578-693B-4A2C-A248-B67AA319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E59-3340-4660-8C1C-F02D61C4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7C3-EB1A-46E0-802C-B2E75B03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1D0-742C-4FFB-8A11-ABC12F33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86B-7E3F-4DDE-A249-0E44CA7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D0A-5DDF-4305-964D-BF11755C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29D-0690-4611-8AC7-0093B39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054-3DA9-4DBD-86CB-0D6EE5E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177-6307-4C04-98E9-4D8653E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96D-9F7F-44AD-90C7-319D3F3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B63-FCF6-4EB3-9213-82F5194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F67-FC28-4909-9EDF-32549D91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2_1" descr=""/>
          <p:cNvPicPr/>
          <p:nvPr/>
        </p:nvPicPr>
        <p:blipFill>
          <a:blip r:embed="rId1"/>
          <a:srcRect l="0" t="16598" r="34201" b="0"/>
          <a:stretch/>
        </p:blipFill>
        <p:spPr>
          <a:xfrm>
            <a:off x="457200" y="0"/>
            <a:ext cx="8686800" cy="574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2057400" cy="20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a la siguiente figura : espiral, generada por una serie de arcos basados en una trama de cuadriláteros, determinar su figura homóloga s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recta homóloga de NA está a 45º con respecto a EE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CD cuadrado. Sus vértices son centros de arcos FGH; HIJ; JKL; CEF y LMN respectiv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2_2" descr=""/>
          <p:cNvPicPr/>
          <p:nvPr/>
        </p:nvPicPr>
        <p:blipFill>
          <a:blip r:embed="rId1"/>
          <a:srcRect l="0" t="6316" r="18710" b="0"/>
          <a:stretch/>
        </p:blipFill>
        <p:spPr>
          <a:xfrm>
            <a:off x="457200" y="0"/>
            <a:ext cx="8686800" cy="548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380880"/>
            <a:ext cx="167616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ro se determinan los puntos homólogos de la trama que encierra a la espi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2_3" descr=""/>
          <p:cNvPicPr/>
          <p:nvPr/>
        </p:nvPicPr>
        <p:blipFill>
          <a:blip r:embed="rId1"/>
          <a:srcRect l="0" t="8420" r="19770" b="0"/>
          <a:stretch/>
        </p:blipFill>
        <p:spPr>
          <a:xfrm>
            <a:off x="457200" y="0"/>
            <a:ext cx="8686800" cy="54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33520"/>
            <a:ext cx="228600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ego se unen sus puntos homólogos y se generan los puntos de la espiral que coinciden con las diagonales de los cuadr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2_4" descr=""/>
          <p:cNvPicPr/>
          <p:nvPr/>
        </p:nvPicPr>
        <p:blipFill>
          <a:blip r:embed="rId1"/>
          <a:srcRect l="1732" t="9474" r="20924" b="0"/>
          <a:stretch/>
        </p:blipFill>
        <p:spPr>
          <a:xfrm>
            <a:off x="457200" y="0"/>
            <a:ext cx="868680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09480"/>
            <a:ext cx="22860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determinan puntos 1,2,3,4,5 pertenecientes a cada uno de los arcos y se homologan tomando como referencia los puntos ABC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homologan rectas A1, C2, B3, D4 y 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jercicio%202_5" descr=""/>
          <p:cNvPicPr/>
          <p:nvPr/>
        </p:nvPicPr>
        <p:blipFill>
          <a:blip r:embed="rId1"/>
          <a:srcRect l="5195" t="0" r="17300" b="0"/>
          <a:stretch/>
        </p:blipFill>
        <p:spPr>
          <a:xfrm>
            <a:off x="609480" y="228600"/>
            <a:ext cx="8534520" cy="506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48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 Sketchpad muevan el punto V para apreciar la deformación de la figura homólog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7:04:42Z</dcterms:modified>
  <cp:revision>11</cp:revision>
  <dc:subject/>
  <dc:title>Diapositiva 1</dc:title>
</cp:coreProperties>
</file>