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491-9EED-4DA2-9DC2-455522C7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649-7CE0-468C-9145-C80B4D08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B03-6F00-4B39-807A-48D7C82C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354-0D2E-4571-9B74-026F459C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B32-40D5-4349-B899-39822F10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4D7-9C3E-4E4E-BFD4-FD0B12F6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66A-2701-448E-A18F-DDF7EF61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455-17B7-45D8-A540-F53046BC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836-4E74-414E-9F42-41DD8A5B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2DF-212B-4B10-93CD-85690D27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A43-E1CD-40AD-813F-7E1C8D47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DD4-DE5D-4162-9B15-05DBACFD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7A61-C401-45FC-823C-6CEB6F135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jercicio%201_1" descr=""/>
          <p:cNvPicPr/>
          <p:nvPr/>
        </p:nvPicPr>
        <p:blipFill>
          <a:blip r:embed="rId1"/>
          <a:srcRect l="0" t="0" r="35355" b="0"/>
          <a:stretch/>
        </p:blipFill>
        <p:spPr>
          <a:xfrm>
            <a:off x="609480" y="228600"/>
            <a:ext cx="8534520" cy="5505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762120"/>
            <a:ext cx="1676520" cy="78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da recta homóloga de CA, con punto doble mm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rminar rectas lím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Es directa o inver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Ejercicio%201_2" descr=""/>
          <p:cNvPicPr/>
          <p:nvPr/>
        </p:nvPicPr>
        <p:blipFill>
          <a:blip r:embed="rId1"/>
          <a:srcRect l="0" t="0" r="16787" b="0"/>
          <a:stretch/>
        </p:blipFill>
        <p:spPr>
          <a:xfrm>
            <a:off x="457200" y="152280"/>
            <a:ext cx="8686800" cy="572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685800"/>
            <a:ext cx="1676520" cy="7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ación de puntos ho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Ejercicio%201_3" descr=""/>
          <p:cNvPicPr/>
          <p:nvPr/>
        </p:nvPicPr>
        <p:blipFill>
          <a:blip r:embed="rId1"/>
          <a:srcRect l="0" t="0" r="15555" b="0"/>
          <a:stretch/>
        </p:blipFill>
        <p:spPr>
          <a:xfrm>
            <a:off x="457200" y="0"/>
            <a:ext cx="8686800" cy="5640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609480"/>
            <a:ext cx="167652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ón de puntos ho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jercicio%201_4" descr=""/>
          <p:cNvPicPr/>
          <p:nvPr/>
        </p:nvPicPr>
        <p:blipFill>
          <a:blip r:embed="rId1"/>
          <a:srcRect l="0" t="0" r="19719" b="0"/>
          <a:stretch/>
        </p:blipFill>
        <p:spPr>
          <a:xfrm>
            <a:off x="457200" y="0"/>
            <a:ext cx="8686800" cy="593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80880"/>
            <a:ext cx="1676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arrollo de la cón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min</cp:lastModifiedBy>
  <dcterms:modified xsi:type="dcterms:W3CDTF">2008-07-17T04:51:20Z</dcterms:modified>
  <cp:revision>9</cp:revision>
  <dc:subject/>
  <dc:title>Diapositiva 1</dc:title>
</cp:coreProperties>
</file>