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5E5-0D99-4D72-8844-F83EB615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66A-BD66-443F-AD65-974C0FA5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86A-860A-4E98-8454-53FA18D2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1B1-20AF-497C-B60F-C9AFD0A6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9F0-565A-4EE1-BA14-9C035DC4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39D-164B-4D43-92D9-2E9F159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13D-DB70-4F75-ADBC-CCEA3FF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FA4-6C5B-4264-8EBB-FBFDCE7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8DB-63C2-4B22-9368-927B8A2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76D-4BC8-4A83-9047-8B28E56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887-3722-4511-AF7B-81A5C18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CCF-75F6-42C8-9B92-A73EA3E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35C-64C8-405A-B2FE-24764818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2_1" descr=""/>
          <p:cNvPicPr/>
          <p:nvPr/>
        </p:nvPicPr>
        <p:blipFill>
          <a:blip r:embed="rId1"/>
          <a:srcRect l="0" t="16598" r="34201" b="0"/>
          <a:stretch/>
        </p:blipFill>
        <p:spPr>
          <a:xfrm>
            <a:off x="457200" y="0"/>
            <a:ext cx="8686800" cy="574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2057400" cy="20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a la siguiente figura : espiral, generada por una serie de arcos basados en una trama de cuadriláteros, determinar su figura homóloga s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recta homóloga de NA está a 45º con respecto a EE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CD cuadrado. Sus vértices son centros de arcos FGH; HIJ; JKL; CEF y LMN respectiv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2_2" descr=""/>
          <p:cNvPicPr/>
          <p:nvPr/>
        </p:nvPicPr>
        <p:blipFill>
          <a:blip r:embed="rId1"/>
          <a:srcRect l="0" t="6316" r="18710" b="0"/>
          <a:stretch/>
        </p:blipFill>
        <p:spPr>
          <a:xfrm>
            <a:off x="457200" y="0"/>
            <a:ext cx="8686800" cy="548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380880"/>
            <a:ext cx="167616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ro se determinan los puntos homólogos de la trama que encierra a la espi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2_3" descr=""/>
          <p:cNvPicPr/>
          <p:nvPr/>
        </p:nvPicPr>
        <p:blipFill>
          <a:blip r:embed="rId1"/>
          <a:srcRect l="0" t="8420" r="19770" b="0"/>
          <a:stretch/>
        </p:blipFill>
        <p:spPr>
          <a:xfrm>
            <a:off x="457200" y="0"/>
            <a:ext cx="8686800" cy="54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33520"/>
            <a:ext cx="228600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ego se unen sus puntos homólogos y se generan los puntos de la espiral que coinciden con las diagonales de los cuadr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2_4" descr=""/>
          <p:cNvPicPr/>
          <p:nvPr/>
        </p:nvPicPr>
        <p:blipFill>
          <a:blip r:embed="rId1"/>
          <a:srcRect l="1732" t="9474" r="20924" b="0"/>
          <a:stretch/>
        </p:blipFill>
        <p:spPr>
          <a:xfrm>
            <a:off x="457200" y="0"/>
            <a:ext cx="868680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09480"/>
            <a:ext cx="22860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determinan puntos 1,2,3,4,5 pertenecientes a cada uno de los arcos y se homologan tomando como referencia los puntos ABC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homologan rectas A1, C2, B3, D4 y 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jercicio%202_5" descr=""/>
          <p:cNvPicPr/>
          <p:nvPr/>
        </p:nvPicPr>
        <p:blipFill>
          <a:blip r:embed="rId1"/>
          <a:srcRect l="5195" t="0" r="17300" b="0"/>
          <a:stretch/>
        </p:blipFill>
        <p:spPr>
          <a:xfrm>
            <a:off x="609480" y="228600"/>
            <a:ext cx="8534520" cy="506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48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 Sketchpad muevan el punto V para apreciar la deformación de la figura homólog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7:04:42Z</dcterms:modified>
  <cp:revision>11</cp:revision>
  <dc:subject/>
  <dc:title>Diapositiva 1</dc:title>
</cp:coreProperties>
</file>