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BD5-9DB6-4E0F-9FBB-43B28A69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5F0-2495-4707-A203-7D5687C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DFA-B34A-4C2A-B83A-2F9B0AC8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C18-1DCC-4F85-B914-581C0A47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1E6-BA04-4EC3-AE3F-82C18CD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E9F-6F48-463C-B790-543DBA3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0C3-D4B0-4084-8187-053D6857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38B-1A9D-4D92-9834-50A7DDB8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DD5-55C6-4BF5-A3E8-382EC0D4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0E4-29FB-460F-B074-A9029D9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602-C25C-449E-9A8E-1F4569F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AE4-C6BF-4A29-9E62-2B0B48B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086-5584-4E57-B47A-758108B4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15920"/>
            <a:ext cx="2376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Ejercicio%202_1" descr=""/>
          <p:cNvPicPr/>
          <p:nvPr/>
        </p:nvPicPr>
        <p:blipFill>
          <a:blip r:embed="rId1"/>
          <a:srcRect l="0" t="16598" r="34201" b="0"/>
          <a:stretch/>
        </p:blipFill>
        <p:spPr>
          <a:xfrm>
            <a:off x="457200" y="0"/>
            <a:ext cx="8686800" cy="574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80880"/>
            <a:ext cx="2057400" cy="20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da la siguiente figura : espiral, generada por una serie de arcos basados en una trama de cuadriláteros, determinar su figura homóloga s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recta homóloga de NA está a 45º con respecto a EE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CD cuadrado. Sus vértices son centros de arcos FGH; HIJ; JKL; CEF y LMN respectiv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Ejercicio%202_2" descr=""/>
          <p:cNvPicPr/>
          <p:nvPr/>
        </p:nvPicPr>
        <p:blipFill>
          <a:blip r:embed="rId1"/>
          <a:srcRect l="0" t="6316" r="18710" b="0"/>
          <a:stretch/>
        </p:blipFill>
        <p:spPr>
          <a:xfrm>
            <a:off x="457200" y="0"/>
            <a:ext cx="8686800" cy="548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380880"/>
            <a:ext cx="167616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ro se determinan los puntos homólogos de la trama que encierra a la espir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Ejercicio%202_3" descr=""/>
          <p:cNvPicPr/>
          <p:nvPr/>
        </p:nvPicPr>
        <p:blipFill>
          <a:blip r:embed="rId1"/>
          <a:srcRect l="0" t="8420" r="19770" b="0"/>
          <a:stretch/>
        </p:blipFill>
        <p:spPr>
          <a:xfrm>
            <a:off x="457200" y="0"/>
            <a:ext cx="8686800" cy="5437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533520"/>
            <a:ext cx="2286000" cy="64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uego se unen sus puntos homólogos y se generan los puntos de la espiral que coinciden con las diagonales de los cuadrad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jercicio%202_4" descr=""/>
          <p:cNvPicPr/>
          <p:nvPr/>
        </p:nvPicPr>
        <p:blipFill>
          <a:blip r:embed="rId1"/>
          <a:srcRect l="1732" t="9474" r="20924" b="0"/>
          <a:stretch/>
        </p:blipFill>
        <p:spPr>
          <a:xfrm>
            <a:off x="457200" y="0"/>
            <a:ext cx="8686800" cy="557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609480"/>
            <a:ext cx="228600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determinan puntos 1,2,3,4,5 pertenecientes a cada uno de los arcos y se homologan tomando como referencia los puntos ABC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homologan rectas A1, C2, B3, D4 y D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036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ueba 2 / ejercicio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15636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Homología de 2ª categorí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Ejercicio%202_5" descr=""/>
          <p:cNvPicPr/>
          <p:nvPr/>
        </p:nvPicPr>
        <p:blipFill>
          <a:blip r:embed="rId1"/>
          <a:srcRect l="5195" t="0" r="17300" b="0"/>
          <a:stretch/>
        </p:blipFill>
        <p:spPr>
          <a:xfrm>
            <a:off x="609480" y="228600"/>
            <a:ext cx="8534520" cy="5060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09480"/>
            <a:ext cx="228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n Sketchpad muevan el punto V para apreciar la deformación de la figura homólog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min</cp:lastModifiedBy>
  <dcterms:modified xsi:type="dcterms:W3CDTF">2008-07-17T07:04:42Z</dcterms:modified>
  <cp:revision>11</cp:revision>
  <dc:subject/>
  <dc:title>Diapositiva 1</dc:title>
</cp:coreProperties>
</file>