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0DB-C563-4EDA-941C-D089E2A6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9BB-EAFB-4E6D-BC66-8688556D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A41-54C9-4454-AE90-28DC377E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3F3-4046-4C25-B4B2-3AE54D1E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22C-5904-45ED-9A43-B4117A1D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ECC-DA7B-48AF-8083-4E4CB5DA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BF2-8E92-4562-9D35-E8075497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368-1D6D-4448-B2DE-EFCCDC6F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A74-E7D7-4CCC-A9E4-2D795236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4F2-314D-4DF4-A79F-EC27275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680-315D-4B26-8EEA-B4E623A3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DF4-A4B3-48D6-92CD-7BE34C2D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953A-696D-4A9E-9619-F1AEA2852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1_1" descr=""/>
          <p:cNvPicPr/>
          <p:nvPr/>
        </p:nvPicPr>
        <p:blipFill>
          <a:blip r:embed="rId1"/>
          <a:srcRect l="0" t="0" r="35355" b="0"/>
          <a:stretch/>
        </p:blipFill>
        <p:spPr>
          <a:xfrm>
            <a:off x="609480" y="228600"/>
            <a:ext cx="8534520" cy="550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762120"/>
            <a:ext cx="1676520" cy="78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da recta homóloga de CA, con punto doble mm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ar rectas lím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Es directa o inver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1_2" descr=""/>
          <p:cNvPicPr/>
          <p:nvPr/>
        </p:nvPicPr>
        <p:blipFill>
          <a:blip r:embed="rId1"/>
          <a:srcRect l="0" t="0" r="16787" b="0"/>
          <a:stretch/>
        </p:blipFill>
        <p:spPr>
          <a:xfrm>
            <a:off x="457200" y="152280"/>
            <a:ext cx="8686800" cy="572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685800"/>
            <a:ext cx="1676520" cy="7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ac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1_3" descr=""/>
          <p:cNvPicPr/>
          <p:nvPr/>
        </p:nvPicPr>
        <p:blipFill>
          <a:blip r:embed="rId1"/>
          <a:srcRect l="0" t="0" r="15555" b="0"/>
          <a:stretch/>
        </p:blipFill>
        <p:spPr>
          <a:xfrm>
            <a:off x="457200" y="0"/>
            <a:ext cx="8686800" cy="5640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609480"/>
            <a:ext cx="167652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1_4" descr=""/>
          <p:cNvPicPr/>
          <p:nvPr/>
        </p:nvPicPr>
        <p:blipFill>
          <a:blip r:embed="rId1"/>
          <a:srcRect l="0" t="0" r="19719" b="0"/>
          <a:stretch/>
        </p:blipFill>
        <p:spPr>
          <a:xfrm>
            <a:off x="457200" y="0"/>
            <a:ext cx="8686800" cy="593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80880"/>
            <a:ext cx="1676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arrollo de la có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4:51:32Z</dcterms:modified>
  <cp:revision>9</cp:revision>
  <dc:subject/>
  <dc:title>Diapositiva 1</dc:title>
</cp:coreProperties>
</file>