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CA887-DCEE-4EF3-A729-384DE0F5D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E5AD8-F151-480D-B135-5B14C3D20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A7B4E-869A-400C-8A69-898ADDB7F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154AD-7B1D-4B9F-8170-600424061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D7835-33C6-47EA-B9C4-7410B8093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9A851-44D3-4B5C-8109-A73685531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DBC65-B974-45AE-B411-ED627E767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BD4E3-CEDF-42F0-80BB-5943C8EA2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0390C-221B-4E6F-B8DC-88B39F10F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6294B-9A15-44EE-9F1D-2D04D0087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329AC-76ED-4ABE-A2A7-17D5634AC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D65B3-5BA4-442E-B315-7922839AC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A4451-5D9D-4839-8D50-1C48BB3321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140360" y="5445000"/>
            <a:ext cx="403380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ueba 2 / ejercicio 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5219640" y="4508640"/>
            <a:ext cx="3924360" cy="72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4683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9280" y="6156360"/>
            <a:ext cx="446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808080"/>
                </a:solidFill>
                <a:latin typeface="Arial"/>
              </a:rPr>
              <a:t>Geometría 1º Año / Diseño / </a:t>
            </a: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FAU 2008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808080"/>
                </a:solidFill>
                <a:latin typeface="Arial"/>
              </a:rPr>
              <a:t>Homología de 2ª categorí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Prof: Marcelo Valenzuela / Benjamín Leyton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6165720"/>
            <a:ext cx="738036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115920"/>
            <a:ext cx="2376360" cy="69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Ejercicio%201_1" descr=""/>
          <p:cNvPicPr/>
          <p:nvPr/>
        </p:nvPicPr>
        <p:blipFill>
          <a:blip r:embed="rId1"/>
          <a:srcRect l="0" t="0" r="35355" b="0"/>
          <a:stretch/>
        </p:blipFill>
        <p:spPr>
          <a:xfrm>
            <a:off x="609480" y="228600"/>
            <a:ext cx="8534520" cy="55054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914400" y="762120"/>
            <a:ext cx="1676520" cy="78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ada recta homóloga de CA, con punto doble mm’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eterminar rectas lími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¿Es directa o inversa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140360" y="5445000"/>
            <a:ext cx="403380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ueba 2 / ejercicio 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5219640" y="4508640"/>
            <a:ext cx="3924360" cy="72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4683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79280" y="6156360"/>
            <a:ext cx="446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808080"/>
                </a:solidFill>
                <a:latin typeface="Arial"/>
              </a:rPr>
              <a:t>Geometría 1º Año / Diseño / </a:t>
            </a: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FAU 2008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808080"/>
                </a:solidFill>
                <a:latin typeface="Arial"/>
              </a:rPr>
              <a:t>Homología de 2ª categorí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Prof: Marcelo Valenzuela / Benjamín Leyton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6165720"/>
            <a:ext cx="738036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Ejercicio%201_2" descr=""/>
          <p:cNvPicPr/>
          <p:nvPr/>
        </p:nvPicPr>
        <p:blipFill>
          <a:blip r:embed="rId1"/>
          <a:srcRect l="0" t="0" r="16787" b="0"/>
          <a:stretch/>
        </p:blipFill>
        <p:spPr>
          <a:xfrm>
            <a:off x="457200" y="152280"/>
            <a:ext cx="8686800" cy="57247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609480" y="685800"/>
            <a:ext cx="1676520" cy="70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terminación de puntos homólogo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140360" y="5445000"/>
            <a:ext cx="403380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ueba 2 / ejercicio 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5219640" y="4508640"/>
            <a:ext cx="3924360" cy="72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0"/>
            <a:ext cx="4683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79280" y="6156360"/>
            <a:ext cx="446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808080"/>
                </a:solidFill>
                <a:latin typeface="Arial"/>
              </a:rPr>
              <a:t>Geometría 1º Año / Diseño / </a:t>
            </a: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FAU 2008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808080"/>
                </a:solidFill>
                <a:latin typeface="Arial"/>
              </a:rPr>
              <a:t>Homología de 2ª categorí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Prof: Marcelo Valenzuela / Benjamín Leyton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6165720"/>
            <a:ext cx="738036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Ejercicio%201_3" descr=""/>
          <p:cNvPicPr/>
          <p:nvPr/>
        </p:nvPicPr>
        <p:blipFill>
          <a:blip r:embed="rId1"/>
          <a:srcRect l="0" t="0" r="15555" b="0"/>
          <a:stretch/>
        </p:blipFill>
        <p:spPr>
          <a:xfrm>
            <a:off x="457200" y="0"/>
            <a:ext cx="8686800" cy="56404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685800" y="609480"/>
            <a:ext cx="1676520" cy="58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ón de puntos homólogo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140360" y="5445000"/>
            <a:ext cx="403380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ueba 2 / ejercicio 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219640" y="4508640"/>
            <a:ext cx="3924360" cy="72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0" y="0"/>
            <a:ext cx="4683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79280" y="6156360"/>
            <a:ext cx="446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808080"/>
                </a:solidFill>
                <a:latin typeface="Arial"/>
              </a:rPr>
              <a:t>Geometría 1º Año / Diseño / </a:t>
            </a: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FAU 2008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808080"/>
                </a:solidFill>
                <a:latin typeface="Arial"/>
              </a:rPr>
              <a:t>Homología de 2ª categorí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Prof: Marcelo Valenzuela / Benjamín Leyton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6165720"/>
            <a:ext cx="738036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Ejercicio%201_4" descr=""/>
          <p:cNvPicPr/>
          <p:nvPr/>
        </p:nvPicPr>
        <p:blipFill>
          <a:blip r:embed="rId1"/>
          <a:srcRect l="0" t="0" r="19719" b="0"/>
          <a:stretch/>
        </p:blipFill>
        <p:spPr>
          <a:xfrm>
            <a:off x="457200" y="0"/>
            <a:ext cx="8686800" cy="593424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685800" y="380880"/>
            <a:ext cx="167652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sarrollo de la cónic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7T21:16:06Z</dcterms:created>
  <dc:creator>benja</dc:creator>
  <dc:description/>
  <dc:language>en-US</dc:language>
  <cp:lastModifiedBy>benjamin</cp:lastModifiedBy>
  <dcterms:modified xsi:type="dcterms:W3CDTF">2008-07-17T04:51:32Z</dcterms:modified>
  <cp:revision>9</cp:revision>
  <dc:subject/>
  <dc:title>Diapositiva 1</dc:title>
</cp:coreProperties>
</file>